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9.jpeg" ContentType="image/jpeg"/>
  <Override PartName="/ppt/media/image13.wmf" ContentType="image/x-wmf"/>
  <Override PartName="/ppt/media/image30.png" ContentType="image/png"/>
  <Override PartName="/ppt/media/image10.wmf" ContentType="image/x-wmf"/>
  <Override PartName="/ppt/media/image2.png" ContentType="image/png"/>
  <Override PartName="/ppt/media/image28.png" ContentType="image/png"/>
  <Override PartName="/ppt/media/image7.jpeg" ContentType="image/jpeg"/>
  <Override PartName="/ppt/media/image20.png" ContentType="image/png"/>
  <Override PartName="/ppt/media/image4.jpeg" ContentType="image/jpeg"/>
  <Override PartName="/ppt/media/image8.wmf" ContentType="image/x-wmf"/>
  <Override PartName="/ppt/media/image26.png" ContentType="image/png"/>
  <Override PartName="/ppt/media/image3.png" ContentType="image/png"/>
  <Override PartName="/ppt/media/image31.png" ContentType="image/png"/>
  <Override PartName="/ppt/media/image14.wmf" ContentType="image/x-wmf"/>
  <Override PartName="/ppt/media/image12.wmf" ContentType="image/x-wmf"/>
  <Override PartName="/ppt/media/image27.png" ContentType="image/png"/>
  <Override PartName="/ppt/media/image6.jpeg" ContentType="image/jpeg"/>
  <Override PartName="/ppt/media/image9.wmf" ContentType="image/x-wmf"/>
  <Override PartName="/ppt/media/image11.wmf" ContentType="image/x-wmf"/>
  <Override PartName="/ppt/media/image5.jpeg" ContentType="image/jpeg"/>
  <Override PartName="/ppt/media/image1.jpeg" ContentType="image/jpeg"/>
  <Override PartName="/ppt/media/image15.wmf" ContentType="image/x-wmf"/>
  <Override PartName="/ppt/media/image22.jpeg" ContentType="image/jpeg"/>
  <Override PartName="/ppt/media/image16.wmf" ContentType="image/x-wmf"/>
  <Override PartName="/ppt/media/image17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1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5C3CE-D39F-4937-AB20-DBABFE23DB10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i estos aminoácidos esenciales no están presentes al mismo tiempo y en proporciones específicas, los otros aminoácidos, todos o en parte, no pueden utilizarse para construir las proteínas humanas.  Cuando hay una carencia de alguno de ellos, los demás aminoácidos se convierten en compuestos productores de energía, y se excreta su nitróge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i estos aminoácidos esenciales no están presentes al mismo tiempo y en proporciones específicas, los otros aminoácidos, todos o en parte, no pueden utilizarse para construir las proteínas humanas.  Cuando hay una carencia de alguno de ellos, los demás aminoácidos se convierten en compuestos productores de energía, y se excreta su nitróge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i estos aminoácidos esenciales no están presentes al mismo tiempo y en proporciones específicas, los otros aminoácidos, todos o en parte, no pueden utilizarse para construir las proteínas humanas.  Cuando hay una carencia de alguno de ellos, los demás aminoácidos se convierten en compuestos productores de energía, y se excreta su nitróge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7D0F-A3E5-49DB-8C15-70D5C1EB7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A8B8-0E23-4AE0-9421-5FD6FD21B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0380-CF48-4EBD-95FC-5B2BD9C0F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6EFF-FC92-480D-8309-522989E94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5899-6FC8-40E5-94A0-E4FD71BBB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9637-01CE-4D8A-BFBF-31991D7D1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1435-59E6-4FCB-AEA3-A541F3602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4EEB-061C-4313-914D-D2033CA8C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9A10-17EB-4067-84A6-5EFD84CB3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8347-6BEB-4326-905E-2E34BC8F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DAF9-CF3B-4931-9CB8-8B8FE4AC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D023-3FDC-4B6E-B448-EDB83365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25DEB-E499-4F18-B155-2E0A856CB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7.png"/><Relationship Id="rId10" Type="http://schemas.openxmlformats.org/officeDocument/2006/relationships/image" Target="../media/image27.png"/><Relationship Id="rId11" Type="http://schemas.openxmlformats.org/officeDocument/2006/relationships/image" Target="../media/image27.png"/><Relationship Id="rId1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jpeg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2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35120" y="1432080"/>
            <a:ext cx="76532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OLILLA 8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Metabolismo de Aminoácidos. Digestión y absorción. Catabolismo. Transaminación. Desaminación oxidativa y no oxidativa.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Descarboxilación. Transporte de amoníaco: síntesis de glutamina. Glutaminasa. Organismos ureotélicos, uricotélicos y amoniotélicos. Ciclo de la urea. Costo energético. Destino del esqueleto carbonado. Aminoácidos cetogénicos y glucogénicos. Compuestos nitrogenados de importancia biológica derivados de aminoáci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279360"/>
            <a:ext cx="86421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QUIMICA BIOLOGICA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ic. y Prof. en Ciencias Biológ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234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235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0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41" name=""/>
          <p:cNvGraphicFramePr/>
          <p:nvPr/>
        </p:nvGraphicFramePr>
        <p:xfrm>
          <a:off x="4956120" y="1125360"/>
          <a:ext cx="1719360" cy="266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56120" y="1125360"/>
                    <a:ext cx="1719360" cy="26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6972480" y="981000"/>
          <a:ext cx="1684080" cy="3167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972480" y="981000"/>
                    <a:ext cx="1684080" cy="31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5140440" y="412416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Times New Roman"/>
              </a:rPr>
              <a:t>Fenilalan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477200" y="41497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Times New Roman"/>
              </a:rPr>
              <a:t>Tiros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460840" y="2060640"/>
            <a:ext cx="1224000" cy="180000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477200" y="1844640"/>
            <a:ext cx="1152360" cy="237636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569880" y="1359000"/>
          <a:ext cx="2057400" cy="1498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69880" y="1359000"/>
                    <a:ext cx="205740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1188000" y="2857680"/>
            <a:ext cx="96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Times New Roman"/>
              </a:rPr>
              <a:t>Ser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Times New Roman"/>
              </a:rPr>
              <a:t>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2700360" y="1197000"/>
          <a:ext cx="1976400" cy="1940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700360" y="1197000"/>
                    <a:ext cx="1976400" cy="19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3249720" y="2997360"/>
            <a:ext cx="128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99cc"/>
                </a:solidFill>
                <a:latin typeface="Times New Roman"/>
              </a:rPr>
              <a:t>Treon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99cc"/>
                </a:solidFill>
                <a:latin typeface="Times New Roman"/>
              </a:rPr>
              <a:t>T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403280" y="2281320"/>
            <a:ext cx="1368360" cy="57456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94200" y="2136600"/>
            <a:ext cx="1726920" cy="93528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468360" y="3716280"/>
            <a:ext cx="4464000" cy="942840"/>
            <a:chOff x="468360" y="3716280"/>
            <a:chExt cx="4464000" cy="942840"/>
          </a:xfrm>
        </p:grpSpPr>
        <p:sp>
          <p:nvSpPr>
            <p:cNvPr id="258" name=""/>
            <p:cNvSpPr/>
            <p:nvPr/>
          </p:nvSpPr>
          <p:spPr>
            <a:xfrm>
              <a:off x="1811880" y="4290840"/>
              <a:ext cx="206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</a:rPr>
                <a:t>AAs hidroxila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16200000">
              <a:off x="2521080" y="1663560"/>
              <a:ext cx="358560" cy="4464000"/>
            </a:xfrm>
            <a:custGeom>
              <a:avLst/>
              <a:gdLst>
                <a:gd name="textAreaLeft" fmla="*/ 228960 w 358560"/>
                <a:gd name="textAreaRight" fmla="*/ 358560 w 358560"/>
                <a:gd name="textAreaTop" fmla="*/ 116280 h 4464000"/>
                <a:gd name="textAreaBottom" fmla="*/ 4347720 h 446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5076720" y="4365720"/>
            <a:ext cx="3672000" cy="686160"/>
            <a:chOff x="5076720" y="4365720"/>
            <a:chExt cx="3672000" cy="686160"/>
          </a:xfrm>
        </p:grpSpPr>
        <p:sp>
          <p:nvSpPr>
            <p:cNvPr id="261" name=""/>
            <p:cNvSpPr/>
            <p:nvPr/>
          </p:nvSpPr>
          <p:spPr>
            <a:xfrm>
              <a:off x="5387040" y="4653000"/>
              <a:ext cx="320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Aminoácidos aromátic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16200000">
              <a:off x="6733440" y="2709000"/>
              <a:ext cx="358560" cy="3672000"/>
            </a:xfrm>
            <a:custGeom>
              <a:avLst/>
              <a:gdLst>
                <a:gd name="textAreaLeft" fmla="*/ 228960 w 358560"/>
                <a:gd name="textAreaRight" fmla="*/ 358560 w 358560"/>
                <a:gd name="textAreaTop" fmla="*/ 95760 h 3672000"/>
                <a:gd name="textAreaBottom" fmla="*/ 3576240 h 367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375200" y="2708280"/>
            <a:ext cx="64263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Recordemos como funciona el Ciclo del N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en la naturaleza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rcRect l="7788" t="0" r="62328" b="6482"/>
          <a:stretch/>
        </p:blipFill>
        <p:spPr>
          <a:xfrm>
            <a:off x="1620720" y="900000"/>
            <a:ext cx="1654200" cy="439272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2701800" y="1258920"/>
            <a:ext cx="1173240" cy="1090080"/>
            <a:chOff x="2701800" y="1258920"/>
            <a:chExt cx="1173240" cy="1090080"/>
          </a:xfrm>
        </p:grpSpPr>
        <p:sp>
          <p:nvSpPr>
            <p:cNvPr id="266" name=""/>
            <p:cNvSpPr/>
            <p:nvPr/>
          </p:nvSpPr>
          <p:spPr>
            <a:xfrm>
              <a:off x="3427560" y="125892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398760" y="190836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2701800" y="1403640"/>
              <a:ext cx="719280" cy="863640"/>
            </a:xfrm>
            <a:custGeom>
              <a:avLst/>
              <a:gdLst>
                <a:gd name="textAreaLeft" fmla="*/ 96120 w 719280"/>
                <a:gd name="textAreaRight" fmla="*/ 623160 w 719280"/>
                <a:gd name="textAreaTop" fmla="*/ 151200 h 863640"/>
                <a:gd name="textAreaBottom" fmla="*/ 62640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"/>
          <p:cNvSpPr/>
          <p:nvPr/>
        </p:nvSpPr>
        <p:spPr>
          <a:xfrm flipV="1">
            <a:off x="0" y="4284720"/>
            <a:ext cx="1620720" cy="7920"/>
          </a:xfrm>
          <a:prstGeom prst="line">
            <a:avLst/>
          </a:prstGeom>
          <a:ln w="507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276720" y="4284720"/>
            <a:ext cx="2449440" cy="0"/>
          </a:xfrm>
          <a:prstGeom prst="line">
            <a:avLst/>
          </a:prstGeom>
          <a:ln w="507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565440" y="2340000"/>
            <a:ext cx="0" cy="2160720"/>
          </a:xfrm>
          <a:prstGeom prst="line">
            <a:avLst/>
          </a:prstGeom>
          <a:ln w="442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2989080" y="4462560"/>
            <a:ext cx="813960" cy="440640"/>
            <a:chOff x="2989080" y="4462560"/>
            <a:chExt cx="813960" cy="440640"/>
          </a:xfrm>
        </p:grpSpPr>
        <p:sp>
          <p:nvSpPr>
            <p:cNvPr id="273" name=""/>
            <p:cNvSpPr/>
            <p:nvPr/>
          </p:nvSpPr>
          <p:spPr>
            <a:xfrm>
              <a:off x="3355560" y="446256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2989080" y="4643280"/>
              <a:ext cx="43164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4720" y="4858920"/>
            <a:ext cx="1197720" cy="744120"/>
            <a:chOff x="2844720" y="4858920"/>
            <a:chExt cx="1197720" cy="744120"/>
          </a:xfrm>
        </p:grpSpPr>
        <p:sp>
          <p:nvSpPr>
            <p:cNvPr id="276" name=""/>
            <p:cNvSpPr/>
            <p:nvPr/>
          </p:nvSpPr>
          <p:spPr>
            <a:xfrm>
              <a:off x="3434760" y="5232240"/>
              <a:ext cx="607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flipV="1">
              <a:off x="2844720" y="4858920"/>
              <a:ext cx="649440" cy="433080"/>
            </a:xfrm>
            <a:prstGeom prst="line">
              <a:avLst/>
            </a:prstGeom>
            <a:ln w="3168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2566800" y="4932360"/>
            <a:ext cx="586080" cy="1034280"/>
            <a:chOff x="2566800" y="4932360"/>
            <a:chExt cx="586080" cy="1034280"/>
          </a:xfrm>
        </p:grpSpPr>
        <p:sp>
          <p:nvSpPr>
            <p:cNvPr id="279" name=""/>
            <p:cNvSpPr/>
            <p:nvPr/>
          </p:nvSpPr>
          <p:spPr>
            <a:xfrm>
              <a:off x="2566800" y="5629320"/>
              <a:ext cx="58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 flipV="1">
              <a:off x="2628720" y="4932360"/>
              <a:ext cx="144720" cy="719280"/>
            </a:xfrm>
            <a:prstGeom prst="line">
              <a:avLst/>
            </a:prstGeom>
            <a:ln w="3168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1486800" y="4859280"/>
            <a:ext cx="694440" cy="1161360"/>
            <a:chOff x="1486800" y="4859280"/>
            <a:chExt cx="694440" cy="1161360"/>
          </a:xfrm>
        </p:grpSpPr>
        <p:sp>
          <p:nvSpPr>
            <p:cNvPr id="282" name=""/>
            <p:cNvSpPr/>
            <p:nvPr/>
          </p:nvSpPr>
          <p:spPr>
            <a:xfrm>
              <a:off x="1486800" y="5580000"/>
              <a:ext cx="69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1836720" y="4859280"/>
              <a:ext cx="289080" cy="72072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2557440" y="4211640"/>
            <a:ext cx="1584360" cy="647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 rot="20641200">
            <a:off x="1920960" y="5803560"/>
            <a:ext cx="1944720" cy="720720"/>
          </a:xfrm>
          <a:custGeom>
            <a:avLst/>
            <a:gdLst>
              <a:gd name="textAreaLeft" fmla="*/ 403920 w 1944720"/>
              <a:gd name="textAreaRight" fmla="*/ 1384200 w 1944720"/>
              <a:gd name="textAreaTop" fmla="*/ 96480 h 720720"/>
              <a:gd name="textAreaBottom" fmla="*/ 62424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966" hR="21600" stAng="10800000" swAng="-5400000"/>
                <a:lnTo>
                  <a:pt x="10888" y="21600"/>
                </a:lnTo>
                <a:arcTo wR="8966" hR="21600" stAng="5400000" swAng="-3305694"/>
                <a:lnTo>
                  <a:pt x="21246" y="6009"/>
                </a:lnTo>
                <a:lnTo>
                  <a:pt x="18893" y="0"/>
                </a:lnTo>
                <a:lnTo>
                  <a:pt x="15832" y="6009"/>
                </a:lnTo>
                <a:lnTo>
                  <a:pt x="17578" y="6009"/>
                </a:lnTo>
                <a:arcTo wR="8966" hR="21600" stAng="2094306" swAng="3151962"/>
                <a:lnTo>
                  <a:pt x="9927" y="21476"/>
                </a:lnTo>
                <a:arcTo wR="8966" hR="21600" stAng="5553732" swAng="5246268"/>
                <a:close/>
              </a:path>
              <a:path fill="darkenLess" w="21600" h="21600">
                <a:moveTo>
                  <a:pt x="0" y="0"/>
                </a:moveTo>
                <a:arcTo wR="8966" hR="21600" stAng="10800000" swAng="-5400000"/>
                <a:lnTo>
                  <a:pt x="10888" y="21600"/>
                </a:lnTo>
                <a:arcTo wR="8966" hR="21600" stAng="5400000" swAng="153732"/>
                <a:lnTo>
                  <a:pt x="9927" y="21476"/>
                </a:lnTo>
                <a:arcTo wR="8966" hR="21600" stAng="5553732" swAng="5246268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57200" y="18900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800" spc="-1" strike="noStrike">
                <a:solidFill>
                  <a:srgbClr val="33cc33"/>
                </a:solidFill>
                <a:latin typeface="Arial"/>
              </a:rPr>
              <a:t>Absorción del nitrógeno por las plan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4643280" y="3567240"/>
            <a:ext cx="4307760" cy="3047760"/>
            <a:chOff x="4643280" y="3567240"/>
            <a:chExt cx="4307760" cy="3047760"/>
          </a:xfrm>
        </p:grpSpPr>
        <p:pic>
          <p:nvPicPr>
            <p:cNvPr id="288" name="" descr=""/>
            <p:cNvPicPr/>
            <p:nvPr/>
          </p:nvPicPr>
          <p:blipFill>
            <a:blip r:embed="rId2"/>
            <a:srcRect l="8561" t="6104" r="10049" b="8251"/>
            <a:stretch/>
          </p:blipFill>
          <p:spPr>
            <a:xfrm>
              <a:off x="4643280" y="3573360"/>
              <a:ext cx="4176720" cy="30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6667200" y="529416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N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818120" y="537372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N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962480" y="436572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N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532280" y="356724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N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895360" y="4821120"/>
              <a:ext cx="607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ff"/>
                  </a:solidFill>
                  <a:latin typeface="Arial"/>
                </a:rPr>
                <a:t>NH</a:t>
              </a:r>
              <a:r>
                <a:rPr b="1" lang="en-US" sz="1600" spc="-1" strike="noStrike" baseline="-25000">
                  <a:solidFill>
                    <a:srgbClr val="0066ff"/>
                  </a:solidFill>
                  <a:latin typeface="Arial"/>
                </a:rPr>
                <a:t>4</a:t>
              </a:r>
              <a:r>
                <a:rPr b="1" lang="en-US" sz="1600" spc="-1" strike="noStrike" baseline="30000">
                  <a:solidFill>
                    <a:srgbClr val="0066ff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97280" y="5950080"/>
              <a:ext cx="69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ff33"/>
                  </a:solidFill>
                  <a:latin typeface="Arial"/>
                </a:rPr>
                <a:t>NO</a:t>
              </a:r>
              <a:r>
                <a:rPr b="1" lang="en-US" sz="2000" spc="-1" strike="noStrike" baseline="-25000">
                  <a:solidFill>
                    <a:srgbClr val="66ff33"/>
                  </a:solidFill>
                  <a:latin typeface="Arial"/>
                </a:rPr>
                <a:t>3</a:t>
              </a:r>
              <a:r>
                <a:rPr b="1" lang="en-US" sz="2000" spc="-1" strike="noStrike" baseline="30000">
                  <a:solidFill>
                    <a:srgbClr val="66ff33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173360" y="4292640"/>
              <a:ext cx="69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ff33"/>
                  </a:solidFill>
                  <a:latin typeface="Arial"/>
                </a:rPr>
                <a:t>NO</a:t>
              </a:r>
              <a:r>
                <a:rPr b="1" lang="en-US" sz="2000" spc="-1" strike="noStrike" baseline="-25000">
                  <a:solidFill>
                    <a:srgbClr val="66ff33"/>
                  </a:solidFill>
                  <a:latin typeface="Arial"/>
                </a:rPr>
                <a:t>3</a:t>
              </a:r>
              <a:r>
                <a:rPr b="1" lang="en-US" sz="2000" spc="-1" strike="noStrike" baseline="30000">
                  <a:solidFill>
                    <a:srgbClr val="66ff33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014160" y="364500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9900"/>
                  </a:solidFill>
                  <a:latin typeface="Arial"/>
                </a:rPr>
                <a:t>A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343360" y="5037120"/>
              <a:ext cx="607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ff"/>
                  </a:solidFill>
                  <a:latin typeface="Arial"/>
                </a:rPr>
                <a:t>NH</a:t>
              </a:r>
              <a:r>
                <a:rPr b="1" lang="en-US" sz="1600" spc="-1" strike="noStrike" baseline="-25000">
                  <a:solidFill>
                    <a:srgbClr val="0066ff"/>
                  </a:solidFill>
                  <a:latin typeface="Arial"/>
                </a:rPr>
                <a:t>4</a:t>
              </a:r>
              <a:r>
                <a:rPr b="1" lang="en-US" sz="1600" spc="-1" strike="noStrike" baseline="30000">
                  <a:solidFill>
                    <a:srgbClr val="0066ff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036640" y="385452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9900"/>
                  </a:solidFill>
                  <a:latin typeface="Arial"/>
                </a:rPr>
                <a:t>A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395280" y="3500280"/>
            <a:ext cx="3313080" cy="243396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4067280" y="3429000"/>
            <a:ext cx="4608360" cy="306216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95280" y="981000"/>
            <a:ext cx="5054760" cy="22734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1976760" y="260280"/>
            <a:ext cx="54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Fijación del Nitrógeno en las pla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623920" y="981000"/>
            <a:ext cx="659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506720" y="981000"/>
            <a:ext cx="1145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259680" y="1197000"/>
            <a:ext cx="1152360" cy="287280"/>
          </a:xfrm>
          <a:custGeom>
            <a:avLst/>
            <a:gdLst>
              <a:gd name="textAreaLeft" fmla="*/ 180000 w 1152360"/>
              <a:gd name="textAreaRight" fmla="*/ 1008360 w 1152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500720" y="765000"/>
            <a:ext cx="0" cy="136872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 flipV="1">
            <a:off x="5076720" y="1557360"/>
            <a:ext cx="719280" cy="5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796000" y="1916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ódulo radic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bacteria, u otro microorganismo en asociación simbiótica con raí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"/>
          <p:cNvGrpSpPr/>
          <p:nvPr/>
        </p:nvGrpSpPr>
        <p:grpSpPr>
          <a:xfrm>
            <a:off x="611280" y="1413000"/>
            <a:ext cx="8208360" cy="5184360"/>
            <a:chOff x="611280" y="1413000"/>
            <a:chExt cx="8208360" cy="5184360"/>
          </a:xfrm>
        </p:grpSpPr>
        <p:pic>
          <p:nvPicPr>
            <p:cNvPr id="310" name="" descr=""/>
            <p:cNvPicPr/>
            <p:nvPr/>
          </p:nvPicPr>
          <p:blipFill>
            <a:blip r:embed="rId1"/>
            <a:stretch/>
          </p:blipFill>
          <p:spPr>
            <a:xfrm>
              <a:off x="611280" y="1413000"/>
              <a:ext cx="8208360" cy="51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7208640" y="4569840"/>
              <a:ext cx="375480" cy="24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NH</a:t>
              </a:r>
              <a:r>
                <a:rPr b="1" lang="en-US" sz="1400" spc="-1" strike="noStrike" baseline="-25000">
                  <a:solidFill>
                    <a:srgbClr val="0033cc"/>
                  </a:solidFill>
                  <a:latin typeface="Arial"/>
                </a:rPr>
                <a:t>4</a:t>
              </a:r>
              <a:r>
                <a:rPr b="1" lang="en-US" sz="1400" spc="-1" strike="noStrike" baseline="30000">
                  <a:solidFill>
                    <a:srgbClr val="0033cc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1976760" y="260280"/>
            <a:ext cx="54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Fijación del Nitrógeno en las pla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017120" y="4270320"/>
            <a:ext cx="102960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Nitrogen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288960" y="779400"/>
            <a:ext cx="659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131800" y="765000"/>
            <a:ext cx="1145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997440" y="981000"/>
            <a:ext cx="1152360" cy="287280"/>
          </a:xfrm>
          <a:custGeom>
            <a:avLst/>
            <a:gdLst>
              <a:gd name="textAreaLeft" fmla="*/ 180000 w 1152360"/>
              <a:gd name="textAreaRight" fmla="*/ 1008360 w 1152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638160" y="3573360"/>
            <a:ext cx="81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DP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4" dur="2000" fill="hold"/>
                                        <p:tgtEl>
                                          <p:spTgt spid="3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10520" y="568440"/>
            <a:ext cx="33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xidación de CH (Ej. Glu y Fr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27080" y="549360"/>
            <a:ext cx="3456000" cy="934920"/>
          </a:xfrm>
          <a:prstGeom prst="downArrowCallout">
            <a:avLst>
              <a:gd name="adj1" fmla="val 49429"/>
              <a:gd name="adj2" fmla="val 42202"/>
              <a:gd name="adj3" fmla="val 18236"/>
              <a:gd name="adj4" fmla="val 50000"/>
            </a:avLst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450440" y="1576440"/>
            <a:ext cx="97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D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84520" y="2638440"/>
            <a:ext cx="358560" cy="934920"/>
          </a:xfrm>
          <a:prstGeom prst="downArrow">
            <a:avLst>
              <a:gd name="adj1" fmla="val 50000"/>
              <a:gd name="adj2" fmla="val 651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72680" y="3567240"/>
            <a:ext cx="233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erredoxina reduc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342160" y="3789360"/>
            <a:ext cx="862560" cy="1441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37850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378503"/>
              </a:path>
            </a:pathLst>
          </a:custGeom>
          <a:noFill/>
          <a:ln w="442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69520" y="5006880"/>
            <a:ext cx="22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erredoxina oxid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800" y="3789360"/>
            <a:ext cx="862560" cy="1441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37850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378503"/>
              </a:path>
            </a:pathLst>
          </a:custGeom>
          <a:noFill/>
          <a:ln w="4428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3205080" y="3792600"/>
            <a:ext cx="720000" cy="1441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37850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378503"/>
              </a:path>
            </a:pathLst>
          </a:custGeom>
          <a:noFill/>
          <a:ln w="442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23960" y="3573360"/>
            <a:ext cx="13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e-Prote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xid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423960" y="4869000"/>
            <a:ext cx="13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e-Prote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duc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5076720" y="3789360"/>
            <a:ext cx="720000" cy="1441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37850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378503"/>
              </a:path>
            </a:pathLst>
          </a:custGeom>
          <a:noFill/>
          <a:ln w="4428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324040" y="3500280"/>
            <a:ext cx="17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e-Mo-Prote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duc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324040" y="4948200"/>
            <a:ext cx="17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e-Mo-Prote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xid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5076720" y="3427200"/>
            <a:ext cx="0" cy="208908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717800" y="551664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338720" y="3068640"/>
            <a:ext cx="136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ADP + 2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589800" y="3716280"/>
            <a:ext cx="863280" cy="1441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37850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378503"/>
              </a:path>
            </a:pathLst>
          </a:custGeom>
          <a:noFill/>
          <a:ln w="442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7453440" y="3719520"/>
            <a:ext cx="720000" cy="1441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37850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378503"/>
              </a:path>
            </a:pathLst>
          </a:custGeom>
          <a:noFill/>
          <a:ln w="442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795080" y="3500280"/>
            <a:ext cx="1111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10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537680" y="4933800"/>
            <a:ext cx="1478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H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rot="5400000">
            <a:off x="5580720" y="45000"/>
            <a:ext cx="431640" cy="5904000"/>
          </a:xfrm>
          <a:custGeom>
            <a:avLst/>
            <a:gdLst>
              <a:gd name="textAreaLeft" fmla="*/ 275760 w 431640"/>
              <a:gd name="textAreaRight" fmla="*/ 432000 w 431640"/>
              <a:gd name="textAreaTop" fmla="*/ 153720 h 5904000"/>
              <a:gd name="textAreaBottom" fmla="*/ 5750280 h 590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213080" y="2414520"/>
            <a:ext cx="32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OMPLEJO NITROGE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101080" y="5300640"/>
            <a:ext cx="0" cy="64944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021440" y="6021360"/>
            <a:ext cx="189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AMINOACI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PROTE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051360" y="1459080"/>
            <a:ext cx="54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Fijación del Nitrógeno en las pla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046520" y="2133720"/>
            <a:ext cx="18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lavodoxina 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860920" y="42210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722840" y="42210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108920" y="42210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rcRect l="7788" t="0" r="62328" b="6482"/>
          <a:stretch/>
        </p:blipFill>
        <p:spPr>
          <a:xfrm>
            <a:off x="1620720" y="900000"/>
            <a:ext cx="1654200" cy="4392720"/>
          </a:xfrm>
          <a:prstGeom prst="rect">
            <a:avLst/>
          </a:prstGeom>
          <a:ln w="0">
            <a:noFill/>
          </a:ln>
        </p:spPr>
      </p:pic>
      <p:grpSp>
        <p:nvGrpSpPr>
          <p:cNvPr id="349" name=""/>
          <p:cNvGrpSpPr/>
          <p:nvPr/>
        </p:nvGrpSpPr>
        <p:grpSpPr>
          <a:xfrm>
            <a:off x="2701800" y="1258920"/>
            <a:ext cx="1173240" cy="1090080"/>
            <a:chOff x="2701800" y="1258920"/>
            <a:chExt cx="1173240" cy="1090080"/>
          </a:xfrm>
        </p:grpSpPr>
        <p:sp>
          <p:nvSpPr>
            <p:cNvPr id="350" name=""/>
            <p:cNvSpPr/>
            <p:nvPr/>
          </p:nvSpPr>
          <p:spPr>
            <a:xfrm>
              <a:off x="3427560" y="125892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398760" y="190836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2701800" y="1403640"/>
              <a:ext cx="719280" cy="863640"/>
            </a:xfrm>
            <a:custGeom>
              <a:avLst/>
              <a:gdLst>
                <a:gd name="textAreaLeft" fmla="*/ 96120 w 719280"/>
                <a:gd name="textAreaRight" fmla="*/ 623160 w 719280"/>
                <a:gd name="textAreaTop" fmla="*/ 151200 h 863640"/>
                <a:gd name="textAreaBottom" fmla="*/ 62640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"/>
          <p:cNvSpPr/>
          <p:nvPr/>
        </p:nvSpPr>
        <p:spPr>
          <a:xfrm flipV="1">
            <a:off x="0" y="4284720"/>
            <a:ext cx="1620720" cy="7920"/>
          </a:xfrm>
          <a:prstGeom prst="line">
            <a:avLst/>
          </a:prstGeom>
          <a:ln w="507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276720" y="4284720"/>
            <a:ext cx="2449440" cy="0"/>
          </a:xfrm>
          <a:prstGeom prst="line">
            <a:avLst/>
          </a:prstGeom>
          <a:ln w="507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565440" y="2340000"/>
            <a:ext cx="0" cy="2160720"/>
          </a:xfrm>
          <a:prstGeom prst="line">
            <a:avLst/>
          </a:prstGeom>
          <a:ln w="442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2989080" y="4462560"/>
            <a:ext cx="813960" cy="440640"/>
            <a:chOff x="2989080" y="4462560"/>
            <a:chExt cx="813960" cy="440640"/>
          </a:xfrm>
        </p:grpSpPr>
        <p:sp>
          <p:nvSpPr>
            <p:cNvPr id="357" name=""/>
            <p:cNvSpPr/>
            <p:nvPr/>
          </p:nvSpPr>
          <p:spPr>
            <a:xfrm>
              <a:off x="3355560" y="446256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2989080" y="4643280"/>
              <a:ext cx="43164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2844720" y="4858920"/>
            <a:ext cx="1197720" cy="744120"/>
            <a:chOff x="2844720" y="4858920"/>
            <a:chExt cx="1197720" cy="744120"/>
          </a:xfrm>
        </p:grpSpPr>
        <p:sp>
          <p:nvSpPr>
            <p:cNvPr id="360" name=""/>
            <p:cNvSpPr/>
            <p:nvPr/>
          </p:nvSpPr>
          <p:spPr>
            <a:xfrm>
              <a:off x="3434760" y="5232240"/>
              <a:ext cx="607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 flipV="1">
              <a:off x="2844720" y="4858920"/>
              <a:ext cx="649440" cy="433080"/>
            </a:xfrm>
            <a:prstGeom prst="line">
              <a:avLst/>
            </a:prstGeom>
            <a:ln w="3168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2566800" y="4932360"/>
            <a:ext cx="586080" cy="1034280"/>
            <a:chOff x="2566800" y="4932360"/>
            <a:chExt cx="586080" cy="1034280"/>
          </a:xfrm>
        </p:grpSpPr>
        <p:sp>
          <p:nvSpPr>
            <p:cNvPr id="363" name=""/>
            <p:cNvSpPr/>
            <p:nvPr/>
          </p:nvSpPr>
          <p:spPr>
            <a:xfrm>
              <a:off x="2566800" y="5629320"/>
              <a:ext cx="58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 flipV="1">
              <a:off x="2628720" y="4932360"/>
              <a:ext cx="144720" cy="719280"/>
            </a:xfrm>
            <a:prstGeom prst="line">
              <a:avLst/>
            </a:prstGeom>
            <a:ln w="3168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1486800" y="4859280"/>
            <a:ext cx="694440" cy="1161360"/>
            <a:chOff x="1486800" y="4859280"/>
            <a:chExt cx="694440" cy="1161360"/>
          </a:xfrm>
        </p:grpSpPr>
        <p:sp>
          <p:nvSpPr>
            <p:cNvPr id="366" name=""/>
            <p:cNvSpPr/>
            <p:nvPr/>
          </p:nvSpPr>
          <p:spPr>
            <a:xfrm>
              <a:off x="1486800" y="5580000"/>
              <a:ext cx="69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1836720" y="4859280"/>
              <a:ext cx="289080" cy="72072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2557440" y="4211640"/>
            <a:ext cx="1584360" cy="647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 rot="20641200">
            <a:off x="1920960" y="5803560"/>
            <a:ext cx="1944720" cy="720720"/>
          </a:xfrm>
          <a:custGeom>
            <a:avLst/>
            <a:gdLst>
              <a:gd name="textAreaLeft" fmla="*/ 403920 w 1944720"/>
              <a:gd name="textAreaRight" fmla="*/ 1384200 w 1944720"/>
              <a:gd name="textAreaTop" fmla="*/ 96480 h 720720"/>
              <a:gd name="textAreaBottom" fmla="*/ 62424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966" hR="21600" stAng="10800000" swAng="-5400000"/>
                <a:lnTo>
                  <a:pt x="10888" y="21600"/>
                </a:lnTo>
                <a:arcTo wR="8966" hR="21600" stAng="5400000" swAng="-3305694"/>
                <a:lnTo>
                  <a:pt x="21246" y="6009"/>
                </a:lnTo>
                <a:lnTo>
                  <a:pt x="18893" y="0"/>
                </a:lnTo>
                <a:lnTo>
                  <a:pt x="15832" y="6009"/>
                </a:lnTo>
                <a:lnTo>
                  <a:pt x="17578" y="6009"/>
                </a:lnTo>
                <a:arcTo wR="8966" hR="21600" stAng="2094306" swAng="3151962"/>
                <a:lnTo>
                  <a:pt x="9927" y="21476"/>
                </a:lnTo>
                <a:arcTo wR="8966" hR="21600" stAng="5553732" swAng="5246268"/>
                <a:close/>
              </a:path>
              <a:path fill="darkenLess" w="21600" h="21600">
                <a:moveTo>
                  <a:pt x="0" y="0"/>
                </a:moveTo>
                <a:arcTo wR="8966" hR="21600" stAng="10800000" swAng="-5400000"/>
                <a:lnTo>
                  <a:pt x="10888" y="21600"/>
                </a:lnTo>
                <a:arcTo wR="8966" hR="21600" stAng="5400000" swAng="153732"/>
                <a:lnTo>
                  <a:pt x="9927" y="21476"/>
                </a:lnTo>
                <a:arcTo wR="8966" hR="21600" stAng="5553732" swAng="5246268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7200" y="18900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800" spc="-1" strike="noStrike">
                <a:solidFill>
                  <a:srgbClr val="33cc33"/>
                </a:solidFill>
                <a:latin typeface="Arial"/>
              </a:rPr>
              <a:t>Absorción del nitrógeno por las plan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4643280" y="3567240"/>
            <a:ext cx="4307760" cy="3047760"/>
            <a:chOff x="4643280" y="3567240"/>
            <a:chExt cx="4307760" cy="3047760"/>
          </a:xfrm>
        </p:grpSpPr>
        <p:pic>
          <p:nvPicPr>
            <p:cNvPr id="372" name="" descr=""/>
            <p:cNvPicPr/>
            <p:nvPr/>
          </p:nvPicPr>
          <p:blipFill>
            <a:blip r:embed="rId2"/>
            <a:srcRect l="8561" t="6104" r="10049" b="8251"/>
            <a:stretch/>
          </p:blipFill>
          <p:spPr>
            <a:xfrm>
              <a:off x="4643280" y="3573360"/>
              <a:ext cx="4176720" cy="30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6667200" y="529416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N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818120" y="537372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N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962480" y="436572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N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532280" y="356724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N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895360" y="4821120"/>
              <a:ext cx="607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ff"/>
                  </a:solidFill>
                  <a:latin typeface="Arial"/>
                </a:rPr>
                <a:t>NH</a:t>
              </a:r>
              <a:r>
                <a:rPr b="1" lang="en-US" sz="1600" spc="-1" strike="noStrike" baseline="-25000">
                  <a:solidFill>
                    <a:srgbClr val="0066ff"/>
                  </a:solidFill>
                  <a:latin typeface="Arial"/>
                </a:rPr>
                <a:t>4</a:t>
              </a:r>
              <a:r>
                <a:rPr b="1" lang="en-US" sz="1600" spc="-1" strike="noStrike" baseline="30000">
                  <a:solidFill>
                    <a:srgbClr val="0066ff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397280" y="5950080"/>
              <a:ext cx="69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ff33"/>
                  </a:solidFill>
                  <a:latin typeface="Arial"/>
                </a:rPr>
                <a:t>NO</a:t>
              </a:r>
              <a:r>
                <a:rPr b="1" lang="en-US" sz="2000" spc="-1" strike="noStrike" baseline="-25000">
                  <a:solidFill>
                    <a:srgbClr val="66ff33"/>
                  </a:solidFill>
                  <a:latin typeface="Arial"/>
                </a:rPr>
                <a:t>3</a:t>
              </a:r>
              <a:r>
                <a:rPr b="1" lang="en-US" sz="2000" spc="-1" strike="noStrike" baseline="30000">
                  <a:solidFill>
                    <a:srgbClr val="66ff33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173360" y="4292640"/>
              <a:ext cx="69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ff33"/>
                  </a:solidFill>
                  <a:latin typeface="Arial"/>
                </a:rPr>
                <a:t>NO</a:t>
              </a:r>
              <a:r>
                <a:rPr b="1" lang="en-US" sz="2000" spc="-1" strike="noStrike" baseline="-25000">
                  <a:solidFill>
                    <a:srgbClr val="66ff33"/>
                  </a:solidFill>
                  <a:latin typeface="Arial"/>
                </a:rPr>
                <a:t>3</a:t>
              </a:r>
              <a:r>
                <a:rPr b="1" lang="en-US" sz="2000" spc="-1" strike="noStrike" baseline="30000">
                  <a:solidFill>
                    <a:srgbClr val="66ff33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014160" y="364500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9900"/>
                  </a:solidFill>
                  <a:latin typeface="Arial"/>
                </a:rPr>
                <a:t>A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343360" y="5037120"/>
              <a:ext cx="607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ff"/>
                  </a:solidFill>
                  <a:latin typeface="Arial"/>
                </a:rPr>
                <a:t>NH</a:t>
              </a:r>
              <a:r>
                <a:rPr b="1" lang="en-US" sz="1600" spc="-1" strike="noStrike" baseline="-25000">
                  <a:solidFill>
                    <a:srgbClr val="0066ff"/>
                  </a:solidFill>
                  <a:latin typeface="Arial"/>
                </a:rPr>
                <a:t>4</a:t>
              </a:r>
              <a:r>
                <a:rPr b="1" lang="en-US" sz="1600" spc="-1" strike="noStrike" baseline="30000">
                  <a:solidFill>
                    <a:srgbClr val="0066ff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036640" y="385452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9900"/>
                  </a:solidFill>
                  <a:latin typeface="Arial"/>
                </a:rPr>
                <a:t>A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1981080" y="426960"/>
            <a:ext cx="5562720" cy="490716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930240" y="5516640"/>
            <a:ext cx="77454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La absorción de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NO</a:t>
            </a:r>
            <a:r>
              <a:rPr b="1" lang="en-US" sz="2000" spc="-1" strike="noStrike" baseline="-25000">
                <a:solidFill>
                  <a:srgbClr val="ff6600"/>
                </a:solidFill>
                <a:latin typeface="Arial"/>
              </a:rPr>
              <a:t>3</a:t>
            </a:r>
            <a:r>
              <a:rPr b="1" lang="en-US" sz="2000" spc="-1" strike="noStrike" baseline="30000">
                <a:solidFill>
                  <a:srgbClr val="ff66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 esta mediada por un mecanismo de simporte 2H</a:t>
            </a:r>
            <a:r>
              <a:rPr b="1" lang="en-US" sz="2000" spc="-1" strike="noStrike" baseline="30000">
                <a:solidFill>
                  <a:srgbClr val="ff6600"/>
                </a:solidFill>
                <a:latin typeface="Tahoma"/>
              </a:rPr>
              <a:t>+</a:t>
            </a: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/NO</a:t>
            </a:r>
            <a:r>
              <a:rPr b="1" lang="en-US" sz="2000" spc="-1" strike="noStrike" baseline="-25000">
                <a:solidFill>
                  <a:srgbClr val="ff66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1303920" y="260280"/>
            <a:ext cx="694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Plantas que no pueden fijar N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(mayoría de los cultivos excepto leguminos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438560" y="1460520"/>
            <a:ext cx="5784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entes importantes de nitrógeno: N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y 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062440" y="2548080"/>
            <a:ext cx="796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5316840" y="2529000"/>
            <a:ext cx="1911240" cy="510120"/>
            <a:chOff x="5316840" y="2529000"/>
            <a:chExt cx="1911240" cy="510120"/>
          </a:xfrm>
        </p:grpSpPr>
        <p:sp>
          <p:nvSpPr>
            <p:cNvPr id="389" name=""/>
            <p:cNvSpPr/>
            <p:nvPr/>
          </p:nvSpPr>
          <p:spPr>
            <a:xfrm>
              <a:off x="5316840" y="2529000"/>
              <a:ext cx="796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227640" y="2529000"/>
              <a:ext cx="1000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+ 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2643840" y="2449440"/>
            <a:ext cx="2921040" cy="1159920"/>
            <a:chOff x="2643840" y="2449440"/>
            <a:chExt cx="2921040" cy="1159920"/>
          </a:xfrm>
        </p:grpSpPr>
        <p:grpSp>
          <p:nvGrpSpPr>
            <p:cNvPr id="392" name=""/>
            <p:cNvGrpSpPr/>
            <p:nvPr/>
          </p:nvGrpSpPr>
          <p:grpSpPr>
            <a:xfrm>
              <a:off x="3070800" y="2889360"/>
              <a:ext cx="2089080" cy="720000"/>
              <a:chOff x="3070800" y="2889360"/>
              <a:chExt cx="2089080" cy="720000"/>
            </a:xfrm>
          </p:grpSpPr>
          <p:sp>
            <p:nvSpPr>
              <p:cNvPr id="393" name=""/>
              <p:cNvSpPr/>
              <p:nvPr/>
            </p:nvSpPr>
            <p:spPr>
              <a:xfrm flipH="1" rot="5400000">
                <a:off x="3716280" y="2528280"/>
                <a:ext cx="720000" cy="144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3785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378503"/>
                  </a:path>
                </a:pathLst>
              </a:custGeom>
              <a:noFill/>
              <a:ln w="44280">
                <a:solidFill>
                  <a:srgbClr val="0000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070800" y="2889360"/>
                <a:ext cx="2089080" cy="0"/>
              </a:xfrm>
              <a:prstGeom prst="line">
                <a:avLst/>
              </a:prstGeom>
              <a:ln w="4752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"/>
            <p:cNvSpPr/>
            <p:nvPr/>
          </p:nvSpPr>
          <p:spPr>
            <a:xfrm>
              <a:off x="2643840" y="3176640"/>
              <a:ext cx="181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NAD(P)H + H</a:t>
              </a:r>
              <a:r>
                <a:rPr b="1" lang="es-ES_tradnl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404240" y="3176640"/>
              <a:ext cx="116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NAD(P)</a:t>
              </a:r>
              <a:r>
                <a:rPr b="1" lang="es-ES_tradnl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074400" y="244944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Nitrato reduct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408240" y="4772160"/>
            <a:ext cx="796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202400" y="4772160"/>
            <a:ext cx="2010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3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+ 2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3274920" y="4575240"/>
            <a:ext cx="2309760" cy="1080720"/>
            <a:chOff x="3274920" y="4575240"/>
            <a:chExt cx="2309760" cy="1080720"/>
          </a:xfrm>
        </p:grpSpPr>
        <p:sp>
          <p:nvSpPr>
            <p:cNvPr id="401" name=""/>
            <p:cNvSpPr/>
            <p:nvPr/>
          </p:nvSpPr>
          <p:spPr>
            <a:xfrm>
              <a:off x="3274920" y="5013360"/>
              <a:ext cx="2309760" cy="1440"/>
            </a:xfrm>
            <a:prstGeom prst="line">
              <a:avLst/>
            </a:prstGeom>
            <a:ln w="475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277080" y="4575240"/>
              <a:ext cx="199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Nitrito reduct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572280" y="5013360"/>
              <a:ext cx="1488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9900"/>
                  </a:solidFill>
                  <a:latin typeface="Arial"/>
                </a:rPr>
                <a:t>LU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9900"/>
                  </a:solidFill>
                  <a:latin typeface="Arial"/>
                </a:rPr>
                <a:t>Ferredox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5580000" y="4772160"/>
            <a:ext cx="3382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H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2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+ 1.5 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5195880" y="5380200"/>
            <a:ext cx="1895400" cy="1363320"/>
            <a:chOff x="5195880" y="5380200"/>
            <a:chExt cx="1895400" cy="1363320"/>
          </a:xfrm>
        </p:grpSpPr>
        <p:sp>
          <p:nvSpPr>
            <p:cNvPr id="406" name=""/>
            <p:cNvSpPr/>
            <p:nvPr/>
          </p:nvSpPr>
          <p:spPr>
            <a:xfrm>
              <a:off x="6084720" y="5380200"/>
              <a:ext cx="0" cy="6490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195880" y="6100920"/>
              <a:ext cx="1895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AMINOACIDO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PROTEIN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324720" y="213372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Citos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4200" y="5950080"/>
            <a:ext cx="46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Cloroplastos o Protoplastid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1042920" y="2349360"/>
            <a:ext cx="5041800" cy="2374920"/>
            <a:chOff x="1042920" y="2349360"/>
            <a:chExt cx="5041800" cy="2374920"/>
          </a:xfrm>
        </p:grpSpPr>
        <p:sp>
          <p:nvSpPr>
            <p:cNvPr id="411" name=""/>
            <p:cNvSpPr/>
            <p:nvPr/>
          </p:nvSpPr>
          <p:spPr>
            <a:xfrm>
              <a:off x="5292720" y="2349360"/>
              <a:ext cx="792000" cy="863640"/>
            </a:xfrm>
            <a:prstGeom prst="ellipse">
              <a:avLst/>
            </a:prstGeom>
            <a:noFill/>
            <a:ln w="41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1042920" y="3213000"/>
              <a:ext cx="4681440" cy="151128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179280" y="3645000"/>
            <a:ext cx="8893440" cy="431640"/>
            <a:chOff x="179280" y="3645000"/>
            <a:chExt cx="8893440" cy="431640"/>
          </a:xfrm>
        </p:grpSpPr>
        <p:sp>
          <p:nvSpPr>
            <p:cNvPr id="414" name=""/>
            <p:cNvSpPr/>
            <p:nvPr/>
          </p:nvSpPr>
          <p:spPr>
            <a:xfrm>
              <a:off x="179280" y="3860640"/>
              <a:ext cx="8893440" cy="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64000" y="3645000"/>
              <a:ext cx="287280" cy="4316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000"/>
                            </p:stCondLst>
                            <p:childTnLst>
                              <p:par>
                                <p:cTn id="3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179280" y="401400"/>
            <a:ext cx="8820360" cy="960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uentes exógena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uentes endógena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teínas de la diet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NIMA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Proteínas de membrana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vegetales o animale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enzimas, hormonas, et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21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-31680" y="4156200"/>
            <a:ext cx="24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1907640" y="1557360"/>
            <a:ext cx="1800" cy="42876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308720" y="1557360"/>
            <a:ext cx="1800" cy="41580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11280" y="1998720"/>
            <a:ext cx="8137440" cy="36612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Digestión y absorción 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                     Degrad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987640" y="2492280"/>
            <a:ext cx="3382920" cy="865440"/>
          </a:xfrm>
          <a:custGeom>
            <a:avLst/>
            <a:gdLst>
              <a:gd name="textAreaLeft" fmla="*/ 772200 w 3382920"/>
              <a:gd name="textAreaRight" fmla="*/ 2610720 w 3382920"/>
              <a:gd name="textAreaTop" fmla="*/ 197640 h 865440"/>
              <a:gd name="textAreaBottom" fmla="*/ 667800 h 865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64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AMINOAC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 rot="16200000">
            <a:off x="6693840" y="2311920"/>
            <a:ext cx="578160" cy="792360"/>
          </a:xfrm>
          <a:custGeom>
            <a:avLst/>
            <a:gdLst>
              <a:gd name="textAreaLeft" fmla="*/ 144360 w 578160"/>
              <a:gd name="textAreaRight" fmla="*/ 511560 w 578160"/>
              <a:gd name="textAreaTop" fmla="*/ 562320 h 792360"/>
              <a:gd name="textAreaBottom" fmla="*/ 70128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7820"/>
                </a:moveTo>
                <a:lnTo>
                  <a:pt x="15330" y="17820"/>
                </a:lnTo>
                <a:lnTo>
                  <a:pt x="15330" y="5400"/>
                </a:lnTo>
                <a:lnTo>
                  <a:pt x="12840" y="5400"/>
                </a:lnTo>
                <a:lnTo>
                  <a:pt x="17220" y="0"/>
                </a:lnTo>
                <a:lnTo>
                  <a:pt x="21600" y="5400"/>
                </a:lnTo>
                <a:lnTo>
                  <a:pt x="19110" y="5400"/>
                </a:lnTo>
                <a:lnTo>
                  <a:pt x="191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rot="5400000">
            <a:off x="1979280" y="2276640"/>
            <a:ext cx="576360" cy="865080"/>
          </a:xfrm>
          <a:custGeom>
            <a:avLst/>
            <a:gdLst>
              <a:gd name="textAreaLeft" fmla="*/ 144000 w 576360"/>
              <a:gd name="textAreaRight" fmla="*/ 510120 w 576360"/>
              <a:gd name="textAreaTop" fmla="*/ 614160 h 865080"/>
              <a:gd name="textAreaBottom" fmla="*/ 7653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17820"/>
                </a:moveTo>
                <a:lnTo>
                  <a:pt x="15330" y="17820"/>
                </a:lnTo>
                <a:lnTo>
                  <a:pt x="15330" y="5400"/>
                </a:lnTo>
                <a:lnTo>
                  <a:pt x="12840" y="5400"/>
                </a:lnTo>
                <a:lnTo>
                  <a:pt x="17220" y="0"/>
                </a:lnTo>
                <a:lnTo>
                  <a:pt x="21600" y="5400"/>
                </a:lnTo>
                <a:lnTo>
                  <a:pt x="19110" y="5400"/>
                </a:lnTo>
                <a:lnTo>
                  <a:pt x="191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2405160" y="3360600"/>
            <a:ext cx="4327560" cy="1004760"/>
            <a:chOff x="2405160" y="3360600"/>
            <a:chExt cx="4327560" cy="1004760"/>
          </a:xfrm>
        </p:grpSpPr>
        <p:sp>
          <p:nvSpPr>
            <p:cNvPr id="426" name=""/>
            <p:cNvSpPr/>
            <p:nvPr/>
          </p:nvSpPr>
          <p:spPr>
            <a:xfrm>
              <a:off x="4643280" y="3360600"/>
              <a:ext cx="0" cy="3603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7" name=""/>
            <p:cNvGrpSpPr/>
            <p:nvPr/>
          </p:nvGrpSpPr>
          <p:grpSpPr>
            <a:xfrm>
              <a:off x="2405160" y="3792240"/>
              <a:ext cx="4327560" cy="573120"/>
              <a:chOff x="2405160" y="3792240"/>
              <a:chExt cx="4327560" cy="573120"/>
            </a:xfrm>
          </p:grpSpPr>
          <p:sp>
            <p:nvSpPr>
              <p:cNvPr id="428" name=""/>
              <p:cNvSpPr/>
              <p:nvPr/>
            </p:nvSpPr>
            <p:spPr>
              <a:xfrm>
                <a:off x="2405160" y="3792240"/>
                <a:ext cx="4327560" cy="5731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581200" y="3881520"/>
                <a:ext cx="40068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ransaminación y/ó Desaminación</a:t>
                </a: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0" name=""/>
          <p:cNvSpPr/>
          <p:nvPr/>
        </p:nvSpPr>
        <p:spPr>
          <a:xfrm>
            <a:off x="-281160" y="3436920"/>
            <a:ext cx="24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612400" y="5348160"/>
            <a:ext cx="35593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Arial"/>
                <a:ea typeface="Times New Roman"/>
              </a:rPr>
              <a:t>- Proteí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- Aminoácidos No esenci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0099"/>
                </a:solidFill>
                <a:latin typeface="Arial"/>
              </a:rPr>
              <a:t>Constituyentes nitrogenad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Arial"/>
              </a:rPr>
              <a:t>no proteicos: purinas, pirimidina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Arial"/>
              </a:rPr>
              <a:t>porfirinas, ácidos biliares</a:t>
            </a: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826920" y="4381560"/>
            <a:ext cx="7921800" cy="987120"/>
            <a:chOff x="826920" y="4381560"/>
            <a:chExt cx="7921800" cy="987120"/>
          </a:xfrm>
        </p:grpSpPr>
        <p:sp>
          <p:nvSpPr>
            <p:cNvPr id="433" name=""/>
            <p:cNvSpPr/>
            <p:nvPr/>
          </p:nvSpPr>
          <p:spPr>
            <a:xfrm>
              <a:off x="826920" y="4773960"/>
              <a:ext cx="7921800" cy="59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Degradació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Biosínte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rot="5400000">
              <a:off x="4562640" y="4464720"/>
              <a:ext cx="884160" cy="717480"/>
            </a:xfrm>
            <a:custGeom>
              <a:avLst/>
              <a:gdLst>
                <a:gd name="textAreaLeft" fmla="*/ 221040 w 884160"/>
                <a:gd name="textAreaRight" fmla="*/ 782280 w 884160"/>
                <a:gd name="textAreaTop" fmla="*/ 509400 h 717480"/>
                <a:gd name="textAreaBottom" fmla="*/ 635040 h 717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7820"/>
                  </a:moveTo>
                  <a:lnTo>
                    <a:pt x="15330" y="17820"/>
                  </a:lnTo>
                  <a:lnTo>
                    <a:pt x="15330" y="5400"/>
                  </a:lnTo>
                  <a:lnTo>
                    <a:pt x="12840" y="5400"/>
                  </a:lnTo>
                  <a:lnTo>
                    <a:pt x="17220" y="0"/>
                  </a:lnTo>
                  <a:lnTo>
                    <a:pt x="21600" y="5400"/>
                  </a:lnTo>
                  <a:lnTo>
                    <a:pt x="19110" y="5400"/>
                  </a:lnTo>
                  <a:lnTo>
                    <a:pt x="1911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66ff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 rot="16200000">
              <a:off x="3840480" y="4464000"/>
              <a:ext cx="884160" cy="718920"/>
            </a:xfrm>
            <a:custGeom>
              <a:avLst/>
              <a:gdLst>
                <a:gd name="textAreaLeft" fmla="*/ 221400 w 884160"/>
                <a:gd name="textAreaRight" fmla="*/ 782640 w 884160"/>
                <a:gd name="textAreaTop" fmla="*/ 510480 h 718920"/>
                <a:gd name="textAreaBottom" fmla="*/ 636120 h 71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7820"/>
                  </a:moveTo>
                  <a:lnTo>
                    <a:pt x="15330" y="17820"/>
                  </a:lnTo>
                  <a:lnTo>
                    <a:pt x="15330" y="5400"/>
                  </a:lnTo>
                  <a:lnTo>
                    <a:pt x="12840" y="5400"/>
                  </a:lnTo>
                  <a:lnTo>
                    <a:pt x="17220" y="0"/>
                  </a:lnTo>
                  <a:lnTo>
                    <a:pt x="21600" y="5400"/>
                  </a:lnTo>
                  <a:lnTo>
                    <a:pt x="19110" y="5400"/>
                  </a:lnTo>
                  <a:lnTo>
                    <a:pt x="1911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66ff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250920" y="5065560"/>
            <a:ext cx="4752720" cy="745920"/>
            <a:chOff x="250920" y="5065560"/>
            <a:chExt cx="4752720" cy="745920"/>
          </a:xfrm>
        </p:grpSpPr>
        <p:sp>
          <p:nvSpPr>
            <p:cNvPr id="437" name=""/>
            <p:cNvSpPr/>
            <p:nvPr/>
          </p:nvSpPr>
          <p:spPr>
            <a:xfrm>
              <a:off x="250920" y="5445360"/>
              <a:ext cx="4752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  </a:t>
              </a: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α - cetoácido           </a:t>
              </a: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	</a:t>
              </a: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      amoníaco</a:t>
              </a:r>
              <a:r>
                <a:rPr b="0" lang="es-ES" sz="1800" spc="-1" strike="noStrike">
                  <a:solidFill>
                    <a:srgbClr val="ff66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5400000">
              <a:off x="2689920" y="5075640"/>
              <a:ext cx="739800" cy="719280"/>
            </a:xfrm>
            <a:custGeom>
              <a:avLst/>
              <a:gdLst>
                <a:gd name="textAreaLeft" fmla="*/ 185040 w 739800"/>
                <a:gd name="textAreaRight" fmla="*/ 654480 w 739800"/>
                <a:gd name="textAreaTop" fmla="*/ 510480 h 719280"/>
                <a:gd name="textAreaBottom" fmla="*/ 636480 h 71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7820"/>
                  </a:moveTo>
                  <a:lnTo>
                    <a:pt x="15330" y="17820"/>
                  </a:lnTo>
                  <a:lnTo>
                    <a:pt x="15330" y="5400"/>
                  </a:lnTo>
                  <a:lnTo>
                    <a:pt x="12840" y="5400"/>
                  </a:lnTo>
                  <a:lnTo>
                    <a:pt x="17220" y="0"/>
                  </a:lnTo>
                  <a:lnTo>
                    <a:pt x="21600" y="5400"/>
                  </a:lnTo>
                  <a:lnTo>
                    <a:pt x="19110" y="5400"/>
                  </a:lnTo>
                  <a:lnTo>
                    <a:pt x="1911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66ff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rot="16200000">
              <a:off x="1968480" y="5074920"/>
              <a:ext cx="739800" cy="720720"/>
            </a:xfrm>
            <a:custGeom>
              <a:avLst/>
              <a:gdLst>
                <a:gd name="textAreaLeft" fmla="*/ 184680 w 739800"/>
                <a:gd name="textAreaRight" fmla="*/ 654120 w 739800"/>
                <a:gd name="textAreaTop" fmla="*/ 511560 h 720720"/>
                <a:gd name="textAreaBottom" fmla="*/ 63792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7820"/>
                  </a:moveTo>
                  <a:lnTo>
                    <a:pt x="15330" y="17820"/>
                  </a:lnTo>
                  <a:lnTo>
                    <a:pt x="15330" y="5400"/>
                  </a:lnTo>
                  <a:lnTo>
                    <a:pt x="12840" y="5400"/>
                  </a:lnTo>
                  <a:lnTo>
                    <a:pt x="17220" y="0"/>
                  </a:lnTo>
                  <a:lnTo>
                    <a:pt x="21600" y="5400"/>
                  </a:lnTo>
                  <a:lnTo>
                    <a:pt x="19110" y="5400"/>
                  </a:lnTo>
                  <a:lnTo>
                    <a:pt x="1911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66ff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63640" y="476280"/>
            <a:ext cx="4537080" cy="5832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rcRect l="0" t="19762" r="41287" b="-1251"/>
          <a:stretch/>
        </p:blipFill>
        <p:spPr>
          <a:xfrm>
            <a:off x="1763640" y="1628640"/>
            <a:ext cx="2664000" cy="4753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rcRect l="19036" t="44449" r="0" b="13554"/>
          <a:stretch/>
        </p:blipFill>
        <p:spPr>
          <a:xfrm>
            <a:off x="2627280" y="3068640"/>
            <a:ext cx="3673440" cy="2449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rcRect l="33346" t="80269" r="1610" b="0"/>
          <a:stretch/>
        </p:blipFill>
        <p:spPr>
          <a:xfrm>
            <a:off x="3274920" y="5157720"/>
            <a:ext cx="2951280" cy="1150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rcRect l="42864" t="0" r="9518" b="55526"/>
          <a:stretch/>
        </p:blipFill>
        <p:spPr>
          <a:xfrm>
            <a:off x="3708360" y="476280"/>
            <a:ext cx="2160720" cy="2593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 rot="16200000">
            <a:off x="-1900080" y="3131640"/>
            <a:ext cx="5832360" cy="520560"/>
          </a:xfrm>
          <a:prstGeom prst="rect">
            <a:avLst/>
          </a:prstGeom>
          <a:solidFill>
            <a:srgbClr val="ffffff"/>
          </a:solidFill>
          <a:ln w="316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METABOLISMO INTERME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6200" y="4316400"/>
            <a:ext cx="2396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Conjunto de reacciones químicas que tienen lugar en las células y teji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63640" y="3645000"/>
            <a:ext cx="936720" cy="57600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76720" y="4437000"/>
            <a:ext cx="1079640" cy="2872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6093000"/>
            <a:ext cx="107928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16360" y="1413000"/>
            <a:ext cx="107928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441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442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4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47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966600" y="642960"/>
            <a:ext cx="728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¿Cómo se digieren las proteínas de la dieta en el human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irma" descr=""/>
          <p:cNvPicPr/>
          <p:nvPr/>
        </p:nvPicPr>
        <p:blipFill>
          <a:blip r:embed="rId2"/>
          <a:stretch/>
        </p:blipFill>
        <p:spPr>
          <a:xfrm>
            <a:off x="1979640" y="1125360"/>
            <a:ext cx="5592600" cy="561672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5301360" y="6381720"/>
            <a:ext cx="21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xtraído de Lehninger, 200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012000" y="2637000"/>
            <a:ext cx="1152360" cy="431640"/>
          </a:xfrm>
          <a:prstGeom prst="ellipse">
            <a:avLst/>
          </a:prstGeom>
          <a:noFill/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7093800" y="1774440"/>
            <a:ext cx="648000" cy="1077480"/>
            <a:chOff x="7093800" y="1774440"/>
            <a:chExt cx="648000" cy="1077480"/>
          </a:xfrm>
        </p:grpSpPr>
        <p:sp>
          <p:nvSpPr>
            <p:cNvPr id="453" name=""/>
            <p:cNvSpPr/>
            <p:nvPr/>
          </p:nvSpPr>
          <p:spPr>
            <a:xfrm flipV="1">
              <a:off x="7163640" y="1774080"/>
              <a:ext cx="578160" cy="107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69144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691443"/>
                </a:path>
              </a:pathLst>
            </a:custGeom>
            <a:noFill/>
            <a:ln w="3168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7093800" y="2348640"/>
              <a:ext cx="578160" cy="50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69144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691443"/>
                </a:path>
              </a:pathLst>
            </a:custGeom>
            <a:noFill/>
            <a:ln w="3168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3924360" y="2492280"/>
            <a:ext cx="647640" cy="432000"/>
          </a:xfrm>
          <a:prstGeom prst="ellipse">
            <a:avLst/>
          </a:prstGeom>
          <a:noFill/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995280" y="3946680"/>
            <a:ext cx="86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cret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635200" y="4076640"/>
            <a:ext cx="596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078520" y="4365720"/>
            <a:ext cx="141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olecistoquin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635280" y="2781360"/>
            <a:ext cx="1152720" cy="431640"/>
          </a:xfrm>
          <a:prstGeom prst="ellipse">
            <a:avLst/>
          </a:prstGeom>
          <a:noFill/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826920" y="4797360"/>
            <a:ext cx="2305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83cea"/>
                </a:solidFill>
                <a:latin typeface="Arial"/>
                <a:ea typeface="Arial"/>
              </a:rPr>
              <a:t>Pepsin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Digestión de Proteínas</a:t>
            </a:r>
            <a:br>
              <a:rPr sz="2800"/>
            </a:br>
            <a:r>
              <a:rPr b="1" lang="es-ES" sz="2800" spc="-1" strike="noStrike">
                <a:solidFill>
                  <a:srgbClr val="383cea"/>
                </a:solidFill>
                <a:latin typeface="Arial"/>
              </a:rPr>
              <a:t>I) En el estóm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060720" y="5196240"/>
            <a:ext cx="1326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H 1,5-2,5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684360" y="5196240"/>
            <a:ext cx="2903400" cy="770040"/>
            <a:chOff x="684360" y="5196240"/>
            <a:chExt cx="2903400" cy="770040"/>
          </a:xfrm>
        </p:grpSpPr>
        <p:sp>
          <p:nvSpPr>
            <p:cNvPr id="464" name=""/>
            <p:cNvSpPr/>
            <p:nvPr/>
          </p:nvSpPr>
          <p:spPr>
            <a:xfrm>
              <a:off x="1403280" y="5196240"/>
              <a:ext cx="1402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808080"/>
                  </a:solidFill>
                  <a:latin typeface="Arial"/>
                  <a:ea typeface="Arial"/>
                </a:rPr>
                <a:t>Proenzim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5" name=""/>
            <p:cNvGrpSpPr/>
            <p:nvPr/>
          </p:nvGrpSpPr>
          <p:grpSpPr>
            <a:xfrm>
              <a:off x="684360" y="5659560"/>
              <a:ext cx="2903400" cy="306720"/>
              <a:chOff x="684360" y="5659560"/>
              <a:chExt cx="2903400" cy="306720"/>
            </a:xfrm>
          </p:grpSpPr>
          <p:sp>
            <p:nvSpPr>
              <p:cNvPr id="466" name=""/>
              <p:cNvSpPr/>
              <p:nvPr/>
            </p:nvSpPr>
            <p:spPr>
              <a:xfrm>
                <a:off x="3085920" y="5659560"/>
                <a:ext cx="50184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NH</a:t>
                </a:r>
                <a:r>
                  <a:rPr b="1" lang="en-US" sz="12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7" name=""/>
              <p:cNvGrpSpPr/>
              <p:nvPr/>
            </p:nvGrpSpPr>
            <p:grpSpPr>
              <a:xfrm>
                <a:off x="684360" y="5781960"/>
                <a:ext cx="2515680" cy="115920"/>
                <a:chOff x="684360" y="5781960"/>
                <a:chExt cx="2515680" cy="11592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684360" y="5781960"/>
                  <a:ext cx="228960" cy="114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913320" y="5782320"/>
                  <a:ext cx="228960" cy="114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1141920" y="5782320"/>
                  <a:ext cx="228960" cy="1141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1370880" y="5782320"/>
                  <a:ext cx="228960" cy="114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1599480" y="5782320"/>
                  <a:ext cx="228600" cy="1155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1828080" y="5782320"/>
                  <a:ext cx="229680" cy="1155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2056680" y="5782320"/>
                  <a:ext cx="229680" cy="1155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2285280" y="5782320"/>
                  <a:ext cx="228240" cy="1141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2513880" y="5782320"/>
                  <a:ext cx="229680" cy="114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2742480" y="5782320"/>
                  <a:ext cx="228240" cy="1141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2971080" y="5782320"/>
                  <a:ext cx="228960" cy="114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79" name=""/>
          <p:cNvSpPr/>
          <p:nvPr/>
        </p:nvSpPr>
        <p:spPr>
          <a:xfrm>
            <a:off x="755640" y="2421000"/>
            <a:ext cx="194328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GASTR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276720" y="1773360"/>
            <a:ext cx="2016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Células Parie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348000" y="2997360"/>
            <a:ext cx="1871640" cy="825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Células Princip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292720" y="2205000"/>
            <a:ext cx="93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292720" y="3357720"/>
            <a:ext cx="93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516720" y="1989000"/>
            <a:ext cx="1079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H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443640" y="3141720"/>
            <a:ext cx="2232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Pepsin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rot="20733000">
            <a:off x="2700000" y="220464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rot="1538400">
            <a:off x="2700000" y="2923920"/>
            <a:ext cx="431640" cy="21564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335120" y="4816440"/>
            <a:ext cx="38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83cea"/>
                </a:solidFill>
                <a:latin typeface="Arial"/>
              </a:rPr>
              <a:t>Pepsina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resto de 42 A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3276720" y="4581360"/>
            <a:ext cx="900000" cy="503280"/>
            <a:chOff x="3276720" y="4581360"/>
            <a:chExt cx="900000" cy="503280"/>
          </a:xfrm>
        </p:grpSpPr>
        <p:sp>
          <p:nvSpPr>
            <p:cNvPr id="490" name=""/>
            <p:cNvSpPr/>
            <p:nvPr/>
          </p:nvSpPr>
          <p:spPr>
            <a:xfrm>
              <a:off x="3276720" y="5084640"/>
              <a:ext cx="9000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374640" y="458136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HC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4203720" y="5223240"/>
            <a:ext cx="2019240" cy="728640"/>
            <a:chOff x="4203720" y="5223240"/>
            <a:chExt cx="2019240" cy="728640"/>
          </a:xfrm>
        </p:grpSpPr>
        <p:sp>
          <p:nvSpPr>
            <p:cNvPr id="493" name=""/>
            <p:cNvSpPr/>
            <p:nvPr/>
          </p:nvSpPr>
          <p:spPr>
            <a:xfrm>
              <a:off x="4356360" y="5223240"/>
              <a:ext cx="1757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Enzima activa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4" name=""/>
            <p:cNvGrpSpPr/>
            <p:nvPr/>
          </p:nvGrpSpPr>
          <p:grpSpPr>
            <a:xfrm>
              <a:off x="4203720" y="5645160"/>
              <a:ext cx="2019240" cy="306720"/>
              <a:chOff x="4203720" y="5645160"/>
              <a:chExt cx="2019240" cy="306720"/>
            </a:xfrm>
          </p:grpSpPr>
          <p:grpSp>
            <p:nvGrpSpPr>
              <p:cNvPr id="495" name=""/>
              <p:cNvGrpSpPr/>
              <p:nvPr/>
            </p:nvGrpSpPr>
            <p:grpSpPr>
              <a:xfrm>
                <a:off x="4203720" y="5732280"/>
                <a:ext cx="1601280" cy="115920"/>
                <a:chOff x="4203720" y="5732280"/>
                <a:chExt cx="1601280" cy="11592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4661280" y="5732280"/>
                  <a:ext cx="229320" cy="11520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5347800" y="5732280"/>
                  <a:ext cx="230040" cy="1159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98" name=""/>
                <p:cNvGrpSpPr/>
                <p:nvPr/>
              </p:nvGrpSpPr>
              <p:grpSpPr>
                <a:xfrm>
                  <a:off x="4203720" y="5732280"/>
                  <a:ext cx="1601280" cy="115920"/>
                  <a:chOff x="4203720" y="5732280"/>
                  <a:chExt cx="1601280" cy="115920"/>
                </a:xfrm>
              </p:grpSpPr>
              <p:sp>
                <p:nvSpPr>
                  <p:cNvPr id="499" name=""/>
                  <p:cNvSpPr/>
                  <p:nvPr/>
                </p:nvSpPr>
                <p:spPr>
                  <a:xfrm>
                    <a:off x="4889520" y="5732280"/>
                    <a:ext cx="228600" cy="1159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280" bIns="35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4203720" y="5733000"/>
                    <a:ext cx="229320" cy="1152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>
                    <a:off x="4432320" y="5733000"/>
                    <a:ext cx="229320" cy="1144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>
                    <a:off x="5118120" y="5732280"/>
                    <a:ext cx="230040" cy="1159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280" bIns="35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>
                    <a:off x="5576400" y="5733000"/>
                    <a:ext cx="228600" cy="1144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04" name=""/>
              <p:cNvSpPr/>
              <p:nvPr/>
            </p:nvSpPr>
            <p:spPr>
              <a:xfrm>
                <a:off x="5721120" y="5645160"/>
                <a:ext cx="50184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NH</a:t>
                </a:r>
                <a:r>
                  <a:rPr b="1" lang="en-US" sz="12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5" name=""/>
          <p:cNvGrpSpPr/>
          <p:nvPr/>
        </p:nvGrpSpPr>
        <p:grpSpPr>
          <a:xfrm>
            <a:off x="6732720" y="5573880"/>
            <a:ext cx="1082160" cy="306720"/>
            <a:chOff x="6732720" y="5573880"/>
            <a:chExt cx="1082160" cy="306720"/>
          </a:xfrm>
        </p:grpSpPr>
        <p:grpSp>
          <p:nvGrpSpPr>
            <p:cNvPr id="506" name=""/>
            <p:cNvGrpSpPr/>
            <p:nvPr/>
          </p:nvGrpSpPr>
          <p:grpSpPr>
            <a:xfrm>
              <a:off x="6732720" y="5719680"/>
              <a:ext cx="685440" cy="111240"/>
              <a:chOff x="6732720" y="5719680"/>
              <a:chExt cx="685440" cy="111240"/>
            </a:xfrm>
          </p:grpSpPr>
          <p:sp>
            <p:nvSpPr>
              <p:cNvPr id="507" name=""/>
              <p:cNvSpPr/>
              <p:nvPr/>
            </p:nvSpPr>
            <p:spPr>
              <a:xfrm>
                <a:off x="6732720" y="5719680"/>
                <a:ext cx="229320" cy="11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960960" y="5719680"/>
                <a:ext cx="228240" cy="1108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7189200" y="5719680"/>
                <a:ext cx="228960" cy="11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7313040" y="5573880"/>
              <a:ext cx="50184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NH</a:t>
              </a:r>
              <a:r>
                <a:rPr b="1" lang="en-US" sz="1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5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1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9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1302480" y="333360"/>
            <a:ext cx="669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Digestión de proteínas en el estóm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por acción de la Peps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892440" y="1773360"/>
            <a:ext cx="1517400" cy="3783240"/>
            <a:chOff x="892440" y="1773360"/>
            <a:chExt cx="1517400" cy="3783240"/>
          </a:xfrm>
        </p:grpSpPr>
        <p:sp>
          <p:nvSpPr>
            <p:cNvPr id="513" name=""/>
            <p:cNvSpPr/>
            <p:nvPr/>
          </p:nvSpPr>
          <p:spPr>
            <a:xfrm>
              <a:off x="1004760" y="2184480"/>
              <a:ext cx="228600" cy="2286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19160" y="2395440"/>
              <a:ext cx="449280" cy="279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004760" y="2406600"/>
              <a:ext cx="228600" cy="2286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233360" y="2413080"/>
              <a:ext cx="228600" cy="2286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461960" y="2413080"/>
              <a:ext cx="228600" cy="2286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690560" y="2413080"/>
              <a:ext cx="228600" cy="2286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030400" y="2665440"/>
              <a:ext cx="228600" cy="2286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860480" y="2817720"/>
              <a:ext cx="228600" cy="2286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655640" y="2882880"/>
              <a:ext cx="228600" cy="2286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562040" y="3081240"/>
              <a:ext cx="228600" cy="2286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714680" y="3251160"/>
              <a:ext cx="228600" cy="2286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932120" y="3276720"/>
              <a:ext cx="449280" cy="279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006640" y="3562200"/>
              <a:ext cx="228600" cy="2286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36720" y="3714840"/>
              <a:ext cx="228600" cy="2286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631880" y="3780000"/>
              <a:ext cx="228600" cy="2286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538280" y="3978360"/>
              <a:ext cx="228600" cy="2286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690560" y="4148280"/>
              <a:ext cx="228600" cy="2286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919160" y="4114800"/>
              <a:ext cx="449280" cy="279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rot="5400000">
              <a:off x="1385640" y="4979880"/>
              <a:ext cx="228600" cy="2286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 rot="5400000">
              <a:off x="1537920" y="4827600"/>
              <a:ext cx="228600" cy="2286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rot="5400000">
              <a:off x="1760040" y="4762440"/>
              <a:ext cx="228600" cy="2286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5400000">
              <a:off x="1854000" y="4564080"/>
              <a:ext cx="228600" cy="2286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 rot="5400000">
              <a:off x="2017440" y="4394160"/>
              <a:ext cx="228600" cy="2286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063800" y="5081760"/>
              <a:ext cx="0" cy="17136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892440" y="5157720"/>
              <a:ext cx="81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00"/>
                  </a:solidFill>
                  <a:latin typeface="Arial"/>
                </a:rPr>
                <a:t>COO</a:t>
              </a:r>
              <a:r>
                <a:rPr b="1" lang="en-US" sz="2000" spc="-1" strike="noStrike" baseline="30000">
                  <a:solidFill>
                    <a:srgbClr val="ff99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016280" y="1773360"/>
              <a:ext cx="718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00"/>
                  </a:solidFill>
                  <a:latin typeface="Arial"/>
                </a:rPr>
                <a:t>NH</a:t>
              </a:r>
              <a:r>
                <a:rPr b="1" lang="en-US" sz="2000" spc="-1" strike="noStrike" baseline="-25000">
                  <a:solidFill>
                    <a:srgbClr val="ff9900"/>
                  </a:solidFill>
                  <a:latin typeface="Arial"/>
                </a:rPr>
                <a:t>3</a:t>
              </a:r>
              <a:r>
                <a:rPr b="1" lang="en-US" sz="2000" spc="-1" strike="noStrike" baseline="30000">
                  <a:solidFill>
                    <a:srgbClr val="ff99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133640" y="2119320"/>
              <a:ext cx="0" cy="171360"/>
            </a:xfrm>
            <a:prstGeom prst="line">
              <a:avLst/>
            </a:prstGeom>
            <a:ln w="442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5400000">
              <a:off x="945720" y="4979880"/>
              <a:ext cx="228600" cy="2286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rot="5400000">
              <a:off x="1168200" y="4915080"/>
              <a:ext cx="228600" cy="2286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906560" y="2395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r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902960" y="3273480"/>
              <a:ext cx="50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h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2960" y="4111560"/>
              <a:ext cx="49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e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1979280" y="2708280"/>
            <a:ext cx="2664000" cy="1031760"/>
            <a:chOff x="1979280" y="2708280"/>
            <a:chExt cx="2664000" cy="1031760"/>
          </a:xfrm>
        </p:grpSpPr>
        <p:grpSp>
          <p:nvGrpSpPr>
            <p:cNvPr id="546" name=""/>
            <p:cNvGrpSpPr/>
            <p:nvPr/>
          </p:nvGrpSpPr>
          <p:grpSpPr>
            <a:xfrm>
              <a:off x="2836800" y="3139920"/>
              <a:ext cx="1806480" cy="600120"/>
              <a:chOff x="2836800" y="3139920"/>
              <a:chExt cx="1806480" cy="600120"/>
            </a:xfrm>
          </p:grpSpPr>
          <p:sp>
            <p:nvSpPr>
              <p:cNvPr id="547" name=""/>
              <p:cNvSpPr/>
              <p:nvPr/>
            </p:nvSpPr>
            <p:spPr>
              <a:xfrm>
                <a:off x="2893320" y="3139920"/>
                <a:ext cx="1518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ffff"/>
                    </a:solidFill>
                    <a:latin typeface="Arial"/>
                  </a:rPr>
                  <a:t>  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Arial"/>
                  </a:rPr>
                  <a:t>Pepsin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H="1">
                <a:off x="2836800" y="3740040"/>
                <a:ext cx="1806480" cy="0"/>
              </a:xfrm>
              <a:prstGeom prst="line">
                <a:avLst/>
              </a:prstGeom>
              <a:ln w="63360">
                <a:solidFill>
                  <a:srgbClr val="000099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9" name=""/>
            <p:cNvSpPr/>
            <p:nvPr/>
          </p:nvSpPr>
          <p:spPr>
            <a:xfrm flipH="1">
              <a:off x="1979280" y="2708280"/>
              <a:ext cx="647640" cy="5763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4031280" y="1694880"/>
            <a:ext cx="4257720" cy="3823200"/>
            <a:chOff x="4031280" y="1694880"/>
            <a:chExt cx="4257720" cy="3823200"/>
          </a:xfrm>
        </p:grpSpPr>
        <p:sp>
          <p:nvSpPr>
            <p:cNvPr id="551" name=""/>
            <p:cNvSpPr/>
            <p:nvPr/>
          </p:nvSpPr>
          <p:spPr>
            <a:xfrm>
              <a:off x="5286240" y="5149800"/>
              <a:ext cx="235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Péptidos de alto P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2" name=""/>
            <p:cNvGrpSpPr/>
            <p:nvPr/>
          </p:nvGrpSpPr>
          <p:grpSpPr>
            <a:xfrm>
              <a:off x="5358240" y="2681640"/>
              <a:ext cx="2930760" cy="2468520"/>
              <a:chOff x="5358240" y="2681640"/>
              <a:chExt cx="2930760" cy="2468520"/>
            </a:xfrm>
          </p:grpSpPr>
          <p:sp>
            <p:nvSpPr>
              <p:cNvPr id="553" name=""/>
              <p:cNvSpPr/>
              <p:nvPr/>
            </p:nvSpPr>
            <p:spPr>
              <a:xfrm rot="1088400">
                <a:off x="7320240" y="3031200"/>
                <a:ext cx="449280" cy="2790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rot="1088400">
                <a:off x="7315200" y="3292920"/>
                <a:ext cx="228600" cy="22824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rot="1088400">
                <a:off x="7106400" y="3384720"/>
                <a:ext cx="228600" cy="22824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rot="1088400">
                <a:off x="6891480" y="3382920"/>
                <a:ext cx="228600" cy="22824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rot="1088400">
                <a:off x="6740640" y="3542040"/>
                <a:ext cx="228600" cy="22824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rot="1088400">
                <a:off x="6832440" y="3751200"/>
                <a:ext cx="228600" cy="22824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rot="1088400">
                <a:off x="7047000" y="3823920"/>
                <a:ext cx="449280" cy="2790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rot="6488400">
                <a:off x="6284160" y="4446360"/>
                <a:ext cx="228240" cy="22860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rot="6488400">
                <a:off x="6476040" y="4348800"/>
                <a:ext cx="228240" cy="22860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rot="6488400">
                <a:off x="6707520" y="4356360"/>
                <a:ext cx="228240" cy="22860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rot="6488400">
                <a:off x="6858360" y="4196880"/>
                <a:ext cx="228240" cy="22860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rot="6488400">
                <a:off x="7066800" y="4086360"/>
                <a:ext cx="228240" cy="22860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H="1">
                <a:off x="5934600" y="4413240"/>
                <a:ext cx="53280" cy="162360"/>
              </a:xfrm>
              <a:prstGeom prst="line">
                <a:avLst/>
              </a:prstGeom>
              <a:ln w="442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rot="1088400">
                <a:off x="5391360" y="458028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     </a:t>
                </a:r>
                <a:r>
                  <a:rPr b="1" lang="en-US" sz="2000" spc="-1" strike="noStrike">
                    <a:solidFill>
                      <a:srgbClr val="ff9900"/>
                    </a:solidFill>
                    <a:latin typeface="Arial"/>
                  </a:rPr>
                  <a:t>COO</a:t>
                </a:r>
                <a:r>
                  <a:rPr b="1" lang="en-US" sz="2000" spc="-1" strike="noStrike" baseline="30000">
                    <a:solidFill>
                      <a:srgbClr val="ff9900"/>
                    </a:solidFill>
                    <a:latin typeface="Arial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rot="6488400">
                <a:off x="5865840" y="4309200"/>
                <a:ext cx="228240" cy="22860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rot="6488400">
                <a:off x="6097680" y="4316760"/>
                <a:ext cx="228240" cy="22860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rot="1088400">
                <a:off x="7287840" y="3026880"/>
                <a:ext cx="50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h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rot="1088400">
                <a:off x="7026840" y="3822120"/>
                <a:ext cx="49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Leu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rot="1088400">
                <a:off x="7519320" y="2782440"/>
                <a:ext cx="7185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9900"/>
                    </a:solidFill>
                    <a:latin typeface="Arial"/>
                  </a:rPr>
                  <a:t>NH</a:t>
                </a:r>
                <a:r>
                  <a:rPr b="1" lang="en-US" sz="2000" spc="-1" strike="noStrike" baseline="-25000">
                    <a:solidFill>
                      <a:srgbClr val="ff9900"/>
                    </a:solidFill>
                    <a:latin typeface="Arial"/>
                  </a:rPr>
                  <a:t>3</a:t>
                </a:r>
                <a:r>
                  <a:rPr b="1" lang="en-US" sz="2000" spc="-1" strike="noStrike" baseline="30000">
                    <a:solidFill>
                      <a:srgbClr val="ff9900"/>
                    </a:solidFill>
                    <a:latin typeface="Arial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2" name=""/>
            <p:cNvGrpSpPr/>
            <p:nvPr/>
          </p:nvGrpSpPr>
          <p:grpSpPr>
            <a:xfrm>
              <a:off x="4031280" y="1694880"/>
              <a:ext cx="2050920" cy="1893600"/>
              <a:chOff x="4031280" y="1694880"/>
              <a:chExt cx="2050920" cy="1893600"/>
            </a:xfrm>
          </p:grpSpPr>
          <p:sp>
            <p:nvSpPr>
              <p:cNvPr id="573" name=""/>
              <p:cNvSpPr/>
              <p:nvPr/>
            </p:nvSpPr>
            <p:spPr>
              <a:xfrm rot="20542800">
                <a:off x="4179600" y="2268720"/>
                <a:ext cx="228600" cy="22860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rot="20542800">
                <a:off x="5117400" y="2158560"/>
                <a:ext cx="449280" cy="2793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rot="20542800">
                <a:off x="4246920" y="2480400"/>
                <a:ext cx="228600" cy="22860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rot="20542800">
                <a:off x="4466880" y="2417400"/>
                <a:ext cx="228600" cy="22860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rot="20542800">
                <a:off x="4684680" y="2348280"/>
                <a:ext cx="228600" cy="22860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rot="20542800">
                <a:off x="4902480" y="2279160"/>
                <a:ext cx="228600" cy="22860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rot="20542800">
                <a:off x="5302800" y="2416680"/>
                <a:ext cx="228600" cy="22860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rot="20542800">
                <a:off x="5186880" y="2613240"/>
                <a:ext cx="228600" cy="22860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rot="20542800">
                <a:off x="5011560" y="2737440"/>
                <a:ext cx="228600" cy="22860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rot="20542800">
                <a:off x="4982400" y="2954880"/>
                <a:ext cx="228600" cy="22860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rot="20542800">
                <a:off x="5178960" y="3070800"/>
                <a:ext cx="228600" cy="22860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rot="20542800">
                <a:off x="4080960" y="1793160"/>
                <a:ext cx="7185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9900"/>
                    </a:solidFill>
                    <a:latin typeface="Arial"/>
                  </a:rPr>
                  <a:t>NH</a:t>
                </a:r>
                <a:r>
                  <a:rPr b="1" lang="en-US" sz="2000" spc="-1" strike="noStrike" baseline="-25000">
                    <a:solidFill>
                      <a:srgbClr val="ff9900"/>
                    </a:solidFill>
                    <a:latin typeface="Arial"/>
                  </a:rPr>
                  <a:t>3</a:t>
                </a:r>
                <a:r>
                  <a:rPr b="1" lang="en-US" sz="2000" spc="-1" strike="noStrike" baseline="30000">
                    <a:solidFill>
                      <a:srgbClr val="ff9900"/>
                    </a:solidFill>
                    <a:latin typeface="Arial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253400" y="2208240"/>
                <a:ext cx="51840" cy="163080"/>
              </a:xfrm>
              <a:prstGeom prst="line">
                <a:avLst/>
              </a:prstGeom>
              <a:ln w="4428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rot="20542800">
                <a:off x="5108760" y="2156040"/>
                <a:ext cx="48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r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rot="20542800">
                <a:off x="5230440" y="3076200"/>
                <a:ext cx="810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9900"/>
                    </a:solidFill>
                    <a:latin typeface="Arial"/>
                  </a:rPr>
                  <a:t>COO</a:t>
                </a:r>
                <a:r>
                  <a:rPr b="1" lang="en-US" sz="2000" spc="-1" strike="noStrike" baseline="30000">
                    <a:solidFill>
                      <a:srgbClr val="ff9900"/>
                    </a:solidFill>
                    <a:latin typeface="Arial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8" name=""/>
          <p:cNvSpPr/>
          <p:nvPr/>
        </p:nvSpPr>
        <p:spPr>
          <a:xfrm>
            <a:off x="2268360" y="4508640"/>
            <a:ext cx="2746440" cy="1944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0000"/>
                </a:solidFill>
                <a:latin typeface="Arial"/>
              </a:rPr>
              <a:t>ES UNA ENDOPEPTIDAS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0000"/>
                </a:solidFill>
                <a:latin typeface="Arial"/>
              </a:rPr>
              <a:t>HIDROLIZA UNIONES PEPTIDIC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0000"/>
                </a:solidFill>
                <a:latin typeface="Arial"/>
              </a:rPr>
              <a:t>ACTUA SOBRE GRUPOS AMINO DE AMINOACIDOS AROMATICOS HIDROLIZANDO LAS PROTEINAS A POLIPEPTIDOS DE ALTO P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3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1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6" dur="500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500"/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6" dur="500"/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590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591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96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7" name=""/>
          <p:cNvSpPr/>
          <p:nvPr/>
        </p:nvSpPr>
        <p:spPr>
          <a:xfrm>
            <a:off x="966600" y="642960"/>
            <a:ext cx="728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¿Cómo se digieren las proteínas de la dieta en el human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irma" descr=""/>
          <p:cNvPicPr/>
          <p:nvPr/>
        </p:nvPicPr>
        <p:blipFill>
          <a:blip r:embed="rId2"/>
          <a:stretch/>
        </p:blipFill>
        <p:spPr>
          <a:xfrm>
            <a:off x="1979640" y="1125360"/>
            <a:ext cx="5592600" cy="561672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5301360" y="6381720"/>
            <a:ext cx="21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xtraído de Lehninger, 200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012000" y="2637000"/>
            <a:ext cx="1152360" cy="431640"/>
          </a:xfrm>
          <a:prstGeom prst="ellipse">
            <a:avLst/>
          </a:prstGeom>
          <a:noFill/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7093800" y="1774440"/>
            <a:ext cx="648000" cy="1077480"/>
            <a:chOff x="7093800" y="1774440"/>
            <a:chExt cx="648000" cy="1077480"/>
          </a:xfrm>
        </p:grpSpPr>
        <p:sp>
          <p:nvSpPr>
            <p:cNvPr id="602" name=""/>
            <p:cNvSpPr/>
            <p:nvPr/>
          </p:nvSpPr>
          <p:spPr>
            <a:xfrm flipV="1">
              <a:off x="7163640" y="1774080"/>
              <a:ext cx="578160" cy="107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69144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691443"/>
                </a:path>
              </a:pathLst>
            </a:custGeom>
            <a:noFill/>
            <a:ln w="3168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7093800" y="2348640"/>
              <a:ext cx="578160" cy="50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69144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691443"/>
                </a:path>
              </a:pathLst>
            </a:custGeom>
            <a:noFill/>
            <a:ln w="3168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3924360" y="2492280"/>
            <a:ext cx="647640" cy="432000"/>
          </a:xfrm>
          <a:prstGeom prst="ellipse">
            <a:avLst/>
          </a:prstGeom>
          <a:noFill/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279680" y="3946680"/>
            <a:ext cx="86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ecret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419560" y="4307040"/>
            <a:ext cx="596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ff"/>
                </a:solidFill>
                <a:latin typeface="Arial"/>
              </a:rPr>
              <a:t>CO</a:t>
            </a:r>
            <a:r>
              <a:rPr b="1" lang="en-US" sz="1200" spc="-1" strike="noStrike" baseline="-25000">
                <a:solidFill>
                  <a:srgbClr val="66ffff"/>
                </a:solidFill>
                <a:latin typeface="Arial"/>
              </a:rPr>
              <a:t>3</a:t>
            </a:r>
            <a:r>
              <a:rPr b="1" lang="en-US" sz="1200" spc="-1" strike="noStrike">
                <a:solidFill>
                  <a:srgbClr val="66ffff"/>
                </a:solidFill>
                <a:latin typeface="Arial"/>
              </a:rPr>
              <a:t>H</a:t>
            </a:r>
            <a:r>
              <a:rPr b="1" lang="en-US" sz="1200" spc="-1" strike="noStrike" baseline="30000">
                <a:solidFill>
                  <a:srgbClr val="66ffff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078520" y="4365720"/>
            <a:ext cx="141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Colecistoquin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2771640" y="4510080"/>
            <a:ext cx="1295640" cy="358920"/>
          </a:xfrm>
          <a:prstGeom prst="ellipse">
            <a:avLst/>
          </a:prstGeom>
          <a:noFill/>
          <a:ln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CRECION  PANCREA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059280" y="2637000"/>
            <a:ext cx="18000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Secre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987640" y="3284640"/>
            <a:ext cx="287964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Colecistoquin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12720" y="2592360"/>
            <a:ext cx="187164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Contenido estomacal ac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340000" y="2276640"/>
            <a:ext cx="1368360" cy="21564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28800 h 215640"/>
              <a:gd name="textAreaBottom" fmla="*/ 186840 h 21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5867280" y="2492280"/>
            <a:ext cx="2089440" cy="835560"/>
            <a:chOff x="5867280" y="2492280"/>
            <a:chExt cx="2089440" cy="835560"/>
          </a:xfrm>
        </p:grpSpPr>
        <p:sp>
          <p:nvSpPr>
            <p:cNvPr id="616" name=""/>
            <p:cNvSpPr/>
            <p:nvPr/>
          </p:nvSpPr>
          <p:spPr>
            <a:xfrm>
              <a:off x="6732720" y="2817720"/>
              <a:ext cx="1224000" cy="5101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CO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s-E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867280" y="2492280"/>
              <a:ext cx="1368720" cy="216000"/>
            </a:xfrm>
            <a:custGeom>
              <a:avLst/>
              <a:gdLst>
                <a:gd name="textAreaLeft" fmla="*/ 239400 w 1368720"/>
                <a:gd name="textAreaRight" fmla="*/ 992520 w 1368720"/>
                <a:gd name="textAreaTop" fmla="*/ 28800 h 216000"/>
                <a:gd name="textAreaBottom" fmla="*/ 18720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" name=""/>
          <p:cNvSpPr/>
          <p:nvPr/>
        </p:nvSpPr>
        <p:spPr>
          <a:xfrm flipV="1">
            <a:off x="2195640" y="3933000"/>
            <a:ext cx="1368360" cy="28908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38520 h 289080"/>
              <a:gd name="textAreaBottom" fmla="*/ 250560 h 289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6012000" y="3645000"/>
            <a:ext cx="2952360" cy="1303200"/>
            <a:chOff x="6012000" y="3645000"/>
            <a:chExt cx="2952360" cy="1303200"/>
          </a:xfrm>
        </p:grpSpPr>
        <p:sp>
          <p:nvSpPr>
            <p:cNvPr id="620" name=""/>
            <p:cNvSpPr/>
            <p:nvPr/>
          </p:nvSpPr>
          <p:spPr>
            <a:xfrm>
              <a:off x="6832800" y="3932280"/>
              <a:ext cx="2131560" cy="10159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enzim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 zimógen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012000" y="3645000"/>
              <a:ext cx="1558440" cy="215640"/>
            </a:xfrm>
            <a:custGeom>
              <a:avLst/>
              <a:gdLst>
                <a:gd name="textAreaLeft" fmla="*/ 272520 w 1558440"/>
                <a:gd name="textAreaRight" fmla="*/ 1130040 w 1558440"/>
                <a:gd name="textAreaTop" fmla="*/ 28800 h 215640"/>
                <a:gd name="textAreaBottom" fmla="*/ 18684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8244000" y="2565000"/>
            <a:ext cx="649080" cy="863640"/>
            <a:chOff x="8244000" y="2565000"/>
            <a:chExt cx="649080" cy="863640"/>
          </a:xfrm>
        </p:grpSpPr>
        <p:sp>
          <p:nvSpPr>
            <p:cNvPr id="623" name=""/>
            <p:cNvSpPr/>
            <p:nvPr/>
          </p:nvSpPr>
          <p:spPr>
            <a:xfrm flipV="1">
              <a:off x="8244000" y="2565000"/>
              <a:ext cx="0" cy="86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244000" y="2781360"/>
              <a:ext cx="64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8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8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8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8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1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5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626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627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32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966600" y="642960"/>
            <a:ext cx="728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¿Cómo se digieren las proteínas de la dieta en el human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irma" descr=""/>
          <p:cNvPicPr/>
          <p:nvPr/>
        </p:nvPicPr>
        <p:blipFill>
          <a:blip r:embed="rId2"/>
          <a:stretch/>
        </p:blipFill>
        <p:spPr>
          <a:xfrm>
            <a:off x="1979640" y="1125360"/>
            <a:ext cx="5592600" cy="561672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5301360" y="6381720"/>
            <a:ext cx="21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xtraído de Lehninger, 200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6012000" y="2637000"/>
            <a:ext cx="1152360" cy="431640"/>
          </a:xfrm>
          <a:prstGeom prst="ellipse">
            <a:avLst/>
          </a:prstGeom>
          <a:noFill/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7093800" y="1774440"/>
            <a:ext cx="648000" cy="1077480"/>
            <a:chOff x="7093800" y="1774440"/>
            <a:chExt cx="648000" cy="1077480"/>
          </a:xfrm>
        </p:grpSpPr>
        <p:sp>
          <p:nvSpPr>
            <p:cNvPr id="638" name=""/>
            <p:cNvSpPr/>
            <p:nvPr/>
          </p:nvSpPr>
          <p:spPr>
            <a:xfrm flipV="1">
              <a:off x="7163640" y="1774080"/>
              <a:ext cx="578160" cy="107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69144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691443"/>
                </a:path>
              </a:pathLst>
            </a:custGeom>
            <a:noFill/>
            <a:ln w="3168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V="1">
              <a:off x="7093800" y="2348640"/>
              <a:ext cx="578160" cy="50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69144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691443"/>
                </a:path>
              </a:pathLst>
            </a:custGeom>
            <a:noFill/>
            <a:ln w="3168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0" name=""/>
          <p:cNvSpPr/>
          <p:nvPr/>
        </p:nvSpPr>
        <p:spPr>
          <a:xfrm>
            <a:off x="3924360" y="2492280"/>
            <a:ext cx="647640" cy="432000"/>
          </a:xfrm>
          <a:prstGeom prst="ellipse">
            <a:avLst/>
          </a:prstGeom>
          <a:noFill/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208040" y="3946680"/>
            <a:ext cx="86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ecret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2635200" y="4076640"/>
            <a:ext cx="596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ff"/>
                </a:solidFill>
                <a:latin typeface="Arial"/>
              </a:rPr>
              <a:t>CO</a:t>
            </a:r>
            <a:r>
              <a:rPr b="1" lang="en-US" sz="1200" spc="-1" strike="noStrike" baseline="-25000">
                <a:solidFill>
                  <a:srgbClr val="66ffff"/>
                </a:solidFill>
                <a:latin typeface="Arial"/>
              </a:rPr>
              <a:t>3</a:t>
            </a:r>
            <a:r>
              <a:rPr b="1" lang="en-US" sz="1200" spc="-1" strike="noStrike">
                <a:solidFill>
                  <a:srgbClr val="66ffff"/>
                </a:solidFill>
                <a:latin typeface="Arial"/>
              </a:rPr>
              <a:t>H</a:t>
            </a:r>
            <a:r>
              <a:rPr b="1" lang="en-US" sz="1200" spc="-1" strike="noStrike" baseline="30000">
                <a:solidFill>
                  <a:srgbClr val="66ffff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078520" y="4365720"/>
            <a:ext cx="141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Colecistoquin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771640" y="4508640"/>
            <a:ext cx="863640" cy="288720"/>
          </a:xfrm>
          <a:prstGeom prst="ellipse">
            <a:avLst/>
          </a:prstGeom>
          <a:noFill/>
          <a:ln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32840" cy="1141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igestión de Proteínas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I) En Duodeno e Intest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635280" y="2421000"/>
            <a:ext cx="690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4572000" y="2421000"/>
            <a:ext cx="890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635280" y="2421000"/>
            <a:ext cx="792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427640" y="2133720"/>
            <a:ext cx="0" cy="57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132000" y="1557360"/>
            <a:ext cx="2305080" cy="539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  <a:ea typeface="Arial"/>
              </a:rPr>
              <a:t>Tripsin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203640" y="2781360"/>
            <a:ext cx="2305080" cy="718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Arial"/>
                <a:ea typeface="Arial"/>
              </a:rPr>
              <a:t>Trips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50920" y="3716280"/>
            <a:ext cx="3058920" cy="539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  <a:ea typeface="Arial"/>
              </a:rPr>
              <a:t>Quimotripsin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50920" y="4581360"/>
            <a:ext cx="3492360" cy="865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  <a:ea typeface="Arial"/>
              </a:rPr>
              <a:t>Procarboxipeptidasas A y 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5580000" y="2060640"/>
            <a:ext cx="2305080" cy="539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Entero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24000" y="5805360"/>
            <a:ext cx="2305080" cy="540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i="1" lang="es-ES_tradnl" sz="2400" spc="-1" strike="noStrike">
                <a:solidFill>
                  <a:srgbClr val="333399"/>
                </a:solidFill>
                <a:latin typeface="Arial"/>
                <a:ea typeface="Arial"/>
              </a:rPr>
              <a:t>Proelasta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5796000" y="3645000"/>
            <a:ext cx="2305080" cy="5396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  <a:ea typeface="Arial"/>
              </a:rPr>
              <a:t>Quimotripsin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5651640" y="4724280"/>
            <a:ext cx="3024000" cy="7923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  <a:ea typeface="Arial"/>
              </a:rPr>
              <a:t>Carboxipeptidasas A y 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156360" y="6093000"/>
            <a:ext cx="1512720" cy="539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3300"/>
                </a:solidFill>
                <a:latin typeface="Arial"/>
                <a:ea typeface="Arial"/>
              </a:rPr>
              <a:t>Elast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924360" y="3716280"/>
            <a:ext cx="1079280" cy="2737080"/>
          </a:xfrm>
          <a:custGeom>
            <a:avLst/>
            <a:gdLst>
              <a:gd name="textAreaLeft" fmla="*/ 395280 w 1079280"/>
              <a:gd name="textAreaRight" fmla="*/ 684000 w 1079280"/>
              <a:gd name="textAreaTop" fmla="*/ 0 h 2737080"/>
              <a:gd name="textAreaBottom" fmla="*/ 2737440 h 2737080"/>
            </a:gdLst>
            <a:ahLst/>
            <a:rect l="textAreaLeft" t="textAreaTop" r="textAreaRight" b="textAreaBottom"/>
            <a:pathLst>
              <a:path w="21600" h="21600">
                <a:moveTo>
                  <a:pt x="7909" y="0"/>
                </a:moveTo>
                <a:lnTo>
                  <a:pt x="13691" y="0"/>
                </a:lnTo>
                <a:lnTo>
                  <a:pt x="13691" y="9828"/>
                </a:lnTo>
                <a:lnTo>
                  <a:pt x="17248" y="9828"/>
                </a:lnTo>
                <a:lnTo>
                  <a:pt x="17248" y="6925"/>
                </a:lnTo>
                <a:lnTo>
                  <a:pt x="21600" y="10800"/>
                </a:lnTo>
                <a:lnTo>
                  <a:pt x="17248" y="14675"/>
                </a:lnTo>
                <a:lnTo>
                  <a:pt x="17248" y="11772"/>
                </a:lnTo>
                <a:lnTo>
                  <a:pt x="13691" y="11772"/>
                </a:lnTo>
                <a:lnTo>
                  <a:pt x="13691" y="21600"/>
                </a:lnTo>
                <a:lnTo>
                  <a:pt x="7909" y="21600"/>
                </a:lnTo>
                <a:lnTo>
                  <a:pt x="7909" y="11772"/>
                </a:lnTo>
                <a:lnTo>
                  <a:pt x="4352" y="11772"/>
                </a:lnTo>
                <a:lnTo>
                  <a:pt x="4352" y="14675"/>
                </a:lnTo>
                <a:lnTo>
                  <a:pt x="0" y="10800"/>
                </a:lnTo>
                <a:lnTo>
                  <a:pt x="4352" y="6925"/>
                </a:lnTo>
                <a:lnTo>
                  <a:pt x="4352" y="9828"/>
                </a:lnTo>
                <a:lnTo>
                  <a:pt x="7909" y="9828"/>
                </a:lnTo>
                <a:close/>
              </a:path>
            </a:pathLst>
          </a:custGeom>
          <a:solidFill>
            <a:srgbClr val="2ce8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284720" y="3933720"/>
            <a:ext cx="360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0" y="2492280"/>
            <a:ext cx="1728720" cy="108108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INAC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7415280" y="2565360"/>
            <a:ext cx="1728720" cy="108108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  <a:ea typeface="Arial"/>
              </a:rPr>
              <a:t>AC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8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8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8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8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9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2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0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3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8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3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8" dur="2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1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6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1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6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ce8f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QUE TIPO DE ENLACES PEPTIDICOS HIDROLIZAN 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ipsina (endopeptidasa) : grupos carbonilo de         </a:t>
            </a:r>
            <a:r>
              <a:rPr b="1" i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lisina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i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arginin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imotripsina (endopeptidasa) grupos carboxilo de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fenilalanina, tirosina, triptofano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carboxipeptidasas (exopeptidasas) eliminan restos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arboxilos terminales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1378080" y="333360"/>
            <a:ext cx="654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Digestión intraluminal de proteí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por acción de proteasas pancreá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114840" y="2216160"/>
            <a:ext cx="1823760" cy="3864600"/>
            <a:chOff x="114840" y="2216160"/>
            <a:chExt cx="1823760" cy="3864600"/>
          </a:xfrm>
        </p:grpSpPr>
        <p:sp>
          <p:nvSpPr>
            <p:cNvPr id="667" name=""/>
            <p:cNvSpPr/>
            <p:nvPr/>
          </p:nvSpPr>
          <p:spPr>
            <a:xfrm>
              <a:off x="533520" y="26272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447920" y="2838600"/>
              <a:ext cx="449280" cy="279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33520" y="284976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62120" y="28558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990720" y="28558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219320" y="28558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558800" y="31086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389240" y="32608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184400" y="332604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090440" y="35244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243080" y="36943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460520" y="3719520"/>
              <a:ext cx="449280" cy="279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535040" y="400536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365120" y="415764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160640" y="42228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066680" y="442116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219320" y="45910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447920" y="4557960"/>
              <a:ext cx="449280" cy="279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5400000">
              <a:off x="914040" y="542304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 rot="5400000">
              <a:off x="1066320" y="527076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 rot="5400000">
              <a:off x="1288800" y="52056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 rot="5400000">
              <a:off x="1382400" y="500724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5400000">
              <a:off x="1545840" y="48373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92200" y="5524560"/>
              <a:ext cx="0" cy="17136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14840" y="5681880"/>
              <a:ext cx="81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44680" y="2216160"/>
              <a:ext cx="718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62040" y="2562480"/>
              <a:ext cx="0" cy="17136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 rot="5400000">
              <a:off x="474480" y="542304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 rot="5400000">
              <a:off x="696600" y="53578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435320" y="28386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r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431720" y="3716640"/>
              <a:ext cx="50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h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431360" y="4554720"/>
              <a:ext cx="49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e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1978200" y="2200320"/>
            <a:ext cx="1782720" cy="794880"/>
            <a:chOff x="1978200" y="2200320"/>
            <a:chExt cx="1782720" cy="794880"/>
          </a:xfrm>
        </p:grpSpPr>
        <p:sp>
          <p:nvSpPr>
            <p:cNvPr id="700" name=""/>
            <p:cNvSpPr/>
            <p:nvPr/>
          </p:nvSpPr>
          <p:spPr>
            <a:xfrm flipH="1">
              <a:off x="1978200" y="2376360"/>
              <a:ext cx="1782720" cy="618840"/>
            </a:xfrm>
            <a:prstGeom prst="line">
              <a:avLst/>
            </a:prstGeom>
            <a:ln w="6336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210760" y="2200320"/>
              <a:ext cx="107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Trips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1905480" y="3470400"/>
            <a:ext cx="1899720" cy="382320"/>
            <a:chOff x="1905480" y="3470400"/>
            <a:chExt cx="1899720" cy="382320"/>
          </a:xfrm>
        </p:grpSpPr>
        <p:sp>
          <p:nvSpPr>
            <p:cNvPr id="703" name=""/>
            <p:cNvSpPr/>
            <p:nvPr/>
          </p:nvSpPr>
          <p:spPr>
            <a:xfrm>
              <a:off x="1905480" y="3470400"/>
              <a:ext cx="173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Quimotrips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 flipH="1">
              <a:off x="1998720" y="3852720"/>
              <a:ext cx="1806480" cy="0"/>
            </a:xfrm>
            <a:prstGeom prst="line">
              <a:avLst/>
            </a:prstGeom>
            <a:ln w="6336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1981080" y="4681080"/>
            <a:ext cx="1852560" cy="851040"/>
            <a:chOff x="1981080" y="4681080"/>
            <a:chExt cx="1852560" cy="851040"/>
          </a:xfrm>
        </p:grpSpPr>
        <p:sp>
          <p:nvSpPr>
            <p:cNvPr id="706" name=""/>
            <p:cNvSpPr/>
            <p:nvPr/>
          </p:nvSpPr>
          <p:spPr>
            <a:xfrm>
              <a:off x="2212200" y="5163840"/>
              <a:ext cx="110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Elast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 flipV="1">
              <a:off x="1981080" y="4681080"/>
              <a:ext cx="1852560" cy="804600"/>
            </a:xfrm>
            <a:prstGeom prst="line">
              <a:avLst/>
            </a:prstGeom>
            <a:ln w="6336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3809880" y="1658880"/>
            <a:ext cx="1482120" cy="1354320"/>
            <a:chOff x="3809880" y="1658880"/>
            <a:chExt cx="1482120" cy="1354320"/>
          </a:xfrm>
        </p:grpSpPr>
        <p:sp>
          <p:nvSpPr>
            <p:cNvPr id="709" name=""/>
            <p:cNvSpPr/>
            <p:nvPr/>
          </p:nvSpPr>
          <p:spPr>
            <a:xfrm>
              <a:off x="3809880" y="20700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724280" y="2280960"/>
              <a:ext cx="449280" cy="279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809880" y="22921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038480" y="22986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267080" y="22986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495680" y="22986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21400" y="1658880"/>
              <a:ext cx="718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38760" y="2004840"/>
              <a:ext cx="0" cy="17136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711680" y="22809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r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951440" y="2568240"/>
              <a:ext cx="0" cy="112680"/>
            </a:xfrm>
            <a:prstGeom prst="line">
              <a:avLst/>
            </a:prstGeom>
            <a:ln w="442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482000" y="2614320"/>
              <a:ext cx="81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3962520" y="3009960"/>
            <a:ext cx="1186920" cy="1718280"/>
            <a:chOff x="3962520" y="3009960"/>
            <a:chExt cx="1186920" cy="1718280"/>
          </a:xfrm>
        </p:grpSpPr>
        <p:sp>
          <p:nvSpPr>
            <p:cNvPr id="721" name=""/>
            <p:cNvSpPr/>
            <p:nvPr/>
          </p:nvSpPr>
          <p:spPr>
            <a:xfrm>
              <a:off x="4430880" y="341316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260960" y="35658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056120" y="36306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962520" y="38293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114800" y="39988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332240" y="4024440"/>
              <a:ext cx="449280" cy="279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303440" y="4021200"/>
              <a:ext cx="50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h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430880" y="3009960"/>
              <a:ext cx="718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548240" y="3356280"/>
              <a:ext cx="0" cy="17136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554360" y="4265640"/>
              <a:ext cx="0" cy="112680"/>
            </a:xfrm>
            <a:prstGeom prst="line">
              <a:avLst/>
            </a:prstGeom>
            <a:ln w="442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084920" y="4329360"/>
              <a:ext cx="81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4025880" y="4738680"/>
            <a:ext cx="1194840" cy="1649520"/>
            <a:chOff x="4025880" y="4738680"/>
            <a:chExt cx="1194840" cy="1649520"/>
          </a:xfrm>
        </p:grpSpPr>
        <p:sp>
          <p:nvSpPr>
            <p:cNvPr id="733" name=""/>
            <p:cNvSpPr/>
            <p:nvPr/>
          </p:nvSpPr>
          <p:spPr>
            <a:xfrm>
              <a:off x="4494240" y="5148000"/>
              <a:ext cx="22860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324320" y="5300280"/>
              <a:ext cx="22860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119480" y="5365440"/>
              <a:ext cx="22860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025880" y="5563800"/>
              <a:ext cx="22860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178160" y="5733720"/>
              <a:ext cx="22860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406760" y="5700600"/>
              <a:ext cx="449280" cy="279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390560" y="5697360"/>
              <a:ext cx="49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e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502160" y="4738680"/>
              <a:ext cx="718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619520" y="5084640"/>
              <a:ext cx="0" cy="17100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638600" y="5925960"/>
              <a:ext cx="0" cy="112320"/>
            </a:xfrm>
            <a:prstGeom prst="line">
              <a:avLst/>
            </a:prstGeom>
            <a:ln w="442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169160" y="5989320"/>
              <a:ext cx="81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7331040" y="3411360"/>
            <a:ext cx="1223280" cy="1321200"/>
            <a:chOff x="7331040" y="3411360"/>
            <a:chExt cx="1223280" cy="1321200"/>
          </a:xfrm>
        </p:grpSpPr>
        <p:sp>
          <p:nvSpPr>
            <p:cNvPr id="745" name=""/>
            <p:cNvSpPr/>
            <p:nvPr/>
          </p:nvSpPr>
          <p:spPr>
            <a:xfrm>
              <a:off x="7799400" y="382104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629480" y="39733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424640" y="40384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331040" y="423684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483320" y="440676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807320" y="3411360"/>
              <a:ext cx="718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924680" y="3757320"/>
              <a:ext cx="0" cy="17136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744320" y="4333680"/>
              <a:ext cx="81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 flipH="1">
              <a:off x="7610400" y="4520880"/>
              <a:ext cx="171360" cy="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4" name=""/>
          <p:cNvGrpSpPr/>
          <p:nvPr/>
        </p:nvGrpSpPr>
        <p:grpSpPr>
          <a:xfrm>
            <a:off x="7189920" y="2268360"/>
            <a:ext cx="1745280" cy="1220760"/>
            <a:chOff x="7189920" y="2268360"/>
            <a:chExt cx="1745280" cy="1220760"/>
          </a:xfrm>
        </p:grpSpPr>
        <p:sp>
          <p:nvSpPr>
            <p:cNvPr id="755" name=""/>
            <p:cNvSpPr/>
            <p:nvPr/>
          </p:nvSpPr>
          <p:spPr>
            <a:xfrm>
              <a:off x="7189920" y="26794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189920" y="29016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418520" y="29080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647120" y="29080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875720" y="29080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201080" y="2268360"/>
              <a:ext cx="718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318440" y="2614320"/>
              <a:ext cx="0" cy="17136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125200" y="2831760"/>
              <a:ext cx="81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>
              <a:off x="8008920" y="3019320"/>
              <a:ext cx="171360" cy="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194240" y="3120840"/>
              <a:ext cx="172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ligopépt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5" name=""/>
          <p:cNvGrpSpPr/>
          <p:nvPr/>
        </p:nvGrpSpPr>
        <p:grpSpPr>
          <a:xfrm>
            <a:off x="7236000" y="1628640"/>
            <a:ext cx="1585800" cy="619920"/>
            <a:chOff x="7236000" y="1628640"/>
            <a:chExt cx="1585800" cy="619920"/>
          </a:xfrm>
        </p:grpSpPr>
        <p:sp>
          <p:nvSpPr>
            <p:cNvPr id="766" name=""/>
            <p:cNvSpPr/>
            <p:nvPr/>
          </p:nvSpPr>
          <p:spPr>
            <a:xfrm>
              <a:off x="7726320" y="1630080"/>
              <a:ext cx="449280" cy="279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713720" y="16300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r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8200800" y="1641240"/>
              <a:ext cx="621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8120160" y="1776240"/>
              <a:ext cx="147600" cy="3240"/>
            </a:xfrm>
            <a:prstGeom prst="line">
              <a:avLst/>
            </a:prstGeom>
            <a:ln w="442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236000" y="1628640"/>
              <a:ext cx="494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 flipV="1">
              <a:off x="7651800" y="1776240"/>
              <a:ext cx="147600" cy="1440"/>
            </a:xfrm>
            <a:prstGeom prst="line">
              <a:avLst/>
            </a:prstGeom>
            <a:ln w="442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310880" y="191124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AA Básic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3" name=""/>
          <p:cNvGrpSpPr/>
          <p:nvPr/>
        </p:nvGrpSpPr>
        <p:grpSpPr>
          <a:xfrm>
            <a:off x="7243920" y="4935600"/>
            <a:ext cx="1609560" cy="1131120"/>
            <a:chOff x="7243920" y="4935600"/>
            <a:chExt cx="1609560" cy="1131120"/>
          </a:xfrm>
        </p:grpSpPr>
        <p:sp>
          <p:nvSpPr>
            <p:cNvPr id="774" name=""/>
            <p:cNvSpPr/>
            <p:nvPr/>
          </p:nvSpPr>
          <p:spPr>
            <a:xfrm>
              <a:off x="7758000" y="5381640"/>
              <a:ext cx="449280" cy="279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745040" y="5381640"/>
              <a:ext cx="49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e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8232480" y="5392800"/>
              <a:ext cx="621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8151840" y="5527800"/>
              <a:ext cx="147600" cy="3240"/>
            </a:xfrm>
            <a:prstGeom prst="line">
              <a:avLst/>
            </a:prstGeom>
            <a:ln w="442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267680" y="5380200"/>
              <a:ext cx="494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7683480" y="5527800"/>
              <a:ext cx="147600" cy="1440"/>
            </a:xfrm>
            <a:prstGeom prst="line">
              <a:avLst/>
            </a:prstGeom>
            <a:ln w="442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734240" y="4937400"/>
              <a:ext cx="449280" cy="279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721280" y="4937400"/>
              <a:ext cx="50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h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8208720" y="4948200"/>
              <a:ext cx="621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8128080" y="5083200"/>
              <a:ext cx="147600" cy="3240"/>
            </a:xfrm>
            <a:prstGeom prst="line">
              <a:avLst/>
            </a:prstGeom>
            <a:ln w="442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243920" y="4935600"/>
              <a:ext cx="494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>
              <a:off x="7659720" y="5082840"/>
              <a:ext cx="147600" cy="1800"/>
            </a:xfrm>
            <a:prstGeom prst="line">
              <a:avLst/>
            </a:prstGeom>
            <a:ln w="442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295400" y="5729400"/>
              <a:ext cx="129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AA Neutr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5334120" y="1793880"/>
            <a:ext cx="1868400" cy="642600"/>
            <a:chOff x="5334120" y="1793880"/>
            <a:chExt cx="1868400" cy="642600"/>
          </a:xfrm>
        </p:grpSpPr>
        <p:sp>
          <p:nvSpPr>
            <p:cNvPr id="788" name=""/>
            <p:cNvSpPr/>
            <p:nvPr/>
          </p:nvSpPr>
          <p:spPr>
            <a:xfrm flipH="1">
              <a:off x="5334120" y="2421000"/>
              <a:ext cx="1868400" cy="0"/>
            </a:xfrm>
            <a:prstGeom prst="line">
              <a:avLst/>
            </a:prstGeom>
            <a:ln w="6336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402520" y="1793880"/>
              <a:ext cx="1488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Carboxi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Peptidas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5293800" y="4124160"/>
            <a:ext cx="1868760" cy="642600"/>
            <a:chOff x="5293800" y="4124160"/>
            <a:chExt cx="1868760" cy="642600"/>
          </a:xfrm>
        </p:grpSpPr>
        <p:sp>
          <p:nvSpPr>
            <p:cNvPr id="791" name=""/>
            <p:cNvSpPr/>
            <p:nvPr/>
          </p:nvSpPr>
          <p:spPr>
            <a:xfrm flipH="1">
              <a:off x="5293800" y="4751280"/>
              <a:ext cx="1868760" cy="0"/>
            </a:xfrm>
            <a:prstGeom prst="line">
              <a:avLst/>
            </a:prstGeom>
            <a:ln w="6336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362920" y="4124160"/>
              <a:ext cx="1488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Carboxi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Peptidas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3" name=""/>
          <p:cNvSpPr/>
          <p:nvPr/>
        </p:nvSpPr>
        <p:spPr>
          <a:xfrm>
            <a:off x="6732720" y="2246400"/>
            <a:ext cx="2411280" cy="25923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804000" y="3181320"/>
            <a:ext cx="234000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Peptida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9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1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9" dur="1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1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97" dur="2000" fill="hold"/>
                                        <p:tgtEl>
                                          <p:spTgt spid="7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5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796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797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0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02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3" name=""/>
          <p:cNvSpPr/>
          <p:nvPr/>
        </p:nvSpPr>
        <p:spPr>
          <a:xfrm>
            <a:off x="966600" y="642960"/>
            <a:ext cx="728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¿Cómo se digieren las proteínas de la dieta en el human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" name="irma" descr=""/>
          <p:cNvPicPr/>
          <p:nvPr/>
        </p:nvPicPr>
        <p:blipFill>
          <a:blip r:embed="rId2"/>
          <a:stretch/>
        </p:blipFill>
        <p:spPr>
          <a:xfrm>
            <a:off x="1979640" y="1125360"/>
            <a:ext cx="5592600" cy="5616720"/>
          </a:xfrm>
          <a:prstGeom prst="rect">
            <a:avLst/>
          </a:prstGeom>
          <a:ln w="0">
            <a:noFill/>
          </a:ln>
        </p:spPr>
      </p:pic>
      <p:sp>
        <p:nvSpPr>
          <p:cNvPr id="805" name=""/>
          <p:cNvSpPr/>
          <p:nvPr/>
        </p:nvSpPr>
        <p:spPr>
          <a:xfrm>
            <a:off x="5301360" y="6381720"/>
            <a:ext cx="21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xtraído de Lehninger, 200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6012000" y="2637000"/>
            <a:ext cx="1152360" cy="431640"/>
          </a:xfrm>
          <a:prstGeom prst="ellipse">
            <a:avLst/>
          </a:prstGeom>
          <a:noFill/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"/>
          <p:cNvGrpSpPr/>
          <p:nvPr/>
        </p:nvGrpSpPr>
        <p:grpSpPr>
          <a:xfrm>
            <a:off x="7093800" y="1774440"/>
            <a:ext cx="648000" cy="1077480"/>
            <a:chOff x="7093800" y="1774440"/>
            <a:chExt cx="648000" cy="1077480"/>
          </a:xfrm>
        </p:grpSpPr>
        <p:sp>
          <p:nvSpPr>
            <p:cNvPr id="808" name=""/>
            <p:cNvSpPr/>
            <p:nvPr/>
          </p:nvSpPr>
          <p:spPr>
            <a:xfrm flipV="1">
              <a:off x="7163640" y="1774080"/>
              <a:ext cx="578160" cy="107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69144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691443"/>
                </a:path>
              </a:pathLst>
            </a:custGeom>
            <a:noFill/>
            <a:ln w="3168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 flipV="1">
              <a:off x="7093800" y="2348640"/>
              <a:ext cx="578160" cy="50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69144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691443"/>
                </a:path>
              </a:pathLst>
            </a:custGeom>
            <a:noFill/>
            <a:ln w="3168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0" name=""/>
          <p:cNvSpPr/>
          <p:nvPr/>
        </p:nvSpPr>
        <p:spPr>
          <a:xfrm>
            <a:off x="3924360" y="2492280"/>
            <a:ext cx="647640" cy="432000"/>
          </a:xfrm>
          <a:prstGeom prst="ellipse">
            <a:avLst/>
          </a:prstGeom>
          <a:noFill/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3995280" y="3946680"/>
            <a:ext cx="86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cret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635200" y="4076640"/>
            <a:ext cx="596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5078520" y="4365720"/>
            <a:ext cx="141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olecistoquin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2771640" y="4437000"/>
            <a:ext cx="1295640" cy="504720"/>
          </a:xfrm>
          <a:prstGeom prst="ellipse">
            <a:avLst/>
          </a:prstGeom>
          <a:noFill/>
          <a:ln w="316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6227640" y="5661000"/>
            <a:ext cx="1295640" cy="50472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3490560" y="5291280"/>
            <a:ext cx="1297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Arial"/>
              </a:rPr>
              <a:t>Aminoáci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Arial"/>
              </a:rPr>
              <a:t>Dipépti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Arial"/>
              </a:rPr>
              <a:t>Tripépti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31840" y="733320"/>
            <a:ext cx="8372520" cy="56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Arial"/>
              </a:rPr>
              <a:t>Conocimientos previ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451"/>
              </a:spcAft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Ciclo del nitróge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451"/>
              </a:spcAft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Sistemas digestivo, circulatorio, endocri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451"/>
              </a:spcAft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Estructura química de proteínas y aminoácidos. Nomenclatu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451"/>
              </a:spcAft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Transporte mediado activo. Difusión facilit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451"/>
              </a:spcAft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Actividad enzimática y su regulación. Acción de cofactores y modulad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451"/>
              </a:spcAft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Metabolismo. Regulación. Balance energét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451"/>
              </a:spcAft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Glucóli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451"/>
              </a:spcAft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Ciclo de Kre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63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64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9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"/>
          <p:cNvSpPr/>
          <p:nvPr/>
        </p:nvSpPr>
        <p:spPr>
          <a:xfrm>
            <a:off x="542160" y="326880"/>
            <a:ext cx="82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bsorción intestinal de aminoácidos y pépt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95280" y="1413000"/>
            <a:ext cx="856944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Arial"/>
              </a:rPr>
              <a:t>- Ocurre por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transportadores de aminoácidos y péptidos</a:t>
            </a:r>
            <a:r>
              <a:rPr b="1" lang="en-US" sz="2400" spc="-1" strike="noStrike">
                <a:solidFill>
                  <a:srgbClr val="0099cc"/>
                </a:solidFill>
                <a:latin typeface="Arial"/>
              </a:rPr>
              <a:t> del borde en cepillo de las células intestin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Arial"/>
              </a:rPr>
              <a:t>- Transporte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activo Na</a:t>
            </a:r>
            <a:r>
              <a:rPr b="1" lang="en-US" sz="2400" spc="-1" strike="noStrike" baseline="30000">
                <a:solidFill>
                  <a:srgbClr val="ff99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-dependiente</a:t>
            </a:r>
            <a:r>
              <a:rPr b="1" lang="en-US" sz="2400" spc="-1" strike="noStrike">
                <a:solidFill>
                  <a:srgbClr val="0099cc"/>
                </a:solidFill>
                <a:latin typeface="Arial"/>
              </a:rPr>
              <a:t> y transporte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pasivo Na</a:t>
            </a:r>
            <a:r>
              <a:rPr b="1" lang="en-US" sz="2400" spc="-1" strike="noStrike" baseline="30000">
                <a:solidFill>
                  <a:srgbClr val="ff99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-independiente</a:t>
            </a:r>
            <a:r>
              <a:rPr b="1" lang="en-US" sz="2400" spc="-1" strike="noStrike">
                <a:solidFill>
                  <a:srgbClr val="0099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Arial"/>
              </a:rPr>
              <a:t>- Necesidad de múltiples transportadores determinados por la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diferencia de tamaño y carga</a:t>
            </a:r>
            <a:r>
              <a:rPr b="1" lang="en-US" sz="2400" spc="-1" strike="noStrike">
                <a:solidFill>
                  <a:srgbClr val="0099cc"/>
                </a:solidFill>
                <a:latin typeface="Arial"/>
              </a:rPr>
              <a:t> de los aminoácidos y pépt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9" name=""/>
          <p:cNvGrpSpPr/>
          <p:nvPr/>
        </p:nvGrpSpPr>
        <p:grpSpPr>
          <a:xfrm>
            <a:off x="6240600" y="4087800"/>
            <a:ext cx="1709640" cy="701640"/>
            <a:chOff x="6240600" y="4087800"/>
            <a:chExt cx="1709640" cy="701640"/>
          </a:xfrm>
        </p:grpSpPr>
        <p:sp>
          <p:nvSpPr>
            <p:cNvPr id="820" name=""/>
            <p:cNvSpPr/>
            <p:nvPr/>
          </p:nvSpPr>
          <p:spPr>
            <a:xfrm>
              <a:off x="6240600" y="4176720"/>
              <a:ext cx="255600" cy="558720"/>
            </a:xfrm>
            <a:prstGeom prst="octagon">
              <a:avLst>
                <a:gd name="adj" fmla="val 29264"/>
              </a:avLst>
            </a:prstGeom>
            <a:solidFill>
              <a:srgbClr val="ffa27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701120" y="4168800"/>
              <a:ext cx="249120" cy="615960"/>
            </a:xfrm>
            <a:prstGeom prst="octagon">
              <a:avLst>
                <a:gd name="adj" fmla="val 29264"/>
              </a:avLst>
            </a:prstGeom>
            <a:solidFill>
              <a:srgbClr val="ffa27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461280" y="4186080"/>
              <a:ext cx="239400" cy="557280"/>
            </a:xfrm>
            <a:prstGeom prst="octagon">
              <a:avLst>
                <a:gd name="adj" fmla="val 29264"/>
              </a:avLst>
            </a:prstGeom>
            <a:solidFill>
              <a:srgbClr val="ffa27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654960" y="4173480"/>
              <a:ext cx="255600" cy="558720"/>
            </a:xfrm>
            <a:prstGeom prst="octagon">
              <a:avLst>
                <a:gd name="adj" fmla="val 29264"/>
              </a:avLst>
            </a:prstGeom>
            <a:solidFill>
              <a:srgbClr val="ffa27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875640" y="4181400"/>
              <a:ext cx="203040" cy="560520"/>
            </a:xfrm>
            <a:prstGeom prst="octagon">
              <a:avLst>
                <a:gd name="adj" fmla="val 29264"/>
              </a:avLst>
            </a:prstGeom>
            <a:solidFill>
              <a:srgbClr val="ffa27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039080" y="4173480"/>
              <a:ext cx="217440" cy="558720"/>
            </a:xfrm>
            <a:prstGeom prst="octagon">
              <a:avLst>
                <a:gd name="adj" fmla="val 29264"/>
              </a:avLst>
            </a:prstGeom>
            <a:solidFill>
              <a:srgbClr val="ffa27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242120" y="4173480"/>
              <a:ext cx="233280" cy="615960"/>
            </a:xfrm>
            <a:prstGeom prst="octagon">
              <a:avLst>
                <a:gd name="adj" fmla="val 29264"/>
              </a:avLst>
            </a:prstGeom>
            <a:solidFill>
              <a:srgbClr val="ffa27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458120" y="4168800"/>
              <a:ext cx="249120" cy="615960"/>
            </a:xfrm>
            <a:prstGeom prst="octagon">
              <a:avLst>
                <a:gd name="adj" fmla="val 29264"/>
              </a:avLst>
            </a:prstGeom>
            <a:solidFill>
              <a:srgbClr val="ffa27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434280" y="4087800"/>
              <a:ext cx="345960" cy="244440"/>
            </a:xfrm>
            <a:prstGeom prst="ellipse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4492800" y="4119480"/>
            <a:ext cx="1571400" cy="641520"/>
            <a:chOff x="4492800" y="4119480"/>
            <a:chExt cx="1571400" cy="641520"/>
          </a:xfrm>
        </p:grpSpPr>
        <p:sp>
          <p:nvSpPr>
            <p:cNvPr id="830" name=""/>
            <p:cNvSpPr/>
            <p:nvPr/>
          </p:nvSpPr>
          <p:spPr>
            <a:xfrm>
              <a:off x="4492800" y="4200480"/>
              <a:ext cx="291960" cy="560520"/>
            </a:xfrm>
            <a:prstGeom prst="octagon">
              <a:avLst>
                <a:gd name="adj" fmla="val 29264"/>
              </a:avLst>
            </a:prstGeom>
            <a:solidFill>
              <a:srgbClr val="ffa27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722840" y="4189320"/>
              <a:ext cx="272880" cy="558720"/>
            </a:xfrm>
            <a:prstGeom prst="octagon">
              <a:avLst>
                <a:gd name="adj" fmla="val 29264"/>
              </a:avLst>
            </a:prstGeom>
            <a:solidFill>
              <a:srgbClr val="ffa27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151600" y="4189320"/>
              <a:ext cx="272880" cy="558720"/>
            </a:xfrm>
            <a:prstGeom prst="octagon">
              <a:avLst>
                <a:gd name="adj" fmla="val 29264"/>
              </a:avLst>
            </a:prstGeom>
            <a:solidFill>
              <a:srgbClr val="ffa27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938840" y="4197240"/>
              <a:ext cx="241200" cy="559080"/>
            </a:xfrm>
            <a:prstGeom prst="octagon">
              <a:avLst>
                <a:gd name="adj" fmla="val 29264"/>
              </a:avLst>
            </a:prstGeom>
            <a:solidFill>
              <a:srgbClr val="ffa27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80200" y="4178160"/>
              <a:ext cx="272880" cy="560520"/>
            </a:xfrm>
            <a:prstGeom prst="octagon">
              <a:avLst>
                <a:gd name="adj" fmla="val 29264"/>
              </a:avLst>
            </a:prstGeom>
            <a:solidFill>
              <a:srgbClr val="ffa27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595840" y="4172040"/>
              <a:ext cx="271440" cy="557280"/>
            </a:xfrm>
            <a:prstGeom prst="octagon">
              <a:avLst>
                <a:gd name="adj" fmla="val 29264"/>
              </a:avLst>
            </a:prstGeom>
            <a:solidFill>
              <a:srgbClr val="ffa27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810400" y="4178160"/>
              <a:ext cx="253800" cy="560520"/>
            </a:xfrm>
            <a:prstGeom prst="octagon">
              <a:avLst>
                <a:gd name="adj" fmla="val 29264"/>
              </a:avLst>
            </a:prstGeom>
            <a:solidFill>
              <a:srgbClr val="ffa27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886280" y="4119480"/>
              <a:ext cx="345960" cy="236520"/>
            </a:xfrm>
            <a:prstGeom prst="ellipse">
              <a:avLst/>
            </a:prstGeom>
            <a:solidFill>
              <a:srgbClr val="ff00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"/>
          <p:cNvSpPr/>
          <p:nvPr/>
        </p:nvSpPr>
        <p:spPr>
          <a:xfrm>
            <a:off x="3995640" y="4441680"/>
            <a:ext cx="3956040" cy="1527480"/>
          </a:xfrm>
          <a:prstGeom prst="roundRect">
            <a:avLst>
              <a:gd name="adj" fmla="val 12468"/>
            </a:avLst>
          </a:prstGeom>
          <a:solidFill>
            <a:srgbClr val="ffa27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490680" y="365040"/>
            <a:ext cx="836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ransporte intestinal de aminoác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28600" y="1219320"/>
            <a:ext cx="8915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Ocurre por varios mecanism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% Relativo para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lan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. activo dependiente de Na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7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. facilitado independiente de Na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ifusión pasiva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&lt; 5%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4265640" y="4192560"/>
            <a:ext cx="271440" cy="558720"/>
          </a:xfrm>
          <a:prstGeom prst="octagon">
            <a:avLst>
              <a:gd name="adj" fmla="val 29264"/>
            </a:avLst>
          </a:prstGeom>
          <a:solidFill>
            <a:srgbClr val="ffa27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6026040" y="4168800"/>
            <a:ext cx="254160" cy="558720"/>
          </a:xfrm>
          <a:prstGeom prst="octagon">
            <a:avLst>
              <a:gd name="adj" fmla="val 29264"/>
            </a:avLst>
          </a:prstGeom>
          <a:solidFill>
            <a:srgbClr val="ffa27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085160" y="3657600"/>
            <a:ext cx="1719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30240" bIns="3024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minoác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4013280" y="4181400"/>
            <a:ext cx="249120" cy="615960"/>
          </a:xfrm>
          <a:prstGeom prst="octagon">
            <a:avLst>
              <a:gd name="adj" fmla="val 29264"/>
            </a:avLst>
          </a:prstGeom>
          <a:solidFill>
            <a:srgbClr val="ffa27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4010040" y="4365720"/>
            <a:ext cx="3927600" cy="539640"/>
          </a:xfrm>
          <a:prstGeom prst="rect">
            <a:avLst/>
          </a:prstGeom>
          <a:solidFill>
            <a:srgbClr val="ffa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1143000" y="3540240"/>
            <a:ext cx="1619640" cy="5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30240" bIns="3024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LU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NTEST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1047960" y="4959360"/>
            <a:ext cx="17906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30240" bIns="3024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NTEROC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1294560" y="6110280"/>
            <a:ext cx="1281600" cy="5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30240" bIns="3024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SANG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OR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1969920" y="4205160"/>
            <a:ext cx="1995480" cy="180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1941480" y="5934240"/>
            <a:ext cx="200196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4681440" y="5891040"/>
            <a:ext cx="347760" cy="135000"/>
          </a:xfrm>
          <a:prstGeom prst="ellipse">
            <a:avLst/>
          </a:prstGeom>
          <a:solidFill>
            <a:srgbClr val="cc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2794320" y="3664080"/>
            <a:ext cx="1719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30240" bIns="3024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minoác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7365960" y="5891040"/>
            <a:ext cx="347760" cy="135000"/>
          </a:xfrm>
          <a:prstGeom prst="ellipse">
            <a:avLst/>
          </a:prstGeom>
          <a:solidFill>
            <a:srgbClr val="33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4" name=""/>
          <p:cNvGrpSpPr/>
          <p:nvPr/>
        </p:nvGrpSpPr>
        <p:grpSpPr>
          <a:xfrm>
            <a:off x="6334920" y="3831480"/>
            <a:ext cx="1557360" cy="1239840"/>
            <a:chOff x="6334920" y="3831480"/>
            <a:chExt cx="1557360" cy="1239840"/>
          </a:xfrm>
        </p:grpSpPr>
        <p:grpSp>
          <p:nvGrpSpPr>
            <p:cNvPr id="855" name=""/>
            <p:cNvGrpSpPr/>
            <p:nvPr/>
          </p:nvGrpSpPr>
          <p:grpSpPr>
            <a:xfrm>
              <a:off x="6707520" y="3831480"/>
              <a:ext cx="961200" cy="1088640"/>
              <a:chOff x="6707520" y="3831480"/>
              <a:chExt cx="961200" cy="1088640"/>
            </a:xfrm>
          </p:grpSpPr>
          <p:sp>
            <p:nvSpPr>
              <p:cNvPr id="856" name=""/>
              <p:cNvSpPr/>
              <p:nvPr/>
            </p:nvSpPr>
            <p:spPr>
              <a:xfrm flipH="1" rot="4720800">
                <a:off x="6711840" y="3980880"/>
                <a:ext cx="952200" cy="789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flipH="1" rot="4720800">
                <a:off x="6720840" y="4027320"/>
                <a:ext cx="419400" cy="3042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"/>
            <p:cNvSpPr/>
            <p:nvPr/>
          </p:nvSpPr>
          <p:spPr>
            <a:xfrm>
              <a:off x="6334920" y="4791240"/>
              <a:ext cx="155736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612720"/>
                  <a:tab algn="l" pos="1225440"/>
                  <a:tab algn="l" pos="1838160"/>
                  <a:tab algn="l" pos="2451240"/>
                  <a:tab algn="l" pos="3063960"/>
                  <a:tab algn="l" pos="3676680"/>
                  <a:tab algn="l" pos="4289400"/>
                  <a:tab algn="l" pos="4902120"/>
                  <a:tab algn="l" pos="5514840"/>
                  <a:tab algn="l" pos="6127920"/>
                  <a:tab algn="l" pos="6740640"/>
                  <a:tab algn="l" pos="7353360"/>
                  <a:tab algn="l" pos="7966080"/>
                  <a:tab algn="l" pos="8578800"/>
                  <a:tab algn="l" pos="9191520"/>
                  <a:tab algn="l" pos="9804240"/>
                  <a:tab algn="l" pos="1041732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Aminoá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 flipV="1" rot="4720200">
              <a:off x="6570360" y="4124880"/>
              <a:ext cx="86580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8"/>
                  </a:moveTo>
                  <a:arcTo wR="10800" hR="10800" stAng="-10764191" swAng="5348422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8"/>
                  </a:moveTo>
                  <a:arcTo wR="10800" hR="10800" stAng="-10764191" swAng="5348422"/>
                </a:path>
              </a:pathLst>
            </a:custGeom>
            <a:noFill/>
            <a:ln cap="rnd" w="50760">
              <a:solidFill>
                <a:srgbClr val="ffffff"/>
              </a:solidFill>
              <a:miter/>
              <a:headEnd len="med" type="triangle" w="med"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0" name=""/>
          <p:cNvGrpSpPr/>
          <p:nvPr/>
        </p:nvGrpSpPr>
        <p:grpSpPr>
          <a:xfrm>
            <a:off x="3956760" y="3767040"/>
            <a:ext cx="2208600" cy="1313640"/>
            <a:chOff x="3956760" y="3767040"/>
            <a:chExt cx="2208600" cy="1313640"/>
          </a:xfrm>
        </p:grpSpPr>
        <p:sp>
          <p:nvSpPr>
            <p:cNvPr id="861" name=""/>
            <p:cNvSpPr/>
            <p:nvPr/>
          </p:nvSpPr>
          <p:spPr>
            <a:xfrm>
              <a:off x="5612400" y="3767040"/>
              <a:ext cx="5515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612720"/>
                  <a:tab algn="l" pos="1225440"/>
                  <a:tab algn="l" pos="1838160"/>
                  <a:tab algn="l" pos="2451240"/>
                  <a:tab algn="l" pos="3063960"/>
                  <a:tab algn="l" pos="3676680"/>
                  <a:tab algn="l" pos="4289400"/>
                  <a:tab algn="l" pos="4902120"/>
                  <a:tab algn="l" pos="5514840"/>
                  <a:tab algn="l" pos="6127920"/>
                  <a:tab algn="l" pos="6740640"/>
                  <a:tab algn="l" pos="7353360"/>
                  <a:tab algn="l" pos="7966080"/>
                  <a:tab algn="l" pos="8578800"/>
                  <a:tab algn="l" pos="9191520"/>
                  <a:tab algn="l" pos="9804240"/>
                  <a:tab algn="l" pos="1041732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Na</a:t>
              </a:r>
              <a:r>
                <a:rPr b="1" lang="en-US" sz="2400" spc="-1" strike="noStrike" baseline="30000">
                  <a:solidFill>
                    <a:srgbClr val="000099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2" name=""/>
            <p:cNvGrpSpPr/>
            <p:nvPr/>
          </p:nvGrpSpPr>
          <p:grpSpPr>
            <a:xfrm>
              <a:off x="3956760" y="3823560"/>
              <a:ext cx="966240" cy="1060920"/>
              <a:chOff x="3956760" y="3823560"/>
              <a:chExt cx="966240" cy="1060920"/>
            </a:xfrm>
          </p:grpSpPr>
          <p:sp>
            <p:nvSpPr>
              <p:cNvPr id="863" name=""/>
              <p:cNvSpPr/>
              <p:nvPr/>
            </p:nvSpPr>
            <p:spPr>
              <a:xfrm flipV="1" rot="16879200">
                <a:off x="4197600" y="4104360"/>
                <a:ext cx="842760" cy="45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88"/>
                    </a:moveTo>
                    <a:arcTo wR="10800" hR="10800" stAng="-10764191" swAng="534842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88"/>
                    </a:moveTo>
                    <a:arcTo wR="10800" hR="10800" stAng="-10764191" swAng="5348422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  <a:headEnd len="med" type="triangle" w="med"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4" name=""/>
              <p:cNvGrpSpPr/>
              <p:nvPr/>
            </p:nvGrpSpPr>
            <p:grpSpPr>
              <a:xfrm>
                <a:off x="3956760" y="3823560"/>
                <a:ext cx="954720" cy="1060920"/>
                <a:chOff x="3956760" y="3823560"/>
                <a:chExt cx="954720" cy="1060920"/>
              </a:xfrm>
            </p:grpSpPr>
            <p:sp>
              <p:nvSpPr>
                <p:cNvPr id="865" name=""/>
                <p:cNvSpPr/>
                <p:nvPr/>
              </p:nvSpPr>
              <p:spPr>
                <a:xfrm rot="16879200">
                  <a:off x="3971880" y="3959640"/>
                  <a:ext cx="924120" cy="788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 rot="16879200">
                  <a:off x="4486320" y="4012200"/>
                  <a:ext cx="406800" cy="30420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67" name=""/>
            <p:cNvGrpSpPr/>
            <p:nvPr/>
          </p:nvGrpSpPr>
          <p:grpSpPr>
            <a:xfrm>
              <a:off x="5204880" y="3819600"/>
              <a:ext cx="915480" cy="861480"/>
              <a:chOff x="5204880" y="3819600"/>
              <a:chExt cx="915480" cy="861480"/>
            </a:xfrm>
          </p:grpSpPr>
          <p:sp>
            <p:nvSpPr>
              <p:cNvPr id="868" name=""/>
              <p:cNvSpPr/>
              <p:nvPr/>
            </p:nvSpPr>
            <p:spPr>
              <a:xfrm flipH="1" rot="4720800">
                <a:off x="5302080" y="3855240"/>
                <a:ext cx="720360" cy="78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flipH="1" rot="4720800">
                <a:off x="5257800" y="3959280"/>
                <a:ext cx="317160" cy="3042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0" name=""/>
            <p:cNvSpPr/>
            <p:nvPr/>
          </p:nvSpPr>
          <p:spPr>
            <a:xfrm>
              <a:off x="5613840" y="4462560"/>
              <a:ext cx="5515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612720"/>
                  <a:tab algn="l" pos="1225440"/>
                  <a:tab algn="l" pos="1838160"/>
                  <a:tab algn="l" pos="2451240"/>
                  <a:tab algn="l" pos="3063960"/>
                  <a:tab algn="l" pos="3676680"/>
                  <a:tab algn="l" pos="4289400"/>
                  <a:tab algn="l" pos="4902120"/>
                  <a:tab algn="l" pos="5514840"/>
                  <a:tab algn="l" pos="6127920"/>
                  <a:tab algn="l" pos="6740640"/>
                  <a:tab algn="l" pos="7353360"/>
                  <a:tab algn="l" pos="7966080"/>
                  <a:tab algn="l" pos="8578800"/>
                  <a:tab algn="l" pos="9191520"/>
                  <a:tab algn="l" pos="9804240"/>
                  <a:tab algn="l" pos="1041732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Na</a:t>
              </a:r>
              <a:r>
                <a:rPr b="1" lang="en-US" sz="2400" spc="-1" strike="noStrike" baseline="30000">
                  <a:solidFill>
                    <a:srgbClr val="000099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996720" y="4800600"/>
              <a:ext cx="155736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612720"/>
                  <a:tab algn="l" pos="1225440"/>
                  <a:tab algn="l" pos="1838160"/>
                  <a:tab algn="l" pos="2451240"/>
                  <a:tab algn="l" pos="3063960"/>
                  <a:tab algn="l" pos="3676680"/>
                  <a:tab algn="l" pos="4289400"/>
                  <a:tab algn="l" pos="4902120"/>
                  <a:tab algn="l" pos="5514840"/>
                  <a:tab algn="l" pos="6127920"/>
                  <a:tab algn="l" pos="6740640"/>
                  <a:tab algn="l" pos="7353360"/>
                  <a:tab algn="l" pos="7966080"/>
                  <a:tab algn="l" pos="8578800"/>
                  <a:tab algn="l" pos="9191520"/>
                  <a:tab algn="l" pos="9804240"/>
                  <a:tab algn="l" pos="1041732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Aminoá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 flipV="1" rot="4720200">
              <a:off x="5151960" y="4014000"/>
              <a:ext cx="657000" cy="45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8"/>
                  </a:moveTo>
                  <a:arcTo wR="10800" hR="10800" stAng="-10764191" swAng="5348422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8"/>
                  </a:moveTo>
                  <a:arcTo wR="10800" hR="10800" stAng="-10764191" swAng="5348422"/>
                </a:path>
              </a:pathLst>
            </a:custGeom>
            <a:noFill/>
            <a:ln cap="rnd" w="50760">
              <a:solidFill>
                <a:srgbClr val="ffffff"/>
              </a:solidFill>
              <a:miter/>
              <a:headEnd len="med" type="triangle" w="med"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3" name=""/>
          <p:cNvGrpSpPr/>
          <p:nvPr/>
        </p:nvGrpSpPr>
        <p:grpSpPr>
          <a:xfrm>
            <a:off x="5336640" y="4772160"/>
            <a:ext cx="1826640" cy="1748880"/>
            <a:chOff x="5336640" y="4772160"/>
            <a:chExt cx="1826640" cy="1748880"/>
          </a:xfrm>
        </p:grpSpPr>
        <p:grpSp>
          <p:nvGrpSpPr>
            <p:cNvPr id="874" name=""/>
            <p:cNvGrpSpPr/>
            <p:nvPr/>
          </p:nvGrpSpPr>
          <p:grpSpPr>
            <a:xfrm>
              <a:off x="5646960" y="4772160"/>
              <a:ext cx="1374840" cy="1748880"/>
              <a:chOff x="5646960" y="4772160"/>
              <a:chExt cx="1374840" cy="1748880"/>
            </a:xfrm>
          </p:grpSpPr>
          <p:sp>
            <p:nvSpPr>
              <p:cNvPr id="875" name=""/>
              <p:cNvSpPr/>
              <p:nvPr/>
            </p:nvSpPr>
            <p:spPr>
              <a:xfrm flipH="1">
                <a:off x="5901480" y="5780160"/>
                <a:ext cx="244440" cy="244440"/>
              </a:xfrm>
              <a:prstGeom prst="ellipse">
                <a:avLst/>
              </a:prstGeom>
              <a:solidFill>
                <a:srgbClr val="00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6" name=""/>
              <p:cNvGrpSpPr/>
              <p:nvPr/>
            </p:nvGrpSpPr>
            <p:grpSpPr>
              <a:xfrm>
                <a:off x="6059160" y="5596560"/>
                <a:ext cx="962640" cy="839880"/>
                <a:chOff x="6059160" y="5596560"/>
                <a:chExt cx="962640" cy="839880"/>
              </a:xfrm>
            </p:grpSpPr>
            <p:sp>
              <p:nvSpPr>
                <p:cNvPr id="877" name=""/>
                <p:cNvSpPr/>
                <p:nvPr/>
              </p:nvSpPr>
              <p:spPr>
                <a:xfrm flipH="1" rot="17735400">
                  <a:off x="6118200" y="5747040"/>
                  <a:ext cx="504360" cy="45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" y="10688"/>
                      </a:moveTo>
                      <a:arcTo wR="10800" hR="10800" stAng="-10764191" swAng="534842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" y="10688"/>
                      </a:moveTo>
                      <a:arcTo wR="10800" hR="10800" stAng="-10764191" swAng="5348422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  <a:headEnd len="med" type="triangle" w="med"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78" name=""/>
                <p:cNvGrpSpPr/>
                <p:nvPr/>
              </p:nvGrpSpPr>
              <p:grpSpPr>
                <a:xfrm>
                  <a:off x="6071400" y="5596560"/>
                  <a:ext cx="950400" cy="839880"/>
                  <a:chOff x="6071400" y="5596560"/>
                  <a:chExt cx="950400" cy="839880"/>
                </a:xfrm>
              </p:grpSpPr>
              <p:sp>
                <p:nvSpPr>
                  <p:cNvPr id="879" name=""/>
                  <p:cNvSpPr/>
                  <p:nvPr/>
                </p:nvSpPr>
                <p:spPr>
                  <a:xfrm flipH="1" flipV="1" rot="17735400">
                    <a:off x="6269760" y="5621400"/>
                    <a:ext cx="553320" cy="788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00000"/>
                      </a:path>
                    </a:pathLst>
                  </a:custGeom>
                  <a:noFill/>
                  <a:ln cap="rnd" w="50760">
                    <a:solidFill>
                      <a:srgbClr val="ffffff"/>
                    </a:solidFill>
                    <a:miter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0" name=""/>
                  <p:cNvSpPr/>
                  <p:nvPr/>
                </p:nvSpPr>
                <p:spPr>
                  <a:xfrm flipH="1" flipV="1" rot="17735400">
                    <a:off x="6170760" y="5899320"/>
                    <a:ext cx="243720" cy="304560"/>
                  </a:xfrm>
                  <a:prstGeom prst="rect">
                    <a:avLst/>
                  </a:prstGeom>
                  <a:noFill/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81" name=""/>
              <p:cNvSpPr/>
              <p:nvPr/>
            </p:nvSpPr>
            <p:spPr>
              <a:xfrm flipH="1">
                <a:off x="5646600" y="6265800"/>
                <a:ext cx="449640" cy="25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0480" rIns="60480" tIns="30240" bIns="3024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612720"/>
                    <a:tab algn="l" pos="1225440"/>
                    <a:tab algn="l" pos="1838160"/>
                    <a:tab algn="l" pos="2451240"/>
                    <a:tab algn="l" pos="3063960"/>
                    <a:tab algn="l" pos="3676680"/>
                    <a:tab algn="l" pos="4289400"/>
                    <a:tab algn="l" pos="4902120"/>
                    <a:tab algn="l" pos="5514840"/>
                    <a:tab algn="l" pos="6127920"/>
                    <a:tab algn="l" pos="6740640"/>
                    <a:tab algn="l" pos="7353360"/>
                    <a:tab algn="l" pos="7966080"/>
                    <a:tab algn="l" pos="8578800"/>
                    <a:tab algn="l" pos="9191520"/>
                    <a:tab algn="l" pos="9804240"/>
                    <a:tab algn="l" pos="1041732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Arial"/>
                  </a:rPr>
                  <a:t>Na</a:t>
                </a:r>
                <a:r>
                  <a:rPr b="1" lang="en-US" sz="1600" spc="-1" strike="noStrike" baseline="30000">
                    <a:solidFill>
                      <a:srgbClr val="000099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flipH="1">
                <a:off x="6419880" y="6141960"/>
                <a:ext cx="336600" cy="25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0480" rIns="60480" tIns="30240" bIns="3024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612720"/>
                    <a:tab algn="l" pos="1225440"/>
                    <a:tab algn="l" pos="1838160"/>
                    <a:tab algn="l" pos="2451240"/>
                    <a:tab algn="l" pos="3063960"/>
                    <a:tab algn="l" pos="3676680"/>
                    <a:tab algn="l" pos="4289400"/>
                    <a:tab algn="l" pos="4902120"/>
                    <a:tab algn="l" pos="5514840"/>
                    <a:tab algn="l" pos="6127920"/>
                    <a:tab algn="l" pos="6740640"/>
                    <a:tab algn="l" pos="7353360"/>
                    <a:tab algn="l" pos="7966080"/>
                    <a:tab algn="l" pos="8578800"/>
                    <a:tab algn="l" pos="9191520"/>
                    <a:tab algn="l" pos="9804240"/>
                    <a:tab algn="l" pos="1041732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Arial"/>
                  </a:rPr>
                  <a:t>K</a:t>
                </a:r>
                <a:r>
                  <a:rPr b="1" lang="en-US" sz="1600" spc="-1" strike="noStrike" baseline="30000">
                    <a:solidFill>
                      <a:srgbClr val="000099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flipH="1" flipV="1">
                <a:off x="5841720" y="4772160"/>
                <a:ext cx="4680" cy="153504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flipH="1">
                <a:off x="6453360" y="5664240"/>
                <a:ext cx="336600" cy="25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0480" rIns="60480" tIns="30240" bIns="3024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612720"/>
                    <a:tab algn="l" pos="1225440"/>
                    <a:tab algn="l" pos="1838160"/>
                    <a:tab algn="l" pos="2451240"/>
                    <a:tab algn="l" pos="3063960"/>
                    <a:tab algn="l" pos="3676680"/>
                    <a:tab algn="l" pos="4289400"/>
                    <a:tab algn="l" pos="4902120"/>
                    <a:tab algn="l" pos="5514840"/>
                    <a:tab algn="l" pos="6127920"/>
                    <a:tab algn="l" pos="6740640"/>
                    <a:tab algn="l" pos="7353360"/>
                    <a:tab algn="l" pos="7966080"/>
                    <a:tab algn="l" pos="8578800"/>
                    <a:tab algn="l" pos="9191520"/>
                    <a:tab algn="l" pos="9804240"/>
                    <a:tab algn="l" pos="1041732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Arial"/>
                  </a:rPr>
                  <a:t>K</a:t>
                </a:r>
                <a:r>
                  <a:rPr b="1" lang="en-US" sz="1600" spc="-1" strike="noStrike" baseline="30000">
                    <a:solidFill>
                      <a:srgbClr val="000099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5" name=""/>
            <p:cNvSpPr/>
            <p:nvPr/>
          </p:nvSpPr>
          <p:spPr>
            <a:xfrm>
              <a:off x="5336640" y="5373720"/>
              <a:ext cx="182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</a:rPr>
                <a:t>ATP </a:t>
              </a: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→ ADP+P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4066560" y="5084280"/>
            <a:ext cx="4240080" cy="1475640"/>
            <a:chOff x="4066560" y="5084280"/>
            <a:chExt cx="4240080" cy="1475640"/>
          </a:xfrm>
        </p:grpSpPr>
        <p:sp>
          <p:nvSpPr>
            <p:cNvPr id="887" name=""/>
            <p:cNvSpPr/>
            <p:nvPr/>
          </p:nvSpPr>
          <p:spPr>
            <a:xfrm flipV="1">
              <a:off x="4844880" y="5084280"/>
              <a:ext cx="1800" cy="120492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066560" y="6279840"/>
              <a:ext cx="155736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612720"/>
                  <a:tab algn="l" pos="1225440"/>
                  <a:tab algn="l" pos="1838160"/>
                  <a:tab algn="l" pos="2451240"/>
                  <a:tab algn="l" pos="3063960"/>
                  <a:tab algn="l" pos="3676680"/>
                  <a:tab algn="l" pos="4289400"/>
                  <a:tab algn="l" pos="4902120"/>
                  <a:tab algn="l" pos="5514840"/>
                  <a:tab algn="l" pos="6127920"/>
                  <a:tab algn="l" pos="6740640"/>
                  <a:tab algn="l" pos="7353360"/>
                  <a:tab algn="l" pos="7966080"/>
                  <a:tab algn="l" pos="8578800"/>
                  <a:tab algn="l" pos="9191520"/>
                  <a:tab algn="l" pos="9804240"/>
                  <a:tab algn="l" pos="1041732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Aminoá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 flipV="1">
              <a:off x="7529400" y="5084280"/>
              <a:ext cx="1800" cy="120492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749280" y="6262560"/>
              <a:ext cx="155736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612720"/>
                  <a:tab algn="l" pos="1225440"/>
                  <a:tab algn="l" pos="1838160"/>
                  <a:tab algn="l" pos="2451240"/>
                  <a:tab algn="l" pos="3063960"/>
                  <a:tab algn="l" pos="3676680"/>
                  <a:tab algn="l" pos="4289400"/>
                  <a:tab algn="l" pos="4902120"/>
                  <a:tab algn="l" pos="5514840"/>
                  <a:tab algn="l" pos="6127920"/>
                  <a:tab algn="l" pos="6740640"/>
                  <a:tab algn="l" pos="7353360"/>
                  <a:tab algn="l" pos="7966080"/>
                  <a:tab algn="l" pos="8578800"/>
                  <a:tab algn="l" pos="9191520"/>
                  <a:tab algn="l" pos="9804240"/>
                  <a:tab algn="l" pos="1041732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Aminoá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1" name=""/>
          <p:cNvSpPr/>
          <p:nvPr/>
        </p:nvSpPr>
        <p:spPr>
          <a:xfrm>
            <a:off x="539640" y="4149720"/>
            <a:ext cx="338472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539640" y="5950080"/>
            <a:ext cx="338472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7667640" y="3933720"/>
            <a:ext cx="0" cy="7905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4" dur="2000"/>
                                        <p:tgtEl>
                                          <p:spTgt spid="8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3" dur="1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8" dur="1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2000"/>
                                        <p:tgtEl>
                                          <p:spTgt spid="8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2" dur="1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2000"/>
                                        <p:tgtEl>
                                          <p:spTgt spid="8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2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7" dur="1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"/>
          <p:cNvGrpSpPr/>
          <p:nvPr/>
        </p:nvGrpSpPr>
        <p:grpSpPr>
          <a:xfrm>
            <a:off x="3638520" y="3005280"/>
            <a:ext cx="4741920" cy="941400"/>
            <a:chOff x="3638520" y="3005280"/>
            <a:chExt cx="4741920" cy="941400"/>
          </a:xfrm>
        </p:grpSpPr>
        <p:sp>
          <p:nvSpPr>
            <p:cNvPr id="895" name=""/>
            <p:cNvSpPr/>
            <p:nvPr/>
          </p:nvSpPr>
          <p:spPr>
            <a:xfrm>
              <a:off x="3941640" y="3105000"/>
              <a:ext cx="327240" cy="777960"/>
            </a:xfrm>
            <a:prstGeom prst="octagon">
              <a:avLst>
                <a:gd name="adj" fmla="val 29264"/>
              </a:avLst>
            </a:prstGeom>
            <a:solidFill>
              <a:srgbClr val="ffa27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214880" y="3116160"/>
              <a:ext cx="352440" cy="777960"/>
            </a:xfrm>
            <a:prstGeom prst="octagon">
              <a:avLst>
                <a:gd name="adj" fmla="val 29264"/>
              </a:avLst>
            </a:prstGeom>
            <a:solidFill>
              <a:srgbClr val="ffa27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492800" y="3100320"/>
              <a:ext cx="328320" cy="777960"/>
            </a:xfrm>
            <a:prstGeom prst="octagon">
              <a:avLst>
                <a:gd name="adj" fmla="val 29264"/>
              </a:avLst>
            </a:prstGeom>
            <a:solidFill>
              <a:srgbClr val="ffa27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008680" y="3100320"/>
              <a:ext cx="328320" cy="777960"/>
            </a:xfrm>
            <a:prstGeom prst="octagon">
              <a:avLst>
                <a:gd name="adj" fmla="val 29264"/>
              </a:avLst>
            </a:prstGeom>
            <a:solidFill>
              <a:srgbClr val="ffa27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753080" y="3111480"/>
              <a:ext cx="290520" cy="777960"/>
            </a:xfrm>
            <a:prstGeom prst="octagon">
              <a:avLst>
                <a:gd name="adj" fmla="val 29264"/>
              </a:avLst>
            </a:prstGeom>
            <a:solidFill>
              <a:srgbClr val="ffa27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284800" y="3086280"/>
              <a:ext cx="328680" cy="777600"/>
            </a:xfrm>
            <a:prstGeom prst="octagon">
              <a:avLst>
                <a:gd name="adj" fmla="val 29264"/>
              </a:avLst>
            </a:prstGeom>
            <a:solidFill>
              <a:srgbClr val="ffa27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543640" y="3076560"/>
              <a:ext cx="326880" cy="774720"/>
            </a:xfrm>
            <a:prstGeom prst="octagon">
              <a:avLst>
                <a:gd name="adj" fmla="val 29264"/>
              </a:avLst>
            </a:prstGeom>
            <a:solidFill>
              <a:srgbClr val="ffa27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802480" y="3086280"/>
              <a:ext cx="306360" cy="777600"/>
            </a:xfrm>
            <a:prstGeom prst="octagon">
              <a:avLst>
                <a:gd name="adj" fmla="val 29264"/>
              </a:avLst>
            </a:prstGeom>
            <a:solidFill>
              <a:srgbClr val="ffa27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062760" y="3071880"/>
              <a:ext cx="306360" cy="777960"/>
            </a:xfrm>
            <a:prstGeom prst="octagon">
              <a:avLst>
                <a:gd name="adj" fmla="val 29264"/>
              </a:avLst>
            </a:prstGeom>
            <a:solidFill>
              <a:srgbClr val="ffa27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321600" y="3083040"/>
              <a:ext cx="306360" cy="777600"/>
            </a:xfrm>
            <a:prstGeom prst="octagon">
              <a:avLst>
                <a:gd name="adj" fmla="val 29264"/>
              </a:avLst>
            </a:prstGeom>
            <a:solidFill>
              <a:srgbClr val="ffa27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586560" y="3095640"/>
              <a:ext cx="289080" cy="774720"/>
            </a:xfrm>
            <a:prstGeom prst="octagon">
              <a:avLst>
                <a:gd name="adj" fmla="val 29264"/>
              </a:avLst>
            </a:prstGeom>
            <a:solidFill>
              <a:srgbClr val="ffa27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819840" y="3078000"/>
              <a:ext cx="308160" cy="777960"/>
            </a:xfrm>
            <a:prstGeom prst="octagon">
              <a:avLst>
                <a:gd name="adj" fmla="val 29264"/>
              </a:avLst>
            </a:prstGeom>
            <a:solidFill>
              <a:srgbClr val="ffa27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085160" y="3090960"/>
              <a:ext cx="245880" cy="777600"/>
            </a:xfrm>
            <a:prstGeom prst="octagon">
              <a:avLst>
                <a:gd name="adj" fmla="val 29264"/>
              </a:avLst>
            </a:prstGeom>
            <a:solidFill>
              <a:srgbClr val="ffa27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283520" y="3078000"/>
              <a:ext cx="261720" cy="777960"/>
            </a:xfrm>
            <a:prstGeom prst="octagon">
              <a:avLst>
                <a:gd name="adj" fmla="val 29264"/>
              </a:avLst>
            </a:prstGeom>
            <a:solidFill>
              <a:srgbClr val="ffa27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526160" y="3078000"/>
              <a:ext cx="282600" cy="857520"/>
            </a:xfrm>
            <a:prstGeom prst="octagon">
              <a:avLst>
                <a:gd name="adj" fmla="val 29264"/>
              </a:avLst>
            </a:prstGeom>
            <a:solidFill>
              <a:srgbClr val="ffa27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786800" y="3071880"/>
              <a:ext cx="299880" cy="857160"/>
            </a:xfrm>
            <a:prstGeom prst="octagon">
              <a:avLst>
                <a:gd name="adj" fmla="val 29264"/>
              </a:avLst>
            </a:prstGeom>
            <a:solidFill>
              <a:srgbClr val="ffa27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8080200" y="3071880"/>
              <a:ext cx="300240" cy="857160"/>
            </a:xfrm>
            <a:prstGeom prst="octagon">
              <a:avLst>
                <a:gd name="adj" fmla="val 29264"/>
              </a:avLst>
            </a:prstGeom>
            <a:solidFill>
              <a:srgbClr val="ffa27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638520" y="3089160"/>
              <a:ext cx="300240" cy="857520"/>
            </a:xfrm>
            <a:prstGeom prst="octagon">
              <a:avLst>
                <a:gd name="adj" fmla="val 29264"/>
              </a:avLst>
            </a:prstGeom>
            <a:solidFill>
              <a:srgbClr val="ffa27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689360" y="3005280"/>
              <a:ext cx="417600" cy="326880"/>
            </a:xfrm>
            <a:prstGeom prst="ellipse">
              <a:avLst/>
            </a:prstGeom>
            <a:solidFill>
              <a:srgbClr val="ff00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4" name=""/>
          <p:cNvSpPr/>
          <p:nvPr/>
        </p:nvSpPr>
        <p:spPr>
          <a:xfrm>
            <a:off x="2877480" y="2538360"/>
            <a:ext cx="14079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30240" bIns="3024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épt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3616200" y="3429000"/>
            <a:ext cx="4765680" cy="2216160"/>
            <a:chOff x="3616200" y="3429000"/>
            <a:chExt cx="4765680" cy="2216160"/>
          </a:xfrm>
        </p:grpSpPr>
        <p:sp>
          <p:nvSpPr>
            <p:cNvPr id="916" name=""/>
            <p:cNvSpPr/>
            <p:nvPr/>
          </p:nvSpPr>
          <p:spPr>
            <a:xfrm>
              <a:off x="3616200" y="3452760"/>
              <a:ext cx="4765680" cy="2192400"/>
            </a:xfrm>
            <a:prstGeom prst="roundRect">
              <a:avLst>
                <a:gd name="adj" fmla="val 12468"/>
              </a:avLst>
            </a:prstGeom>
            <a:solidFill>
              <a:srgbClr val="ffa27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633840" y="3429000"/>
              <a:ext cx="4730760" cy="749160"/>
            </a:xfrm>
            <a:prstGeom prst="rect">
              <a:avLst/>
            </a:prstGeom>
            <a:solidFill>
              <a:srgbClr val="ffa2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8" name=""/>
          <p:cNvSpPr/>
          <p:nvPr/>
        </p:nvSpPr>
        <p:spPr>
          <a:xfrm>
            <a:off x="448200" y="2362320"/>
            <a:ext cx="1913760" cy="6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30240" bIns="3024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LU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TEST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304560" y="4219560"/>
            <a:ext cx="21182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30240" bIns="3024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NTEROC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700560" y="5867280"/>
            <a:ext cx="1508400" cy="6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30240" bIns="3024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ANG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OR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1" name=""/>
          <p:cNvGrpSpPr/>
          <p:nvPr/>
        </p:nvGrpSpPr>
        <p:grpSpPr>
          <a:xfrm>
            <a:off x="4301280" y="3986280"/>
            <a:ext cx="1716480" cy="1041840"/>
            <a:chOff x="4301280" y="3986280"/>
            <a:chExt cx="1716480" cy="1041840"/>
          </a:xfrm>
        </p:grpSpPr>
        <p:sp>
          <p:nvSpPr>
            <p:cNvPr id="922" name=""/>
            <p:cNvSpPr/>
            <p:nvPr/>
          </p:nvSpPr>
          <p:spPr>
            <a:xfrm flipH="1" flipV="1">
              <a:off x="4532040" y="4062240"/>
              <a:ext cx="608040" cy="609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826160" y="3986280"/>
              <a:ext cx="1191600" cy="4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612720"/>
                  <a:tab algn="l" pos="1225440"/>
                  <a:tab algn="l" pos="1838160"/>
                  <a:tab algn="l" pos="2451240"/>
                  <a:tab algn="l" pos="3063960"/>
                  <a:tab algn="l" pos="3676680"/>
                  <a:tab algn="l" pos="4289400"/>
                  <a:tab algn="l" pos="4902120"/>
                  <a:tab algn="l" pos="5514840"/>
                  <a:tab algn="l" pos="6127920"/>
                  <a:tab algn="l" pos="6740640"/>
                  <a:tab algn="l" pos="7353360"/>
                  <a:tab algn="l" pos="7966080"/>
                  <a:tab algn="l" pos="8578800"/>
                  <a:tab algn="l" pos="9191520"/>
                  <a:tab algn="l" pos="9804240"/>
                  <a:tab algn="l" pos="1041732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Peptidas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612720"/>
                  <a:tab algn="l" pos="1225440"/>
                  <a:tab algn="l" pos="1838160"/>
                  <a:tab algn="l" pos="2451240"/>
                  <a:tab algn="l" pos="3063960"/>
                  <a:tab algn="l" pos="3676680"/>
                  <a:tab algn="l" pos="4289400"/>
                  <a:tab algn="l" pos="4902120"/>
                  <a:tab algn="l" pos="5514840"/>
                  <a:tab algn="l" pos="6127920"/>
                  <a:tab algn="l" pos="6740640"/>
                  <a:tab algn="l" pos="7353360"/>
                  <a:tab algn="l" pos="7966080"/>
                  <a:tab algn="l" pos="8578800"/>
                  <a:tab algn="l" pos="9191520"/>
                  <a:tab algn="l" pos="9804240"/>
                  <a:tab algn="l" pos="1041732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citosólic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301280" y="4748040"/>
              <a:ext cx="155736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612720"/>
                  <a:tab algn="l" pos="1225440"/>
                  <a:tab algn="l" pos="1838160"/>
                  <a:tab algn="l" pos="2451240"/>
                  <a:tab algn="l" pos="3063960"/>
                  <a:tab algn="l" pos="3676680"/>
                  <a:tab algn="l" pos="4289400"/>
                  <a:tab algn="l" pos="4902120"/>
                  <a:tab algn="l" pos="5514840"/>
                  <a:tab algn="l" pos="6127920"/>
                  <a:tab algn="l" pos="6740640"/>
                  <a:tab algn="l" pos="7353360"/>
                  <a:tab algn="l" pos="7966080"/>
                  <a:tab algn="l" pos="8578800"/>
                  <a:tab algn="l" pos="9191520"/>
                  <a:tab algn="l" pos="9804240"/>
                  <a:tab algn="l" pos="1041732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Aminoá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"/>
          <p:cNvSpPr/>
          <p:nvPr/>
        </p:nvSpPr>
        <p:spPr>
          <a:xfrm>
            <a:off x="250920" y="3068640"/>
            <a:ext cx="3313080" cy="0"/>
          </a:xfrm>
          <a:prstGeom prst="line">
            <a:avLst/>
          </a:prstGeom>
          <a:ln w="442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250920" y="5589720"/>
            <a:ext cx="3313080" cy="0"/>
          </a:xfrm>
          <a:prstGeom prst="line">
            <a:avLst/>
          </a:prstGeom>
          <a:ln w="442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893520" y="452520"/>
            <a:ext cx="756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ransporte intestinal de péptidos peque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3873600" y="5522760"/>
            <a:ext cx="417240" cy="187560"/>
          </a:xfrm>
          <a:prstGeom prst="ellipse">
            <a:avLst/>
          </a:prstGeom>
          <a:solidFill>
            <a:srgbClr val="cc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4906800" y="5522760"/>
            <a:ext cx="417600" cy="187560"/>
          </a:xfrm>
          <a:prstGeom prst="ellipse">
            <a:avLst/>
          </a:prstGeom>
          <a:solidFill>
            <a:srgbClr val="808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4854240" y="5028840"/>
            <a:ext cx="1392840" cy="1260360"/>
            <a:chOff x="4854240" y="5028840"/>
            <a:chExt cx="1392840" cy="1260360"/>
          </a:xfrm>
        </p:grpSpPr>
        <p:sp>
          <p:nvSpPr>
            <p:cNvPr id="931" name=""/>
            <p:cNvSpPr/>
            <p:nvPr/>
          </p:nvSpPr>
          <p:spPr>
            <a:xfrm flipV="1">
              <a:off x="5113440" y="5028840"/>
              <a:ext cx="1440" cy="996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854240" y="6033960"/>
              <a:ext cx="139284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612720"/>
                  <a:tab algn="l" pos="1225440"/>
                  <a:tab algn="l" pos="1838160"/>
                  <a:tab algn="l" pos="2451240"/>
                  <a:tab algn="l" pos="3063960"/>
                  <a:tab algn="l" pos="3676680"/>
                  <a:tab algn="l" pos="4289400"/>
                  <a:tab algn="l" pos="4902120"/>
                  <a:tab algn="l" pos="5514840"/>
                  <a:tab algn="l" pos="6127920"/>
                  <a:tab algn="l" pos="6740640"/>
                  <a:tab algn="l" pos="7353360"/>
                  <a:tab algn="l" pos="7966080"/>
                  <a:tab algn="l" pos="8578800"/>
                  <a:tab algn="l" pos="9191520"/>
                  <a:tab algn="l" pos="9804240"/>
                  <a:tab algn="l" pos="1041732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Aminoácid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"/>
          <p:cNvGrpSpPr/>
          <p:nvPr/>
        </p:nvGrpSpPr>
        <p:grpSpPr>
          <a:xfrm>
            <a:off x="3607200" y="4062240"/>
            <a:ext cx="976680" cy="2230200"/>
            <a:chOff x="3607200" y="4062240"/>
            <a:chExt cx="976680" cy="2230200"/>
          </a:xfrm>
        </p:grpSpPr>
        <p:sp>
          <p:nvSpPr>
            <p:cNvPr id="934" name=""/>
            <p:cNvSpPr/>
            <p:nvPr/>
          </p:nvSpPr>
          <p:spPr>
            <a:xfrm flipV="1">
              <a:off x="4073400" y="4062240"/>
              <a:ext cx="1800" cy="19814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607200" y="6037200"/>
              <a:ext cx="97668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612720"/>
                  <a:tab algn="l" pos="1225440"/>
                  <a:tab algn="l" pos="1838160"/>
                  <a:tab algn="l" pos="2451240"/>
                  <a:tab algn="l" pos="3063960"/>
                  <a:tab algn="l" pos="3676680"/>
                  <a:tab algn="l" pos="4289400"/>
                  <a:tab algn="l" pos="4902120"/>
                  <a:tab algn="l" pos="5514840"/>
                  <a:tab algn="l" pos="6127920"/>
                  <a:tab algn="l" pos="6740640"/>
                  <a:tab algn="l" pos="7353360"/>
                  <a:tab algn="l" pos="7966080"/>
                  <a:tab algn="l" pos="8578800"/>
                  <a:tab algn="l" pos="9191520"/>
                  <a:tab algn="l" pos="9804240"/>
                  <a:tab algn="l" pos="1041732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Péptid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6" name=""/>
          <p:cNvSpPr/>
          <p:nvPr/>
        </p:nvSpPr>
        <p:spPr>
          <a:xfrm>
            <a:off x="533520" y="1371600"/>
            <a:ext cx="8215200" cy="6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0240" bIns="3024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ansporte activo de di- y tripéptidos acoplado a hidrogen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3604680" y="2514600"/>
            <a:ext cx="4402080" cy="1471320"/>
            <a:chOff x="3604680" y="2514600"/>
            <a:chExt cx="4402080" cy="1471320"/>
          </a:xfrm>
        </p:grpSpPr>
        <p:sp>
          <p:nvSpPr>
            <p:cNvPr id="938" name=""/>
            <p:cNvSpPr/>
            <p:nvPr/>
          </p:nvSpPr>
          <p:spPr>
            <a:xfrm>
              <a:off x="6512040" y="2960640"/>
              <a:ext cx="417240" cy="339840"/>
            </a:xfrm>
            <a:prstGeom prst="ellipse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546880" y="2514600"/>
              <a:ext cx="6141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612720"/>
                  <a:tab algn="l" pos="1225440"/>
                  <a:tab algn="l" pos="1838160"/>
                  <a:tab algn="l" pos="2451240"/>
                  <a:tab algn="l" pos="3063960"/>
                  <a:tab algn="l" pos="3676680"/>
                  <a:tab algn="l" pos="4289400"/>
                  <a:tab algn="l" pos="4902120"/>
                  <a:tab algn="l" pos="5514840"/>
                  <a:tab algn="l" pos="6127920"/>
                  <a:tab algn="l" pos="6740640"/>
                  <a:tab algn="l" pos="7353360"/>
                  <a:tab algn="l" pos="7966080"/>
                  <a:tab algn="l" pos="8578800"/>
                  <a:tab algn="l" pos="9191520"/>
                  <a:tab algn="l" pos="9804240"/>
                  <a:tab algn="l" pos="104173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2H</a:t>
              </a:r>
              <a:r>
                <a:rPr b="1" lang="en-US" sz="2400" spc="-1" strike="noStrike" baseline="30000">
                  <a:solidFill>
                    <a:srgbClr val="000099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615120" y="3681360"/>
              <a:ext cx="11962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612720"/>
                  <a:tab algn="l" pos="1225440"/>
                  <a:tab algn="l" pos="1838160"/>
                  <a:tab algn="l" pos="2451240"/>
                  <a:tab algn="l" pos="3063960"/>
                  <a:tab algn="l" pos="3676680"/>
                  <a:tab algn="l" pos="4289400"/>
                  <a:tab algn="l" pos="4902120"/>
                  <a:tab algn="l" pos="5514840"/>
                  <a:tab algn="l" pos="6127920"/>
                  <a:tab algn="l" pos="6740640"/>
                  <a:tab algn="l" pos="7353360"/>
                  <a:tab algn="l" pos="7966080"/>
                  <a:tab algn="l" pos="8578800"/>
                  <a:tab algn="l" pos="9191520"/>
                  <a:tab algn="l" pos="9804240"/>
                  <a:tab algn="l" pos="1041732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Péptid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571720" y="3529080"/>
              <a:ext cx="4449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612720"/>
                  <a:tab algn="l" pos="1225440"/>
                  <a:tab algn="l" pos="1838160"/>
                  <a:tab algn="l" pos="2451240"/>
                  <a:tab algn="l" pos="3063960"/>
                  <a:tab algn="l" pos="3676680"/>
                  <a:tab algn="l" pos="4289400"/>
                  <a:tab algn="l" pos="4902120"/>
                  <a:tab algn="l" pos="5514840"/>
                  <a:tab algn="l" pos="6127920"/>
                  <a:tab algn="l" pos="6740640"/>
                  <a:tab algn="l" pos="7353360"/>
                  <a:tab algn="l" pos="7966080"/>
                  <a:tab algn="l" pos="8578800"/>
                  <a:tab algn="l" pos="9191520"/>
                  <a:tab algn="l" pos="9804240"/>
                  <a:tab algn="l" pos="104173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H</a:t>
              </a:r>
              <a:r>
                <a:rPr b="1" lang="en-US" sz="2400" spc="-1" strike="noStrike" baseline="30000">
                  <a:solidFill>
                    <a:srgbClr val="000099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2" name=""/>
            <p:cNvGrpSpPr/>
            <p:nvPr/>
          </p:nvGrpSpPr>
          <p:grpSpPr>
            <a:xfrm>
              <a:off x="5407920" y="2546280"/>
              <a:ext cx="1142280" cy="1170000"/>
              <a:chOff x="5407920" y="2546280"/>
              <a:chExt cx="1142280" cy="1170000"/>
            </a:xfrm>
          </p:grpSpPr>
          <p:sp>
            <p:nvSpPr>
              <p:cNvPr id="943" name=""/>
              <p:cNvSpPr/>
              <p:nvPr/>
            </p:nvSpPr>
            <p:spPr>
              <a:xfrm rot="4720800">
                <a:off x="5737320" y="2881800"/>
                <a:ext cx="914040" cy="542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88"/>
                    </a:moveTo>
                    <a:arcTo wR="10800" hR="10800" stAng="-10764191" swAng="534842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88"/>
                    </a:moveTo>
                    <a:arcTo wR="10800" hR="10800" stAng="-10764191" swAng="5348422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  <a:headEnd len="med" type="triangle" w="med"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4" name=""/>
              <p:cNvGrpSpPr/>
              <p:nvPr/>
            </p:nvGrpSpPr>
            <p:grpSpPr>
              <a:xfrm>
                <a:off x="5407920" y="2546280"/>
                <a:ext cx="1129320" cy="1170000"/>
                <a:chOff x="5407920" y="2546280"/>
                <a:chExt cx="1129320" cy="1170000"/>
              </a:xfrm>
            </p:grpSpPr>
            <p:sp>
              <p:nvSpPr>
                <p:cNvPr id="945" name=""/>
                <p:cNvSpPr/>
                <p:nvPr/>
              </p:nvSpPr>
              <p:spPr>
                <a:xfrm flipV="1" rot="4720800">
                  <a:off x="5470920" y="2655720"/>
                  <a:ext cx="1002600" cy="950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 flipV="1" rot="4720800">
                  <a:off x="6054120" y="3148560"/>
                  <a:ext cx="441360" cy="3664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47" name=""/>
            <p:cNvGrpSpPr/>
            <p:nvPr/>
          </p:nvGrpSpPr>
          <p:grpSpPr>
            <a:xfrm>
              <a:off x="6877080" y="2626920"/>
              <a:ext cx="1129680" cy="1170000"/>
              <a:chOff x="6877080" y="2626920"/>
              <a:chExt cx="1129680" cy="1170000"/>
            </a:xfrm>
          </p:grpSpPr>
          <p:sp>
            <p:nvSpPr>
              <p:cNvPr id="948" name=""/>
              <p:cNvSpPr/>
              <p:nvPr/>
            </p:nvSpPr>
            <p:spPr>
              <a:xfrm flipH="1" rot="4720800">
                <a:off x="6940440" y="2736360"/>
                <a:ext cx="1002600" cy="951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 flipH="1" rot="4720800">
                <a:off x="6918480" y="2827800"/>
                <a:ext cx="441360" cy="3668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0" name=""/>
            <p:cNvSpPr/>
            <p:nvPr/>
          </p:nvSpPr>
          <p:spPr>
            <a:xfrm>
              <a:off x="7348680" y="2530440"/>
              <a:ext cx="6141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612720"/>
                  <a:tab algn="l" pos="1225440"/>
                  <a:tab algn="l" pos="1838160"/>
                  <a:tab algn="l" pos="2451240"/>
                  <a:tab algn="l" pos="3063960"/>
                  <a:tab algn="l" pos="3676680"/>
                  <a:tab algn="l" pos="4289400"/>
                  <a:tab algn="l" pos="4902120"/>
                  <a:tab algn="l" pos="5514840"/>
                  <a:tab algn="l" pos="6127920"/>
                  <a:tab algn="l" pos="6740640"/>
                  <a:tab algn="l" pos="7353360"/>
                  <a:tab algn="l" pos="7966080"/>
                  <a:tab algn="l" pos="8578800"/>
                  <a:tab algn="l" pos="9191520"/>
                  <a:tab algn="l" pos="9804240"/>
                  <a:tab algn="l" pos="104173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Na</a:t>
              </a:r>
              <a:r>
                <a:rPr b="1" lang="en-US" sz="2400" spc="-1" strike="noStrike" baseline="30000">
                  <a:solidFill>
                    <a:srgbClr val="000099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313760" y="3476520"/>
              <a:ext cx="6141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612720"/>
                  <a:tab algn="l" pos="1225440"/>
                  <a:tab algn="l" pos="1838160"/>
                  <a:tab algn="l" pos="2451240"/>
                  <a:tab algn="l" pos="3063960"/>
                  <a:tab algn="l" pos="3676680"/>
                  <a:tab algn="l" pos="4289400"/>
                  <a:tab algn="l" pos="4902120"/>
                  <a:tab algn="l" pos="5514840"/>
                  <a:tab algn="l" pos="6127920"/>
                  <a:tab algn="l" pos="6740640"/>
                  <a:tab algn="l" pos="7353360"/>
                  <a:tab algn="l" pos="7966080"/>
                  <a:tab algn="l" pos="8578800"/>
                  <a:tab algn="l" pos="9191520"/>
                  <a:tab algn="l" pos="9804240"/>
                  <a:tab algn="l" pos="104173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Na</a:t>
              </a:r>
              <a:r>
                <a:rPr b="1" lang="en-US" sz="2400" spc="-1" strike="noStrike" baseline="30000">
                  <a:solidFill>
                    <a:srgbClr val="000099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2" name=""/>
            <p:cNvGrpSpPr/>
            <p:nvPr/>
          </p:nvGrpSpPr>
          <p:grpSpPr>
            <a:xfrm>
              <a:off x="3604680" y="2615760"/>
              <a:ext cx="1142280" cy="1169640"/>
              <a:chOff x="3604680" y="2615760"/>
              <a:chExt cx="1142280" cy="1169640"/>
            </a:xfrm>
          </p:grpSpPr>
          <p:sp>
            <p:nvSpPr>
              <p:cNvPr id="953" name=""/>
              <p:cNvSpPr/>
              <p:nvPr/>
            </p:nvSpPr>
            <p:spPr>
              <a:xfrm flipV="1" rot="16879200">
                <a:off x="3934080" y="2907360"/>
                <a:ext cx="914040" cy="542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88"/>
                    </a:moveTo>
                    <a:arcTo wR="10800" hR="10800" stAng="-10764191" swAng="534842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88"/>
                    </a:moveTo>
                    <a:arcTo wR="10800" hR="10800" stAng="-10764191" swAng="5348422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  <a:headEnd len="med" type="triangle" w="med"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4" name=""/>
              <p:cNvGrpSpPr/>
              <p:nvPr/>
            </p:nvGrpSpPr>
            <p:grpSpPr>
              <a:xfrm>
                <a:off x="3604680" y="2615760"/>
                <a:ext cx="1128960" cy="1169640"/>
                <a:chOff x="3604680" y="2615760"/>
                <a:chExt cx="1128960" cy="1169640"/>
              </a:xfrm>
            </p:grpSpPr>
            <p:sp>
              <p:nvSpPr>
                <p:cNvPr id="955" name=""/>
                <p:cNvSpPr/>
                <p:nvPr/>
              </p:nvSpPr>
              <p:spPr>
                <a:xfrm rot="16879200">
                  <a:off x="3667680" y="2725200"/>
                  <a:ext cx="1002600" cy="950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 rot="16879200">
                  <a:off x="4250880" y="2816640"/>
                  <a:ext cx="441360" cy="3664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57" name=""/>
            <p:cNvGrpSpPr/>
            <p:nvPr/>
          </p:nvGrpSpPr>
          <p:grpSpPr>
            <a:xfrm>
              <a:off x="5062680" y="2607840"/>
              <a:ext cx="1129680" cy="1170000"/>
              <a:chOff x="5062680" y="2607840"/>
              <a:chExt cx="1129680" cy="1170000"/>
            </a:xfrm>
          </p:grpSpPr>
          <p:sp>
            <p:nvSpPr>
              <p:cNvPr id="958" name=""/>
              <p:cNvSpPr/>
              <p:nvPr/>
            </p:nvSpPr>
            <p:spPr>
              <a:xfrm flipH="1" rot="4720800">
                <a:off x="5126040" y="2717280"/>
                <a:ext cx="1002600" cy="951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flipH="1" rot="4720800">
                <a:off x="5104080" y="2808720"/>
                <a:ext cx="441360" cy="3668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0" name=""/>
            <p:cNvSpPr/>
            <p:nvPr/>
          </p:nvSpPr>
          <p:spPr>
            <a:xfrm flipH="1" flipV="1" rot="4720200">
              <a:off x="6761160" y="2918160"/>
              <a:ext cx="914400" cy="54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8"/>
                  </a:moveTo>
                  <a:arcTo wR="10800" hR="10800" stAng="-10764191" swAng="5348422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8"/>
                  </a:moveTo>
                  <a:arcTo wR="10800" hR="10800" stAng="-10764191" swAng="5348422"/>
                </a:path>
              </a:pathLst>
            </a:custGeom>
            <a:noFill/>
            <a:ln cap="rnd" w="50760">
              <a:solidFill>
                <a:srgbClr val="ffffff"/>
              </a:solidFill>
              <a:miter/>
              <a:headEnd len="med" type="triangle" w="med"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 flipH="1" flipV="1" rot="4720200">
              <a:off x="4946760" y="2899080"/>
              <a:ext cx="914400" cy="54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8"/>
                  </a:moveTo>
                  <a:arcTo wR="10800" hR="10800" stAng="-10764191" swAng="5348422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8"/>
                  </a:moveTo>
                  <a:arcTo wR="10800" hR="10800" stAng="-10764191" swAng="5348422"/>
                </a:path>
              </a:pathLst>
            </a:custGeom>
            <a:noFill/>
            <a:ln cap="rnd" w="50760">
              <a:solidFill>
                <a:srgbClr val="ffffff"/>
              </a:solidFill>
              <a:miter/>
              <a:headEnd len="med" type="triangle" w="med"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2" name=""/>
          <p:cNvGrpSpPr/>
          <p:nvPr/>
        </p:nvGrpSpPr>
        <p:grpSpPr>
          <a:xfrm>
            <a:off x="6014160" y="3839760"/>
            <a:ext cx="2330280" cy="2592000"/>
            <a:chOff x="6014160" y="3839760"/>
            <a:chExt cx="2330280" cy="2592000"/>
          </a:xfrm>
        </p:grpSpPr>
        <p:grpSp>
          <p:nvGrpSpPr>
            <p:cNvPr id="963" name=""/>
            <p:cNvGrpSpPr/>
            <p:nvPr/>
          </p:nvGrpSpPr>
          <p:grpSpPr>
            <a:xfrm>
              <a:off x="6014160" y="3839760"/>
              <a:ext cx="1915200" cy="2592000"/>
              <a:chOff x="6014160" y="3839760"/>
              <a:chExt cx="1915200" cy="2592000"/>
            </a:xfrm>
          </p:grpSpPr>
          <p:sp>
            <p:nvSpPr>
              <p:cNvPr id="964" name=""/>
              <p:cNvSpPr/>
              <p:nvPr/>
            </p:nvSpPr>
            <p:spPr>
              <a:xfrm flipV="1">
                <a:off x="7578720" y="3839760"/>
                <a:ext cx="4680" cy="220356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7121520" y="5451480"/>
                <a:ext cx="417600" cy="339840"/>
              </a:xfrm>
              <a:prstGeom prst="ellipse">
                <a:avLst/>
              </a:prstGeom>
              <a:solidFill>
                <a:srgbClr val="00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6" name=""/>
              <p:cNvGrpSpPr/>
              <p:nvPr/>
            </p:nvGrpSpPr>
            <p:grpSpPr>
              <a:xfrm>
                <a:off x="6014160" y="5119560"/>
                <a:ext cx="1206000" cy="1104840"/>
                <a:chOff x="6014160" y="5119560"/>
                <a:chExt cx="1206000" cy="1104840"/>
              </a:xfrm>
            </p:grpSpPr>
            <p:sp>
              <p:nvSpPr>
                <p:cNvPr id="967" name=""/>
                <p:cNvSpPr/>
                <p:nvPr/>
              </p:nvSpPr>
              <p:spPr>
                <a:xfrm rot="3864600">
                  <a:off x="6473160" y="5353200"/>
                  <a:ext cx="700920" cy="543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" y="10688"/>
                      </a:moveTo>
                      <a:arcTo wR="10800" hR="10800" stAng="-10764191" swAng="534842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" y="10688"/>
                      </a:moveTo>
                      <a:arcTo wR="10800" hR="10800" stAng="-10764191" swAng="5348422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  <a:headEnd len="med" type="triangle" w="med"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68" name=""/>
                <p:cNvGrpSpPr/>
                <p:nvPr/>
              </p:nvGrpSpPr>
              <p:grpSpPr>
                <a:xfrm>
                  <a:off x="6014160" y="5119560"/>
                  <a:ext cx="1190520" cy="1104840"/>
                  <a:chOff x="6014160" y="5119560"/>
                  <a:chExt cx="1190520" cy="1104840"/>
                </a:xfrm>
              </p:grpSpPr>
              <p:sp>
                <p:nvSpPr>
                  <p:cNvPr id="969" name=""/>
                  <p:cNvSpPr/>
                  <p:nvPr/>
                </p:nvSpPr>
                <p:spPr>
                  <a:xfrm flipV="1" rot="3864600">
                    <a:off x="6224400" y="5195520"/>
                    <a:ext cx="769320" cy="951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00000"/>
                      </a:path>
                    </a:pathLst>
                  </a:custGeom>
                  <a:noFill/>
                  <a:ln cap="rnd" w="50760">
                    <a:solidFill>
                      <a:srgbClr val="ffffff"/>
                    </a:solidFill>
                    <a:miter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0" name=""/>
                  <p:cNvSpPr/>
                  <p:nvPr/>
                </p:nvSpPr>
                <p:spPr>
                  <a:xfrm flipV="1" rot="3864600">
                    <a:off x="6757200" y="5554080"/>
                    <a:ext cx="33876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71" name=""/>
              <p:cNvSpPr/>
              <p:nvPr/>
            </p:nvSpPr>
            <p:spPr>
              <a:xfrm>
                <a:off x="7315200" y="6078600"/>
                <a:ext cx="61416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0480" rIns="60480" tIns="30240" bIns="3024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612720"/>
                    <a:tab algn="l" pos="1225440"/>
                    <a:tab algn="l" pos="1838160"/>
                    <a:tab algn="l" pos="2451240"/>
                    <a:tab algn="l" pos="3063960"/>
                    <a:tab algn="l" pos="3676680"/>
                    <a:tab algn="l" pos="4289400"/>
                    <a:tab algn="l" pos="4902120"/>
                    <a:tab algn="l" pos="5514840"/>
                    <a:tab algn="l" pos="6127920"/>
                    <a:tab algn="l" pos="6740640"/>
                    <a:tab algn="l" pos="7353360"/>
                    <a:tab algn="l" pos="7966080"/>
                    <a:tab algn="l" pos="8578800"/>
                    <a:tab algn="l" pos="9191520"/>
                    <a:tab algn="l" pos="9804240"/>
                    <a:tab algn="l" pos="104173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Na</a:t>
                </a:r>
                <a:r>
                  <a:rPr b="1" lang="en-US" sz="2400" spc="-1" strike="noStrike" baseline="30000">
                    <a:solidFill>
                      <a:srgbClr val="000099"/>
                    </a:solidFill>
                    <a:latin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6440040" y="6072120"/>
                <a:ext cx="44496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0480" rIns="60480" tIns="30240" bIns="3024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612720"/>
                    <a:tab algn="l" pos="1225440"/>
                    <a:tab algn="l" pos="1838160"/>
                    <a:tab algn="l" pos="2451240"/>
                    <a:tab algn="l" pos="3063960"/>
                    <a:tab algn="l" pos="3676680"/>
                    <a:tab algn="l" pos="4289400"/>
                    <a:tab algn="l" pos="4902120"/>
                    <a:tab algn="l" pos="5514840"/>
                    <a:tab algn="l" pos="6127920"/>
                    <a:tab algn="l" pos="6740640"/>
                    <a:tab algn="l" pos="7353360"/>
                    <a:tab algn="l" pos="7966080"/>
                    <a:tab algn="l" pos="8578800"/>
                    <a:tab algn="l" pos="9191520"/>
                    <a:tab algn="l" pos="9804240"/>
                    <a:tab algn="l" pos="104173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K</a:t>
                </a:r>
                <a:r>
                  <a:rPr b="1" lang="en-US" sz="2400" spc="-1" strike="noStrike" baseline="30000">
                    <a:solidFill>
                      <a:srgbClr val="000099"/>
                    </a:solidFill>
                    <a:latin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"/>
            <p:cNvSpPr/>
            <p:nvPr/>
          </p:nvSpPr>
          <p:spPr>
            <a:xfrm>
              <a:off x="6517800" y="4941720"/>
              <a:ext cx="182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</a:rPr>
                <a:t>ATP </a:t>
              </a: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→ ADP+P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4" dur="2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8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3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8" dur="10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3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Distribución de los aminoácidos en el período post-prand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686800" cy="1612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a mayor parte de los aminoácidos: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Híg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Glutamina y Asparragina: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Intestino y riñ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minoácidos de cadena ramificada: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Músculo y cereb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517680" y="3654360"/>
            <a:ext cx="822960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¿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ó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mo son incorporados los aminoácidos en las células de los distintos tejid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456120" y="5132520"/>
            <a:ext cx="289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fusión facilit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8" name=""/>
          <p:cNvGrpSpPr/>
          <p:nvPr/>
        </p:nvGrpSpPr>
        <p:grpSpPr>
          <a:xfrm>
            <a:off x="3421080" y="4726080"/>
            <a:ext cx="5517000" cy="1224000"/>
            <a:chOff x="3421080" y="4726080"/>
            <a:chExt cx="5517000" cy="1224000"/>
          </a:xfrm>
        </p:grpSpPr>
        <p:sp>
          <p:nvSpPr>
            <p:cNvPr id="979" name=""/>
            <p:cNvSpPr/>
            <p:nvPr/>
          </p:nvSpPr>
          <p:spPr>
            <a:xfrm>
              <a:off x="3421080" y="4797720"/>
              <a:ext cx="287280" cy="115236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29880 h 1152360"/>
                <a:gd name="textAreaBottom" fmla="*/ 1122480 h 115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635280" y="4726080"/>
              <a:ext cx="5302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99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Los transportadores se encuentran e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todas las célula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99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Son específicos para grupos de aminoácido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(neutros, catiónicos y de glutamato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0" dur="8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1" dur="8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8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8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0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5" dur="500"/>
                                        <p:tgtEl>
                                          <p:spTgt spid="9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0" dur="500"/>
                                        <p:tgtEl>
                                          <p:spTgt spid="9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5" dur="500"/>
                                        <p:tgtEl>
                                          <p:spTgt spid="9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1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982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983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8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88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9" name=""/>
          <p:cNvGrpSpPr/>
          <p:nvPr/>
        </p:nvGrpSpPr>
        <p:grpSpPr>
          <a:xfrm>
            <a:off x="2195640" y="2421000"/>
            <a:ext cx="3744720" cy="2304720"/>
            <a:chOff x="2195640" y="2421000"/>
            <a:chExt cx="3744720" cy="2304720"/>
          </a:xfrm>
        </p:grpSpPr>
        <p:sp>
          <p:nvSpPr>
            <p:cNvPr id="990" name=""/>
            <p:cNvSpPr/>
            <p:nvPr/>
          </p:nvSpPr>
          <p:spPr>
            <a:xfrm>
              <a:off x="3492360" y="3189240"/>
              <a:ext cx="2448000" cy="885600"/>
            </a:xfrm>
            <a:prstGeom prst="rect">
              <a:avLst/>
            </a:prstGeom>
            <a:noFill/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AMINOACIDOS </a:t>
              </a:r>
              <a:r>
                <a:rPr b="1" lang="es-AR" sz="16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(fondo metabólico comú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195640" y="2421000"/>
              <a:ext cx="1224000" cy="93636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411280" y="3620880"/>
              <a:ext cx="100836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 flipV="1">
              <a:off x="2268360" y="3933720"/>
              <a:ext cx="1151280" cy="79200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4" name=""/>
          <p:cNvGrpSpPr/>
          <p:nvPr/>
        </p:nvGrpSpPr>
        <p:grpSpPr>
          <a:xfrm>
            <a:off x="5940360" y="1244520"/>
            <a:ext cx="3024360" cy="3854160"/>
            <a:chOff x="5940360" y="1244520"/>
            <a:chExt cx="3024360" cy="3854160"/>
          </a:xfrm>
        </p:grpSpPr>
        <p:sp>
          <p:nvSpPr>
            <p:cNvPr id="995" name=""/>
            <p:cNvSpPr/>
            <p:nvPr/>
          </p:nvSpPr>
          <p:spPr>
            <a:xfrm>
              <a:off x="6300720" y="1244520"/>
              <a:ext cx="266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4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UTILIZAC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6805440" y="1914480"/>
              <a:ext cx="1511640" cy="642600"/>
            </a:xfrm>
            <a:prstGeom prst="rect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99"/>
                  </a:solidFill>
                  <a:latin typeface="Verdana"/>
                  <a:ea typeface="Arial"/>
                </a:rPr>
                <a:t>Síntesis de proteín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804000" y="2925720"/>
              <a:ext cx="2016000" cy="1191240"/>
            </a:xfrm>
            <a:prstGeom prst="rect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99"/>
                  </a:solidFill>
                  <a:latin typeface="Verdana"/>
                  <a:ea typeface="Arial"/>
                </a:rPr>
                <a:t>Síntesis de compuestos nitrogenados no proteic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804000" y="4365360"/>
              <a:ext cx="1871640" cy="733320"/>
            </a:xfrm>
            <a:prstGeom prst="rect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Degradación y producción de Energí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012000" y="4052880"/>
              <a:ext cx="647640" cy="52848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V="1">
              <a:off x="5940360" y="2277720"/>
              <a:ext cx="792360" cy="86364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012000" y="3620880"/>
              <a:ext cx="71892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2" name=""/>
          <p:cNvGrpSpPr/>
          <p:nvPr/>
        </p:nvGrpSpPr>
        <p:grpSpPr>
          <a:xfrm>
            <a:off x="250920" y="1268280"/>
            <a:ext cx="2089080" cy="4140720"/>
            <a:chOff x="250920" y="1268280"/>
            <a:chExt cx="2089080" cy="4140720"/>
          </a:xfrm>
        </p:grpSpPr>
        <p:sp>
          <p:nvSpPr>
            <p:cNvPr id="1003" name=""/>
            <p:cNvSpPr/>
            <p:nvPr/>
          </p:nvSpPr>
          <p:spPr>
            <a:xfrm>
              <a:off x="324000" y="1268280"/>
              <a:ext cx="17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4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ORI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24000" y="1268280"/>
              <a:ext cx="17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4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ORI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68360" y="2028960"/>
              <a:ext cx="1727280" cy="642600"/>
            </a:xfrm>
            <a:prstGeom prst="rect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99"/>
                  </a:solidFill>
                  <a:latin typeface="Verdana"/>
                  <a:ea typeface="Arial"/>
                </a:rPr>
                <a:t>Absorción en intesti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50920" y="2992320"/>
              <a:ext cx="2089080" cy="1191240"/>
            </a:xfrm>
            <a:prstGeom prst="rect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99"/>
                  </a:solidFill>
                  <a:latin typeface="Verdana"/>
                  <a:ea typeface="Arial"/>
                </a:rPr>
                <a:t>Degradación de proteínas endógenas (</a:t>
              </a:r>
              <a:r>
                <a:rPr b="0" i="1" lang="es-AR" sz="1800" spc="-1" strike="noStrike">
                  <a:solidFill>
                    <a:srgbClr val="000099"/>
                  </a:solidFill>
                  <a:latin typeface="Verdana"/>
                  <a:ea typeface="Arial"/>
                </a:rPr>
                <a:t>Proteasas</a:t>
              </a:r>
              <a:r>
                <a:rPr b="0" lang="es-AR" sz="1800" spc="-1" strike="noStrike">
                  <a:solidFill>
                    <a:srgbClr val="000099"/>
                  </a:solidFill>
                  <a:latin typeface="Verdana"/>
                  <a:ea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96720" y="4340160"/>
              <a:ext cx="1871640" cy="1068840"/>
            </a:xfrm>
            <a:prstGeom prst="rect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99"/>
                  </a:solidFill>
                  <a:latin typeface="Verdana"/>
                  <a:ea typeface="Arial"/>
                </a:rPr>
                <a:t>Síntesis de aminoácidos </a:t>
              </a:r>
              <a:r>
                <a:rPr b="0" lang="es-AR" sz="1400" spc="-1" strike="noStrike">
                  <a:solidFill>
                    <a:srgbClr val="000099"/>
                  </a:solidFill>
                  <a:latin typeface="Verdana"/>
                  <a:ea typeface="Arial"/>
                </a:rPr>
                <a:t>(principalmente en hígado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7" dur="50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2" dur="1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7" dur="10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009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010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1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15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6" name=""/>
          <p:cNvSpPr/>
          <p:nvPr/>
        </p:nvSpPr>
        <p:spPr>
          <a:xfrm>
            <a:off x="2132280" y="533520"/>
            <a:ext cx="50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atabolismo de aminoác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1332000" y="1052640"/>
            <a:ext cx="6408720" cy="5529240"/>
            <a:chOff x="1332000" y="1052640"/>
            <a:chExt cx="6408720" cy="5529240"/>
          </a:xfrm>
        </p:grpSpPr>
        <p:pic>
          <p:nvPicPr>
            <p:cNvPr id="1018" name="" descr=""/>
            <p:cNvPicPr/>
            <p:nvPr/>
          </p:nvPicPr>
          <p:blipFill>
            <a:blip r:embed="rId2"/>
            <a:stretch/>
          </p:blipFill>
          <p:spPr>
            <a:xfrm>
              <a:off x="1332000" y="1052640"/>
              <a:ext cx="6408720" cy="5529240"/>
            </a:xfrm>
            <a:prstGeom prst="rect">
              <a:avLst/>
            </a:prstGeom>
            <a:ln w="31680">
              <a:solidFill>
                <a:srgbClr val="00ffff"/>
              </a:solidFill>
              <a:miter/>
            </a:ln>
          </p:spPr>
        </p:pic>
        <p:sp>
          <p:nvSpPr>
            <p:cNvPr id="1019" name=""/>
            <p:cNvSpPr/>
            <p:nvPr/>
          </p:nvSpPr>
          <p:spPr>
            <a:xfrm>
              <a:off x="3849840" y="1125360"/>
              <a:ext cx="173520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teínas intracelular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407680" y="1878120"/>
              <a:ext cx="136944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teínas dietari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334400" y="1878120"/>
              <a:ext cx="95940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9999"/>
                  </a:solidFill>
                  <a:latin typeface="Arial"/>
                </a:rPr>
                <a:t>Aminoáci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570560" y="2421000"/>
              <a:ext cx="155376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Esqueleto carbona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099680" y="2421000"/>
              <a:ext cx="320760" cy="20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NH</a:t>
              </a:r>
              <a:r>
                <a:rPr b="1" lang="en-US" sz="1200" spc="-1" strike="noStrike" baseline="-25000">
                  <a:solidFill>
                    <a:srgbClr val="ff0000"/>
                  </a:solidFill>
                  <a:latin typeface="Arial"/>
                </a:rPr>
                <a:t>4</a:t>
              </a:r>
              <a:r>
                <a:rPr b="1" lang="en-US" sz="1200" spc="-1" strike="noStrike" baseline="30000">
                  <a:solidFill>
                    <a:srgbClr val="ff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403280" y="2708280"/>
              <a:ext cx="216072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iosíntesis de aminoácidos, nucleótidos y aminas biológic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484360" y="3357720"/>
              <a:ext cx="136692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Carbamil fosfa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221440" y="3390840"/>
              <a:ext cx="115092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α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-cetoaci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916360" y="4292640"/>
              <a:ext cx="86364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CICLO DE LA URE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508720" y="4138560"/>
              <a:ext cx="863640" cy="73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ICLO DE KREB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213080" y="4027320"/>
              <a:ext cx="863640" cy="9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0000"/>
                  </a:solidFill>
                  <a:latin typeface="Arial"/>
                </a:rPr>
                <a:t>Interconexión Aspartato-arginino succinat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6877080" y="4292640"/>
              <a:ext cx="863640" cy="39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 + AT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219640" y="5373720"/>
              <a:ext cx="115092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xalaceta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195640" y="5516640"/>
              <a:ext cx="187164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URE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producto de excreción del nitrógeno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148360" y="5977080"/>
              <a:ext cx="144144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uco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(gluconeogénesi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4" name=""/>
          <p:cNvGrpSpPr/>
          <p:nvPr/>
        </p:nvGrpSpPr>
        <p:grpSpPr>
          <a:xfrm>
            <a:off x="1547640" y="1941840"/>
            <a:ext cx="4124160" cy="4917600"/>
            <a:chOff x="1547640" y="1941840"/>
            <a:chExt cx="4124160" cy="4917600"/>
          </a:xfrm>
        </p:grpSpPr>
        <p:sp>
          <p:nvSpPr>
            <p:cNvPr id="1035" name=""/>
            <p:cNvSpPr/>
            <p:nvPr/>
          </p:nvSpPr>
          <p:spPr>
            <a:xfrm rot="1249800">
              <a:off x="2340000" y="2276280"/>
              <a:ext cx="2663640" cy="4248000"/>
            </a:xfrm>
            <a:prstGeom prst="ellipse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 rot="16200000">
              <a:off x="303120" y="4494960"/>
              <a:ext cx="313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tabolismo del nitrógen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 aminoá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"/>
          <p:cNvSpPr/>
          <p:nvPr/>
        </p:nvSpPr>
        <p:spPr>
          <a:xfrm>
            <a:off x="1332000" y="2637000"/>
            <a:ext cx="3024000" cy="38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4356000" y="2637000"/>
            <a:ext cx="3382920" cy="38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9" name="" descr=""/>
          <p:cNvPicPr/>
          <p:nvPr/>
        </p:nvPicPr>
        <p:blipFill>
          <a:blip r:embed="rId3"/>
          <a:srcRect l="54" t="4211" r="72064" b="56002"/>
          <a:stretch/>
        </p:blipFill>
        <p:spPr>
          <a:xfrm>
            <a:off x="5292720" y="1484280"/>
            <a:ext cx="1225440" cy="971640"/>
          </a:xfrm>
          <a:prstGeom prst="rect">
            <a:avLst/>
          </a:prstGeom>
          <a:ln w="0">
            <a:noFill/>
          </a:ln>
        </p:spPr>
      </p:pic>
      <p:pic>
        <p:nvPicPr>
          <p:cNvPr id="1040" name="" descr=""/>
          <p:cNvPicPr/>
          <p:nvPr/>
        </p:nvPicPr>
        <p:blipFill>
          <a:blip r:embed="rId4"/>
          <a:srcRect l="33768" t="4211" r="48844" b="56002"/>
          <a:stretch/>
        </p:blipFill>
        <p:spPr>
          <a:xfrm>
            <a:off x="6372360" y="2565360"/>
            <a:ext cx="850680" cy="1081080"/>
          </a:xfrm>
          <a:prstGeom prst="rect">
            <a:avLst/>
          </a:prstGeom>
          <a:ln w="0">
            <a:noFill/>
          </a:ln>
        </p:spPr>
      </p:pic>
      <p:sp>
        <p:nvSpPr>
          <p:cNvPr id="1041" name=""/>
          <p:cNvSpPr/>
          <p:nvPr/>
        </p:nvSpPr>
        <p:spPr>
          <a:xfrm>
            <a:off x="3997440" y="3789360"/>
            <a:ext cx="1295280" cy="13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904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Arial"/>
              </a:rPr>
              <a:t>Vías de eliminación del grupo </a:t>
            </a:r>
            <a:r>
              <a:rPr b="1" lang="el-GR" sz="2800" spc="-1" strike="noStrike">
                <a:solidFill>
                  <a:srgbClr val="000099"/>
                </a:solidFill>
                <a:latin typeface="Arial"/>
                <a:ea typeface="Arial"/>
              </a:rPr>
              <a:t>α</a:t>
            </a:r>
            <a:r>
              <a:rPr b="1" lang="es-ES_tradnl" sz="2800" spc="-1" strike="noStrike">
                <a:solidFill>
                  <a:srgbClr val="000099"/>
                </a:solidFill>
                <a:latin typeface="Arial"/>
              </a:rPr>
              <a:t>-am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3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044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045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50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1" name=""/>
          <p:cNvSpPr/>
          <p:nvPr/>
        </p:nvSpPr>
        <p:spPr>
          <a:xfrm>
            <a:off x="330120" y="1908000"/>
            <a:ext cx="574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Reacciones de Transamin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2" name=""/>
          <p:cNvGrpSpPr/>
          <p:nvPr/>
        </p:nvGrpSpPr>
        <p:grpSpPr>
          <a:xfrm>
            <a:off x="330120" y="2901960"/>
            <a:ext cx="8358120" cy="1768320"/>
            <a:chOff x="330120" y="2901960"/>
            <a:chExt cx="8358120" cy="1768320"/>
          </a:xfrm>
        </p:grpSpPr>
        <p:sp>
          <p:nvSpPr>
            <p:cNvPr id="1053" name=""/>
            <p:cNvSpPr/>
            <p:nvPr/>
          </p:nvSpPr>
          <p:spPr>
            <a:xfrm>
              <a:off x="330120" y="3354480"/>
              <a:ext cx="5427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33cc33"/>
                  </a:solidFill>
                  <a:latin typeface="Arial"/>
                </a:rPr>
                <a:t>- </a:t>
              </a:r>
              <a:r>
                <a:rPr b="1" lang="es-ES_tradnl" sz="2800" spc="-1" strike="noStrike">
                  <a:solidFill>
                    <a:srgbClr val="33cc33"/>
                  </a:solidFill>
                  <a:latin typeface="Arial"/>
                </a:rPr>
                <a:t>Reacciones de Desami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4" name=""/>
            <p:cNvGrpSpPr/>
            <p:nvPr/>
          </p:nvGrpSpPr>
          <p:grpSpPr>
            <a:xfrm>
              <a:off x="5724360" y="2901960"/>
              <a:ext cx="2593080" cy="743040"/>
              <a:chOff x="5724360" y="2901960"/>
              <a:chExt cx="2593080" cy="743040"/>
            </a:xfrm>
          </p:grpSpPr>
          <p:sp>
            <p:nvSpPr>
              <p:cNvPr id="1055" name=""/>
              <p:cNvSpPr/>
              <p:nvPr/>
            </p:nvSpPr>
            <p:spPr>
              <a:xfrm>
                <a:off x="6535080" y="2901960"/>
                <a:ext cx="1782360" cy="520560"/>
              </a:xfrm>
              <a:prstGeom prst="rect">
                <a:avLst/>
              </a:prstGeom>
              <a:noFill/>
              <a:ln w="31680">
                <a:solidFill>
                  <a:srgbClr val="33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cc33"/>
                    </a:solidFill>
                    <a:latin typeface="Arial"/>
                  </a:rPr>
                  <a:t>Oxidativ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 flipV="1">
                <a:off x="5724360" y="3141720"/>
                <a:ext cx="648000" cy="503280"/>
              </a:xfrm>
              <a:prstGeom prst="line">
                <a:avLst/>
              </a:prstGeom>
              <a:ln w="44280">
                <a:solidFill>
                  <a:srgbClr val="33cc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7" name=""/>
            <p:cNvGrpSpPr/>
            <p:nvPr/>
          </p:nvGrpSpPr>
          <p:grpSpPr>
            <a:xfrm>
              <a:off x="5724360" y="3789360"/>
              <a:ext cx="2963880" cy="880920"/>
              <a:chOff x="5724360" y="3789360"/>
              <a:chExt cx="2963880" cy="880920"/>
            </a:xfrm>
          </p:grpSpPr>
          <p:sp>
            <p:nvSpPr>
              <p:cNvPr id="1058" name=""/>
              <p:cNvSpPr/>
              <p:nvPr/>
            </p:nvSpPr>
            <p:spPr>
              <a:xfrm>
                <a:off x="6334200" y="4149720"/>
                <a:ext cx="2354040" cy="520560"/>
              </a:xfrm>
              <a:prstGeom prst="rect">
                <a:avLst/>
              </a:prstGeom>
              <a:noFill/>
              <a:ln w="31680">
                <a:solidFill>
                  <a:srgbClr val="33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cc33"/>
                    </a:solidFill>
                    <a:latin typeface="Arial"/>
                  </a:rPr>
                  <a:t>No Oxidativ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5724360" y="3789360"/>
                <a:ext cx="432000" cy="576360"/>
              </a:xfrm>
              <a:prstGeom prst="line">
                <a:avLst/>
              </a:prstGeom>
              <a:ln w="44280">
                <a:solidFill>
                  <a:srgbClr val="33cc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2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7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0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061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062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67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8" name=""/>
          <p:cNvSpPr/>
          <p:nvPr/>
        </p:nvSpPr>
        <p:spPr>
          <a:xfrm>
            <a:off x="3030120" y="692280"/>
            <a:ext cx="29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Transamin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9" name=""/>
          <p:cNvGrpSpPr/>
          <p:nvPr/>
        </p:nvGrpSpPr>
        <p:grpSpPr>
          <a:xfrm>
            <a:off x="5438160" y="1916280"/>
            <a:ext cx="3762360" cy="1665000"/>
            <a:chOff x="5438160" y="1916280"/>
            <a:chExt cx="3762360" cy="1665000"/>
          </a:xfrm>
        </p:grpSpPr>
        <p:pic>
          <p:nvPicPr>
            <p:cNvPr id="1070" name="" descr=""/>
            <p:cNvPicPr/>
            <p:nvPr/>
          </p:nvPicPr>
          <p:blipFill>
            <a:blip r:embed="rId2"/>
            <a:srcRect l="52284" t="57333" r="0" b="5833"/>
            <a:stretch/>
          </p:blipFill>
          <p:spPr>
            <a:xfrm>
              <a:off x="5722920" y="1916280"/>
              <a:ext cx="3024360" cy="12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1" name=""/>
            <p:cNvSpPr/>
            <p:nvPr/>
          </p:nvSpPr>
          <p:spPr>
            <a:xfrm>
              <a:off x="7215480" y="3213000"/>
              <a:ext cx="198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α</a:t>
              </a:r>
              <a:r>
                <a:rPr b="0" lang="es-ES_tradnl" sz="1800" spc="-1" strike="noStrike">
                  <a:solidFill>
                    <a:srgbClr val="000099"/>
                  </a:solidFill>
                  <a:latin typeface="Arial"/>
                </a:rPr>
                <a:t>-aminoácido (R’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438160" y="3213000"/>
              <a:ext cx="174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α</a:t>
              </a:r>
              <a:r>
                <a:rPr b="0" lang="es-ES_tradnl" sz="1800" spc="-1" strike="noStrike">
                  <a:solidFill>
                    <a:srgbClr val="000099"/>
                  </a:solidFill>
                  <a:latin typeface="Arial"/>
                </a:rPr>
                <a:t>-cetoácido (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"/>
          <p:cNvGrpSpPr/>
          <p:nvPr/>
        </p:nvGrpSpPr>
        <p:grpSpPr>
          <a:xfrm>
            <a:off x="254160" y="1844640"/>
            <a:ext cx="3668400" cy="1808280"/>
            <a:chOff x="254160" y="1844640"/>
            <a:chExt cx="3668400" cy="1808280"/>
          </a:xfrm>
        </p:grpSpPr>
        <p:pic>
          <p:nvPicPr>
            <p:cNvPr id="1074" name="" descr=""/>
            <p:cNvPicPr/>
            <p:nvPr/>
          </p:nvPicPr>
          <p:blipFill>
            <a:blip r:embed="rId3"/>
            <a:srcRect l="0" t="4211" r="48844" b="56002"/>
            <a:stretch/>
          </p:blipFill>
          <p:spPr>
            <a:xfrm>
              <a:off x="394920" y="1844640"/>
              <a:ext cx="31683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5" name=""/>
            <p:cNvSpPr/>
            <p:nvPr/>
          </p:nvSpPr>
          <p:spPr>
            <a:xfrm>
              <a:off x="254160" y="3284640"/>
              <a:ext cx="193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α</a:t>
              </a:r>
              <a:r>
                <a:rPr b="0" lang="es-ES_tradnl" sz="1800" spc="-1" strike="noStrike">
                  <a:solidFill>
                    <a:srgbClr val="000099"/>
                  </a:solidFill>
                  <a:latin typeface="Arial"/>
                </a:rPr>
                <a:t>-aminoácido (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126520" y="3284640"/>
              <a:ext cx="179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α</a:t>
              </a:r>
              <a:r>
                <a:rPr b="0" lang="es-ES_tradnl" sz="1800" spc="-1" strike="noStrike">
                  <a:solidFill>
                    <a:srgbClr val="000099"/>
                  </a:solidFill>
                  <a:latin typeface="Arial"/>
                </a:rPr>
                <a:t>-cetoácido (R’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7" name=""/>
          <p:cNvGrpSpPr/>
          <p:nvPr/>
        </p:nvGrpSpPr>
        <p:grpSpPr>
          <a:xfrm>
            <a:off x="3492360" y="1700280"/>
            <a:ext cx="2160360" cy="1298520"/>
            <a:chOff x="3492360" y="1700280"/>
            <a:chExt cx="2160360" cy="1298520"/>
          </a:xfrm>
        </p:grpSpPr>
        <p:grpSp>
          <p:nvGrpSpPr>
            <p:cNvPr id="1078" name=""/>
            <p:cNvGrpSpPr/>
            <p:nvPr/>
          </p:nvGrpSpPr>
          <p:grpSpPr>
            <a:xfrm>
              <a:off x="3779640" y="2421000"/>
              <a:ext cx="1512720" cy="144360"/>
              <a:chOff x="3779640" y="2421000"/>
              <a:chExt cx="1512720" cy="144360"/>
            </a:xfrm>
          </p:grpSpPr>
          <p:sp>
            <p:nvSpPr>
              <p:cNvPr id="1079" name=""/>
              <p:cNvSpPr/>
              <p:nvPr/>
            </p:nvSpPr>
            <p:spPr>
              <a:xfrm>
                <a:off x="3779640" y="2421000"/>
                <a:ext cx="1512720" cy="0"/>
              </a:xfrm>
              <a:prstGeom prst="line">
                <a:avLst/>
              </a:prstGeom>
              <a:ln w="507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3779640" y="2565360"/>
                <a:ext cx="1441440" cy="0"/>
              </a:xfrm>
              <a:prstGeom prst="line">
                <a:avLst/>
              </a:prstGeom>
              <a:ln w="50760">
                <a:solidFill>
                  <a:srgbClr val="0000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1" name=""/>
            <p:cNvSpPr/>
            <p:nvPr/>
          </p:nvSpPr>
          <p:spPr>
            <a:xfrm>
              <a:off x="4160520" y="2630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6600"/>
                  </a:solidFill>
                  <a:latin typeface="Arial"/>
                </a:rPr>
                <a:t>PL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492360" y="1700280"/>
              <a:ext cx="216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Aminotransferasa o Transamin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3" name=""/>
          <p:cNvGrpSpPr/>
          <p:nvPr/>
        </p:nvGrpSpPr>
        <p:grpSpPr>
          <a:xfrm>
            <a:off x="2414160" y="4076640"/>
            <a:ext cx="4890600" cy="2529000"/>
            <a:chOff x="2414160" y="4076640"/>
            <a:chExt cx="4890600" cy="2529000"/>
          </a:xfrm>
        </p:grpSpPr>
        <p:sp>
          <p:nvSpPr>
            <p:cNvPr id="1084" name=""/>
            <p:cNvSpPr/>
            <p:nvPr/>
          </p:nvSpPr>
          <p:spPr>
            <a:xfrm>
              <a:off x="2414160" y="6237360"/>
              <a:ext cx="233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6600"/>
                  </a:solidFill>
                  <a:latin typeface="Arial"/>
                </a:rPr>
                <a:t>PLP: piridoxal fosf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5" name="" descr=""/>
            <p:cNvPicPr/>
            <p:nvPr/>
          </p:nvPicPr>
          <p:blipFill>
            <a:blip r:embed="rId4"/>
            <a:srcRect l="0" t="0" r="0" b="62275"/>
            <a:stretch/>
          </p:blipFill>
          <p:spPr>
            <a:xfrm>
              <a:off x="2738520" y="4076640"/>
              <a:ext cx="1778040" cy="205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6" name="" descr=""/>
            <p:cNvPicPr/>
            <p:nvPr/>
          </p:nvPicPr>
          <p:blipFill>
            <a:blip r:embed="rId5"/>
            <a:srcRect l="0" t="49011" r="0" b="13900"/>
            <a:stretch/>
          </p:blipFill>
          <p:spPr>
            <a:xfrm>
              <a:off x="5315040" y="4076640"/>
              <a:ext cx="1778040" cy="2016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87" name=""/>
            <p:cNvGrpSpPr/>
            <p:nvPr/>
          </p:nvGrpSpPr>
          <p:grpSpPr>
            <a:xfrm>
              <a:off x="4500720" y="4869000"/>
              <a:ext cx="792000" cy="144360"/>
              <a:chOff x="4500720" y="4869000"/>
              <a:chExt cx="792000" cy="144360"/>
            </a:xfrm>
          </p:grpSpPr>
          <p:sp>
            <p:nvSpPr>
              <p:cNvPr id="1088" name=""/>
              <p:cNvSpPr/>
              <p:nvPr/>
            </p:nvSpPr>
            <p:spPr>
              <a:xfrm>
                <a:off x="4500720" y="4869000"/>
                <a:ext cx="792000" cy="0"/>
              </a:xfrm>
              <a:prstGeom prst="line">
                <a:avLst/>
              </a:prstGeom>
              <a:ln w="50760">
                <a:solidFill>
                  <a:srgbClr val="33cc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4500720" y="5013360"/>
                <a:ext cx="754560" cy="0"/>
              </a:xfrm>
              <a:prstGeom prst="line">
                <a:avLst/>
              </a:prstGeom>
              <a:ln w="50760">
                <a:solidFill>
                  <a:srgbClr val="33cccc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0" name=""/>
            <p:cNvSpPr/>
            <p:nvPr/>
          </p:nvSpPr>
          <p:spPr>
            <a:xfrm>
              <a:off x="5083560" y="6165720"/>
              <a:ext cx="222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6600"/>
                  </a:solidFill>
                  <a:latin typeface="Arial"/>
                </a:rPr>
                <a:t>piridoxamina fosf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1" name=""/>
          <p:cNvSpPr/>
          <p:nvPr/>
        </p:nvSpPr>
        <p:spPr>
          <a:xfrm>
            <a:off x="395280" y="2276640"/>
            <a:ext cx="792000" cy="57600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904320" y="1916280"/>
            <a:ext cx="1727280" cy="870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47" y="7726"/>
                </a:moveTo>
                <a:arcTo wR="10800" hR="10800" stAng="-9807676" swAng="10318809"/>
                <a:lnTo>
                  <a:pt x="10800" y="10800"/>
                </a:lnTo>
                <a:close/>
              </a:path>
              <a:path fill="none" w="21600" h="21600">
                <a:moveTo>
                  <a:pt x="447" y="7726"/>
                </a:moveTo>
                <a:arcTo wR="10800" hR="10800" stAng="-9807676" swAng="10318809"/>
              </a:path>
            </a:pathLst>
          </a:custGeom>
          <a:noFill/>
          <a:ln w="414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7020000" y="2276640"/>
            <a:ext cx="792000" cy="6476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2" dur="10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"/>
          <p:cNvSpPr/>
          <p:nvPr/>
        </p:nvSpPr>
        <p:spPr>
          <a:xfrm>
            <a:off x="611280" y="620640"/>
            <a:ext cx="7772400" cy="5715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s reacciones de transaminación son fácilmente </a:t>
            </a: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reversibl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y son </a:t>
            </a: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muy importantes en el metabolismo proteic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odos los aminoácidos (excepto lisina y treonina) participan en reacciones de transaminación con los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α-cetoácido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α-cetoglutara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oxaloacet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piruv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5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096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097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02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3" name=""/>
          <p:cNvSpPr/>
          <p:nvPr/>
        </p:nvSpPr>
        <p:spPr>
          <a:xfrm>
            <a:off x="755640" y="74916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Principales reacciones de transaminación</a:t>
            </a:r>
            <a:r>
              <a:rPr b="1" lang="es-ES_tradnl" sz="28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3708360" y="2924280"/>
            <a:ext cx="1943280" cy="0"/>
          </a:xfrm>
          <a:prstGeom prst="line">
            <a:avLst/>
          </a:prstGeom>
          <a:ln w="507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4429080" y="29242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P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3635280" y="1916280"/>
            <a:ext cx="21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Alanina aminotransferasa (AL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3492360" y="321948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Glutámico pirúvico transaminasa (GP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8" name=""/>
          <p:cNvGrpSpPr/>
          <p:nvPr/>
        </p:nvGrpSpPr>
        <p:grpSpPr>
          <a:xfrm>
            <a:off x="250920" y="2209680"/>
            <a:ext cx="1728720" cy="2327400"/>
            <a:chOff x="250920" y="2209680"/>
            <a:chExt cx="1728720" cy="2327400"/>
          </a:xfrm>
        </p:grpSpPr>
        <p:graphicFrame>
          <p:nvGraphicFramePr>
            <p:cNvPr id="1109" name=""/>
            <p:cNvGraphicFramePr/>
            <p:nvPr/>
          </p:nvGraphicFramePr>
          <p:xfrm>
            <a:off x="250920" y="2209680"/>
            <a:ext cx="1728720" cy="1435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11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50920" y="2209680"/>
                      <a:ext cx="1728720" cy="143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11" name=""/>
            <p:cNvSpPr/>
            <p:nvPr/>
          </p:nvSpPr>
          <p:spPr>
            <a:xfrm>
              <a:off x="828360" y="4168800"/>
              <a:ext cx="100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</a:rPr>
                <a:t>Alan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2" name=""/>
          <p:cNvGrpSpPr/>
          <p:nvPr/>
        </p:nvGrpSpPr>
        <p:grpSpPr>
          <a:xfrm>
            <a:off x="2052360" y="1890720"/>
            <a:ext cx="1845720" cy="2627280"/>
            <a:chOff x="2052360" y="1890720"/>
            <a:chExt cx="1845720" cy="2627280"/>
          </a:xfrm>
        </p:grpSpPr>
        <p:grpSp>
          <p:nvGrpSpPr>
            <p:cNvPr id="1113" name=""/>
            <p:cNvGrpSpPr/>
            <p:nvPr/>
          </p:nvGrpSpPr>
          <p:grpSpPr>
            <a:xfrm>
              <a:off x="2052360" y="1890720"/>
              <a:ext cx="1301760" cy="2259360"/>
              <a:chOff x="2052360" y="1890720"/>
              <a:chExt cx="1301760" cy="2259360"/>
            </a:xfrm>
          </p:grpSpPr>
          <p:sp>
            <p:nvSpPr>
              <p:cNvPr id="1114" name=""/>
              <p:cNvSpPr/>
              <p:nvPr/>
            </p:nvSpPr>
            <p:spPr>
              <a:xfrm>
                <a:off x="2052360" y="268272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5" name=""/>
              <p:cNvGrpSpPr/>
              <p:nvPr/>
            </p:nvGrpSpPr>
            <p:grpSpPr>
              <a:xfrm>
                <a:off x="2628720" y="1890720"/>
                <a:ext cx="725400" cy="2259360"/>
                <a:chOff x="2628720" y="1890720"/>
                <a:chExt cx="725400" cy="2259360"/>
              </a:xfrm>
            </p:grpSpPr>
            <p:sp>
              <p:nvSpPr>
                <p:cNvPr id="1116" name=""/>
                <p:cNvSpPr/>
                <p:nvPr/>
              </p:nvSpPr>
              <p:spPr>
                <a:xfrm>
                  <a:off x="2628720" y="194760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2832120" y="194760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3049560" y="194760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3266640" y="1890720"/>
                  <a:ext cx="723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000099"/>
                      </a:solidFill>
                      <a:latin typeface="Arial"/>
                    </a:rPr>
                    <a:t>-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2628720" y="242568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2628720" y="289080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2832120" y="289080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H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3035160" y="3009600"/>
                  <a:ext cx="1209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000099"/>
                      </a:solidFill>
                      <a:latin typeface="Arial"/>
                    </a:rPr>
                    <a:t>2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2628720" y="335880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>
                  <a:off x="2832120" y="335880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H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3035160" y="3476520"/>
                  <a:ext cx="1209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000099"/>
                      </a:solidFill>
                      <a:latin typeface="Arial"/>
                    </a:rPr>
                    <a:t>2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2628720" y="381456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2832120" y="381456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3049560" y="381456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3266640" y="3757320"/>
                  <a:ext cx="723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000099"/>
                      </a:solidFill>
                      <a:latin typeface="Arial"/>
                    </a:rPr>
                    <a:t>-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2728800" y="2246040"/>
                  <a:ext cx="0" cy="18720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2860560" y="2582640"/>
                  <a:ext cx="212760" cy="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2728800" y="2712960"/>
                  <a:ext cx="0" cy="18540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2728800" y="3178080"/>
                  <a:ext cx="0" cy="18684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2728800" y="3646440"/>
                  <a:ext cx="0" cy="18684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2849400" y="2630160"/>
                  <a:ext cx="212760" cy="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3137040" y="241452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8" name=""/>
            <p:cNvSpPr/>
            <p:nvPr/>
          </p:nvSpPr>
          <p:spPr>
            <a:xfrm>
              <a:off x="2053440" y="4149720"/>
              <a:ext cx="184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α</a:t>
              </a: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</a:rPr>
                <a:t>-cetoglutar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9" name=""/>
          <p:cNvGrpSpPr/>
          <p:nvPr/>
        </p:nvGrpSpPr>
        <p:grpSpPr>
          <a:xfrm>
            <a:off x="5797440" y="2276640"/>
            <a:ext cx="1095120" cy="2250720"/>
            <a:chOff x="5797440" y="2276640"/>
            <a:chExt cx="1095120" cy="2250720"/>
          </a:xfrm>
        </p:grpSpPr>
        <p:grpSp>
          <p:nvGrpSpPr>
            <p:cNvPr id="1140" name=""/>
            <p:cNvGrpSpPr/>
            <p:nvPr/>
          </p:nvGrpSpPr>
          <p:grpSpPr>
            <a:xfrm>
              <a:off x="6011640" y="2276640"/>
              <a:ext cx="725040" cy="1378800"/>
              <a:chOff x="6011640" y="2276640"/>
              <a:chExt cx="725040" cy="1378800"/>
            </a:xfrm>
          </p:grpSpPr>
          <p:sp>
            <p:nvSpPr>
              <p:cNvPr id="1141" name=""/>
              <p:cNvSpPr/>
              <p:nvPr/>
            </p:nvSpPr>
            <p:spPr>
              <a:xfrm>
                <a:off x="6011640" y="2333880"/>
                <a:ext cx="2019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99"/>
                    </a:solidFill>
                    <a:latin typeface="Arial"/>
                  </a:rPr>
                  <a:t>C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6215040" y="2333880"/>
                <a:ext cx="2170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99"/>
                    </a:solidFill>
                    <a:latin typeface="Arial"/>
                  </a:rPr>
                  <a:t>O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6432480" y="2333880"/>
                <a:ext cx="2170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99"/>
                    </a:solidFill>
                    <a:latin typeface="Arial"/>
                  </a:rPr>
                  <a:t>O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6649560" y="2276640"/>
                <a:ext cx="72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99"/>
                    </a:solidFill>
                    <a:latin typeface="Arial"/>
                  </a:rPr>
                  <a:t>-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6011640" y="2811600"/>
                <a:ext cx="2019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99"/>
                    </a:solidFill>
                    <a:latin typeface="Arial"/>
                  </a:rPr>
                  <a:t>C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6011640" y="3276720"/>
                <a:ext cx="2019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99"/>
                    </a:solidFill>
                    <a:latin typeface="Arial"/>
                  </a:rPr>
                  <a:t>C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6214680" y="3276720"/>
                <a:ext cx="2019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99"/>
                    </a:solidFill>
                    <a:latin typeface="Arial"/>
                  </a:rPr>
                  <a:t>H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6417720" y="3395880"/>
                <a:ext cx="1209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99"/>
                    </a:solidFill>
                    <a:latin typeface="Arial"/>
                  </a:rPr>
                  <a:t>3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6111720" y="2632320"/>
                <a:ext cx="0" cy="187200"/>
              </a:xfrm>
              <a:prstGeom prst="line">
                <a:avLst/>
              </a:prstGeom>
              <a:ln w="176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6243480" y="2968560"/>
                <a:ext cx="212400" cy="0"/>
              </a:xfrm>
              <a:prstGeom prst="line">
                <a:avLst/>
              </a:prstGeom>
              <a:ln w="176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6111720" y="3098880"/>
                <a:ext cx="0" cy="185760"/>
              </a:xfrm>
              <a:prstGeom prst="line">
                <a:avLst/>
              </a:prstGeom>
              <a:ln w="176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6232320" y="3016440"/>
                <a:ext cx="212400" cy="0"/>
              </a:xfrm>
              <a:prstGeom prst="line">
                <a:avLst/>
              </a:prstGeom>
              <a:ln w="176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519600" y="2800440"/>
                <a:ext cx="2170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99"/>
                    </a:solidFill>
                    <a:latin typeface="Arial"/>
                  </a:rPr>
                  <a:t>O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4" name=""/>
            <p:cNvSpPr/>
            <p:nvPr/>
          </p:nvSpPr>
          <p:spPr>
            <a:xfrm>
              <a:off x="5797440" y="4159080"/>
              <a:ext cx="10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Piruv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5" name=""/>
          <p:cNvGrpSpPr/>
          <p:nvPr/>
        </p:nvGrpSpPr>
        <p:grpSpPr>
          <a:xfrm>
            <a:off x="6875280" y="1700280"/>
            <a:ext cx="2016360" cy="2809800"/>
            <a:chOff x="6875280" y="1700280"/>
            <a:chExt cx="2016360" cy="2809800"/>
          </a:xfrm>
        </p:grpSpPr>
        <p:grpSp>
          <p:nvGrpSpPr>
            <p:cNvPr id="1156" name=""/>
            <p:cNvGrpSpPr/>
            <p:nvPr/>
          </p:nvGrpSpPr>
          <p:grpSpPr>
            <a:xfrm>
              <a:off x="6875280" y="1700280"/>
              <a:ext cx="1944720" cy="2361960"/>
              <a:chOff x="6875280" y="1700280"/>
              <a:chExt cx="1944720" cy="2361960"/>
            </a:xfrm>
          </p:grpSpPr>
          <p:graphicFrame>
            <p:nvGraphicFramePr>
              <p:cNvPr id="1157" name=""/>
              <p:cNvGraphicFramePr/>
              <p:nvPr/>
            </p:nvGraphicFramePr>
            <p:xfrm>
              <a:off x="7068960" y="1700280"/>
              <a:ext cx="1751040" cy="236196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1158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7068960" y="1700280"/>
                        <a:ext cx="1751040" cy="2361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159" name=""/>
              <p:cNvSpPr/>
              <p:nvPr/>
            </p:nvSpPr>
            <p:spPr>
              <a:xfrm>
                <a:off x="6875280" y="270828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0" name=""/>
            <p:cNvSpPr/>
            <p:nvPr/>
          </p:nvSpPr>
          <p:spPr>
            <a:xfrm>
              <a:off x="7580160" y="4141800"/>
              <a:ext cx="131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Glutam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1" name=""/>
          <p:cNvSpPr/>
          <p:nvPr/>
        </p:nvSpPr>
        <p:spPr>
          <a:xfrm>
            <a:off x="513720" y="5084640"/>
            <a:ext cx="740268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G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spcAft>
                <a:spcPts val="249"/>
              </a:spcAft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ocalización citoplasmát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spcAft>
                <a:spcPts val="249"/>
              </a:spcAft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articularmente abundante en hígado, corazón y múscu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2" name=""/>
          <p:cNvGrpSpPr/>
          <p:nvPr/>
        </p:nvGrpSpPr>
        <p:grpSpPr>
          <a:xfrm>
            <a:off x="250920" y="1940760"/>
            <a:ext cx="2516040" cy="1550520"/>
            <a:chOff x="250920" y="1940760"/>
            <a:chExt cx="2516040" cy="1550520"/>
          </a:xfrm>
        </p:grpSpPr>
        <p:sp>
          <p:nvSpPr>
            <p:cNvPr id="1163" name=""/>
            <p:cNvSpPr/>
            <p:nvPr/>
          </p:nvSpPr>
          <p:spPr>
            <a:xfrm>
              <a:off x="250920" y="2637000"/>
              <a:ext cx="792000" cy="576000"/>
            </a:xfrm>
            <a:prstGeom prst="ellipse">
              <a:avLst/>
            </a:prstGeom>
            <a:noFill/>
            <a:ln w="442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 rot="21066600">
              <a:off x="622440" y="2091960"/>
              <a:ext cx="2060280" cy="124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1" y="7191"/>
                  </a:moveTo>
                  <a:arcTo wR="10800" hR="10800" stAng="-9628813" swAng="9208795"/>
                  <a:lnTo>
                    <a:pt x="10800" y="10800"/>
                  </a:lnTo>
                  <a:close/>
                </a:path>
                <a:path fill="none" w="21600" h="21600">
                  <a:moveTo>
                    <a:pt x="621" y="7191"/>
                  </a:moveTo>
                  <a:arcTo wR="10800" hR="10800" stAng="-9628813" swAng="9208795"/>
                </a:path>
              </a:pathLst>
            </a:custGeom>
            <a:noFill/>
            <a:ln w="4140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5" name=""/>
          <p:cNvSpPr/>
          <p:nvPr/>
        </p:nvSpPr>
        <p:spPr>
          <a:xfrm>
            <a:off x="7020000" y="2133720"/>
            <a:ext cx="792000" cy="647640"/>
          </a:xfrm>
          <a:prstGeom prst="ellipse">
            <a:avLst/>
          </a:prstGeom>
          <a:noFill/>
          <a:ln w="442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1" dur="10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2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7" dur="20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31840" y="733320"/>
            <a:ext cx="8372520" cy="47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Arial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451"/>
              </a:spcAft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33cc"/>
                </a:solidFill>
                <a:latin typeface="Arial"/>
              </a:rPr>
              <a:t>Que al finalizar la clase, sean capaces de</a:t>
            </a: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451"/>
              </a:spcAft>
              <a:buClr>
                <a:srgbClr val="0033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Definir y distinguir aminoácidos esenciales y no esenci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451"/>
              </a:spcAft>
              <a:buClr>
                <a:srgbClr val="0033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Diferenciar y formular las reacciones de transaminación y desaminación, comprendiendo su significado biológ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451"/>
              </a:spcAft>
              <a:buClr>
                <a:srgbClr val="0033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Fundamentar la toxicidad del amon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í</a:t>
            </a: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aco. Explicar su metabolización y excreción en los distintos organism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72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73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8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6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167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168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73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4" name=""/>
          <p:cNvSpPr/>
          <p:nvPr/>
        </p:nvSpPr>
        <p:spPr>
          <a:xfrm>
            <a:off x="3780000" y="3068640"/>
            <a:ext cx="1800000" cy="0"/>
          </a:xfrm>
          <a:prstGeom prst="line">
            <a:avLst/>
          </a:prstGeom>
          <a:ln w="507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4357440" y="30686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P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3564000" y="2081160"/>
            <a:ext cx="21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Aspartato aminotransferasa (A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3203640" y="34290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Glutámico oxalacético transaminasa (G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755640" y="82224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Principales reacciones de transamin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9" name=""/>
          <p:cNvGrpSpPr/>
          <p:nvPr/>
        </p:nvGrpSpPr>
        <p:grpSpPr>
          <a:xfrm>
            <a:off x="324000" y="1817640"/>
            <a:ext cx="3574080" cy="2627280"/>
            <a:chOff x="324000" y="1817640"/>
            <a:chExt cx="3574080" cy="2627280"/>
          </a:xfrm>
        </p:grpSpPr>
        <p:grpSp>
          <p:nvGrpSpPr>
            <p:cNvPr id="1180" name=""/>
            <p:cNvGrpSpPr/>
            <p:nvPr/>
          </p:nvGrpSpPr>
          <p:grpSpPr>
            <a:xfrm>
              <a:off x="2053440" y="1817640"/>
              <a:ext cx="1844640" cy="2627280"/>
              <a:chOff x="2053440" y="1817640"/>
              <a:chExt cx="1844640" cy="2627280"/>
            </a:xfrm>
          </p:grpSpPr>
          <p:grpSp>
            <p:nvGrpSpPr>
              <p:cNvPr id="1181" name=""/>
              <p:cNvGrpSpPr/>
              <p:nvPr/>
            </p:nvGrpSpPr>
            <p:grpSpPr>
              <a:xfrm>
                <a:off x="2700000" y="1817640"/>
                <a:ext cx="725040" cy="2259360"/>
                <a:chOff x="2700000" y="1817640"/>
                <a:chExt cx="725040" cy="2259360"/>
              </a:xfrm>
            </p:grpSpPr>
            <p:sp>
              <p:nvSpPr>
                <p:cNvPr id="1182" name=""/>
                <p:cNvSpPr/>
                <p:nvPr/>
              </p:nvSpPr>
              <p:spPr>
                <a:xfrm>
                  <a:off x="2700000" y="187452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2903400" y="187452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3120840" y="187452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3337560" y="1817640"/>
                  <a:ext cx="723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000099"/>
                      </a:solidFill>
                      <a:latin typeface="Arial"/>
                    </a:rPr>
                    <a:t>-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2700000" y="235260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2700000" y="281772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2903040" y="281772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H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3106080" y="2936520"/>
                  <a:ext cx="1209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000099"/>
                      </a:solidFill>
                      <a:latin typeface="Arial"/>
                    </a:rPr>
                    <a:t>2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2700000" y="328572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2903040" y="328572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H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3106080" y="3403440"/>
                  <a:ext cx="1209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000099"/>
                      </a:solidFill>
                      <a:latin typeface="Arial"/>
                    </a:rPr>
                    <a:t>2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2700000" y="374148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2903400" y="374148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3120840" y="374148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3337560" y="3684240"/>
                  <a:ext cx="723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000099"/>
                      </a:solidFill>
                      <a:latin typeface="Arial"/>
                    </a:rPr>
                    <a:t>-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2800080" y="2172960"/>
                  <a:ext cx="0" cy="18720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2931840" y="2509560"/>
                  <a:ext cx="212400" cy="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2800080" y="2639880"/>
                  <a:ext cx="0" cy="18540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2800080" y="3105000"/>
                  <a:ext cx="0" cy="18684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2800080" y="3573360"/>
                  <a:ext cx="0" cy="18684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2920680" y="2557080"/>
                  <a:ext cx="212400" cy="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3207960" y="234144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4" name=""/>
              <p:cNvSpPr/>
              <p:nvPr/>
            </p:nvSpPr>
            <p:spPr>
              <a:xfrm>
                <a:off x="2125440" y="278136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2053440" y="4076640"/>
                <a:ext cx="1844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800" spc="-1" strike="noStrike">
                    <a:solidFill>
                      <a:srgbClr val="000099"/>
                    </a:solidFill>
                    <a:latin typeface="Arial"/>
                    <a:ea typeface="Arial"/>
                  </a:rPr>
                  <a:t>α</a:t>
                </a:r>
                <a:r>
                  <a:rPr b="1" lang="es-ES_tradnl" sz="1800" spc="-1" strike="noStrike">
                    <a:solidFill>
                      <a:srgbClr val="000099"/>
                    </a:solidFill>
                    <a:latin typeface="Arial"/>
                  </a:rPr>
                  <a:t>-cetoglutara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"/>
            <p:cNvGrpSpPr/>
            <p:nvPr/>
          </p:nvGrpSpPr>
          <p:grpSpPr>
            <a:xfrm>
              <a:off x="324000" y="2108160"/>
              <a:ext cx="1622160" cy="2330640"/>
              <a:chOff x="324000" y="2108160"/>
              <a:chExt cx="1622160" cy="2330640"/>
            </a:xfrm>
          </p:grpSpPr>
          <p:graphicFrame>
            <p:nvGraphicFramePr>
              <p:cNvPr id="1207" name=""/>
              <p:cNvGraphicFramePr/>
              <p:nvPr/>
            </p:nvGraphicFramePr>
            <p:xfrm>
              <a:off x="324000" y="2108160"/>
              <a:ext cx="1622160" cy="175248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208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324000" y="2108160"/>
                        <a:ext cx="1622160" cy="1752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209" name=""/>
              <p:cNvSpPr/>
              <p:nvPr/>
            </p:nvSpPr>
            <p:spPr>
              <a:xfrm>
                <a:off x="686520" y="4070520"/>
                <a:ext cx="124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99"/>
                    </a:solidFill>
                    <a:latin typeface="Arial"/>
                    <a:ea typeface="Arial"/>
                  </a:rPr>
                  <a:t>Asparta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10" name=""/>
          <p:cNvGrpSpPr/>
          <p:nvPr/>
        </p:nvGrpSpPr>
        <p:grpSpPr>
          <a:xfrm>
            <a:off x="5831640" y="1773360"/>
            <a:ext cx="3131280" cy="2665440"/>
            <a:chOff x="5831640" y="1773360"/>
            <a:chExt cx="3131280" cy="2665440"/>
          </a:xfrm>
        </p:grpSpPr>
        <p:grpSp>
          <p:nvGrpSpPr>
            <p:cNvPr id="1211" name=""/>
            <p:cNvGrpSpPr/>
            <p:nvPr/>
          </p:nvGrpSpPr>
          <p:grpSpPr>
            <a:xfrm>
              <a:off x="6948360" y="1773360"/>
              <a:ext cx="2014560" cy="2593800"/>
              <a:chOff x="6948360" y="1773360"/>
              <a:chExt cx="2014560" cy="2593800"/>
            </a:xfrm>
          </p:grpSpPr>
          <p:sp>
            <p:nvSpPr>
              <p:cNvPr id="1212" name=""/>
              <p:cNvSpPr/>
              <p:nvPr/>
            </p:nvSpPr>
            <p:spPr>
              <a:xfrm>
                <a:off x="6948360" y="275580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213" name=""/>
              <p:cNvGraphicFramePr/>
              <p:nvPr/>
            </p:nvGraphicFramePr>
            <p:xfrm>
              <a:off x="7068960" y="1773360"/>
              <a:ext cx="1751040" cy="236196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1214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7068960" y="1773360"/>
                        <a:ext cx="1751040" cy="2361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215" name=""/>
              <p:cNvSpPr/>
              <p:nvPr/>
            </p:nvSpPr>
            <p:spPr>
              <a:xfrm>
                <a:off x="7651440" y="3998880"/>
                <a:ext cx="1311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99"/>
                    </a:solidFill>
                    <a:latin typeface="Arial"/>
                  </a:rPr>
                  <a:t>Glutama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6" name=""/>
            <p:cNvGrpSpPr/>
            <p:nvPr/>
          </p:nvGrpSpPr>
          <p:grpSpPr>
            <a:xfrm>
              <a:off x="5831640" y="2100240"/>
              <a:ext cx="1474560" cy="2338560"/>
              <a:chOff x="5831640" y="2100240"/>
              <a:chExt cx="1474560" cy="2338560"/>
            </a:xfrm>
          </p:grpSpPr>
          <p:grpSp>
            <p:nvGrpSpPr>
              <p:cNvPr id="1217" name=""/>
              <p:cNvGrpSpPr/>
              <p:nvPr/>
            </p:nvGrpSpPr>
            <p:grpSpPr>
              <a:xfrm>
                <a:off x="6151680" y="2100240"/>
                <a:ext cx="725040" cy="1761120"/>
                <a:chOff x="6151680" y="2100240"/>
                <a:chExt cx="725040" cy="1761120"/>
              </a:xfrm>
            </p:grpSpPr>
            <p:sp>
              <p:nvSpPr>
                <p:cNvPr id="1218" name=""/>
                <p:cNvSpPr/>
                <p:nvPr/>
              </p:nvSpPr>
              <p:spPr>
                <a:xfrm>
                  <a:off x="6151680" y="215748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6354720" y="215748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6572520" y="215748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>
                  <a:off x="6789600" y="2100240"/>
                  <a:ext cx="723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000099"/>
                      </a:solidFill>
                      <a:latin typeface="Arial"/>
                    </a:rPr>
                    <a:t>-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6151680" y="263520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>
                  <a:off x="6151680" y="310032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6354720" y="310032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H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6558120" y="3219480"/>
                  <a:ext cx="1209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000099"/>
                      </a:solidFill>
                      <a:latin typeface="Arial"/>
                    </a:rPr>
                    <a:t>2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6151680" y="352584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6354720" y="352584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6572520" y="352584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6789600" y="3468600"/>
                  <a:ext cx="723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000099"/>
                      </a:solidFill>
                      <a:latin typeface="Arial"/>
                    </a:rPr>
                    <a:t>-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6251760" y="2455920"/>
                  <a:ext cx="0" cy="18720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6383520" y="2792520"/>
                  <a:ext cx="212760" cy="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6251760" y="2922480"/>
                  <a:ext cx="0" cy="18576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6251760" y="3387600"/>
                  <a:ext cx="0" cy="18756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6372360" y="2840040"/>
                  <a:ext cx="212760" cy="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6659640" y="262404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36" name=""/>
              <p:cNvSpPr/>
              <p:nvPr/>
            </p:nvSpPr>
            <p:spPr>
              <a:xfrm>
                <a:off x="5831640" y="407052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99"/>
                    </a:solidFill>
                    <a:latin typeface="Arial"/>
                  </a:rPr>
                  <a:t>Oxalaceta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37" name=""/>
          <p:cNvSpPr/>
          <p:nvPr/>
        </p:nvSpPr>
        <p:spPr>
          <a:xfrm>
            <a:off x="665280" y="5181480"/>
            <a:ext cx="621684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G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spcAft>
                <a:spcPts val="249"/>
              </a:spcAft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ocalización &gt;&gt; mitocondrial y &lt; citoplasmát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spcAft>
                <a:spcPts val="249"/>
              </a:spcAft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articularmente abundante en hígado y coraz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8" name=""/>
          <p:cNvGrpSpPr/>
          <p:nvPr/>
        </p:nvGrpSpPr>
        <p:grpSpPr>
          <a:xfrm>
            <a:off x="324000" y="1728000"/>
            <a:ext cx="2495520" cy="1394640"/>
            <a:chOff x="324000" y="1728000"/>
            <a:chExt cx="2495520" cy="1394640"/>
          </a:xfrm>
        </p:grpSpPr>
        <p:sp>
          <p:nvSpPr>
            <p:cNvPr id="1239" name=""/>
            <p:cNvSpPr/>
            <p:nvPr/>
          </p:nvSpPr>
          <p:spPr>
            <a:xfrm>
              <a:off x="324000" y="2492280"/>
              <a:ext cx="792000" cy="576360"/>
            </a:xfrm>
            <a:prstGeom prst="ellipse">
              <a:avLst/>
            </a:prstGeom>
            <a:noFill/>
            <a:ln w="442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 rot="20878800">
              <a:off x="751320" y="1923840"/>
              <a:ext cx="1985400" cy="1002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47" y="7726"/>
                  </a:moveTo>
                  <a:arcTo wR="10800" hR="10800" stAng="-9807676" swAng="10318809"/>
                  <a:lnTo>
                    <a:pt x="10800" y="10800"/>
                  </a:lnTo>
                  <a:close/>
                </a:path>
                <a:path fill="none" w="21600" h="21600">
                  <a:moveTo>
                    <a:pt x="447" y="7726"/>
                  </a:moveTo>
                  <a:arcTo wR="10800" hR="10800" stAng="-9807676" swAng="10318809"/>
                </a:path>
              </a:pathLst>
            </a:custGeom>
            <a:noFill/>
            <a:ln w="4140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1" name=""/>
          <p:cNvSpPr/>
          <p:nvPr/>
        </p:nvSpPr>
        <p:spPr>
          <a:xfrm>
            <a:off x="7093080" y="2205000"/>
            <a:ext cx="792000" cy="647640"/>
          </a:xfrm>
          <a:prstGeom prst="ellipse">
            <a:avLst/>
          </a:prstGeom>
          <a:noFill/>
          <a:ln w="442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8" dur="indefinite" restart="never" nodeType="tmRoot">
          <p:childTnLst>
            <p:seq>
              <p:cTn id="1079" dur="indefinite" nodeType="mainSeq">
                <p:childTnLst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8" dur="10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3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6" dur="20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5904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Arial"/>
              </a:rPr>
              <a:t>Vías de eliminación del grupo </a:t>
            </a:r>
            <a:r>
              <a:rPr b="1" lang="el-GR" sz="2800" spc="-1" strike="noStrike">
                <a:solidFill>
                  <a:srgbClr val="000099"/>
                </a:solidFill>
                <a:latin typeface="Arial"/>
                <a:ea typeface="Arial"/>
              </a:rPr>
              <a:t>α</a:t>
            </a:r>
            <a:r>
              <a:rPr b="1" lang="es-ES_tradnl" sz="2800" spc="-1" strike="noStrike">
                <a:solidFill>
                  <a:srgbClr val="000099"/>
                </a:solidFill>
                <a:latin typeface="Arial"/>
              </a:rPr>
              <a:t>-am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3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244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245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50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1" name=""/>
          <p:cNvSpPr/>
          <p:nvPr/>
        </p:nvSpPr>
        <p:spPr>
          <a:xfrm>
            <a:off x="330120" y="1908000"/>
            <a:ext cx="574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Reacciones de Transamin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2" name=""/>
          <p:cNvGrpSpPr/>
          <p:nvPr/>
        </p:nvGrpSpPr>
        <p:grpSpPr>
          <a:xfrm>
            <a:off x="330120" y="2901960"/>
            <a:ext cx="8358120" cy="1768320"/>
            <a:chOff x="330120" y="2901960"/>
            <a:chExt cx="8358120" cy="1768320"/>
          </a:xfrm>
        </p:grpSpPr>
        <p:sp>
          <p:nvSpPr>
            <p:cNvPr id="1253" name=""/>
            <p:cNvSpPr/>
            <p:nvPr/>
          </p:nvSpPr>
          <p:spPr>
            <a:xfrm>
              <a:off x="330120" y="3354480"/>
              <a:ext cx="5427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33cc33"/>
                  </a:solidFill>
                  <a:latin typeface="Arial"/>
                </a:rPr>
                <a:t>- </a:t>
              </a:r>
              <a:r>
                <a:rPr b="1" lang="es-ES_tradnl" sz="2800" spc="-1" strike="noStrike">
                  <a:solidFill>
                    <a:srgbClr val="33cc33"/>
                  </a:solidFill>
                  <a:latin typeface="Arial"/>
                </a:rPr>
                <a:t>Reacciones de Desami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4" name=""/>
            <p:cNvGrpSpPr/>
            <p:nvPr/>
          </p:nvGrpSpPr>
          <p:grpSpPr>
            <a:xfrm>
              <a:off x="5724360" y="2901960"/>
              <a:ext cx="2593080" cy="743040"/>
              <a:chOff x="5724360" y="2901960"/>
              <a:chExt cx="2593080" cy="743040"/>
            </a:xfrm>
          </p:grpSpPr>
          <p:sp>
            <p:nvSpPr>
              <p:cNvPr id="1255" name=""/>
              <p:cNvSpPr/>
              <p:nvPr/>
            </p:nvSpPr>
            <p:spPr>
              <a:xfrm>
                <a:off x="6535080" y="2901960"/>
                <a:ext cx="1782360" cy="520560"/>
              </a:xfrm>
              <a:prstGeom prst="rect">
                <a:avLst/>
              </a:prstGeom>
              <a:noFill/>
              <a:ln w="316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cc33"/>
                    </a:solidFill>
                    <a:latin typeface="Arial"/>
                  </a:rPr>
                  <a:t>Oxidativ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 flipV="1">
                <a:off x="5724360" y="3141720"/>
                <a:ext cx="648000" cy="503280"/>
              </a:xfrm>
              <a:prstGeom prst="line">
                <a:avLst/>
              </a:prstGeom>
              <a:ln w="4428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"/>
            <p:cNvGrpSpPr/>
            <p:nvPr/>
          </p:nvGrpSpPr>
          <p:grpSpPr>
            <a:xfrm>
              <a:off x="5724360" y="3789360"/>
              <a:ext cx="2963880" cy="880920"/>
              <a:chOff x="5724360" y="3789360"/>
              <a:chExt cx="2963880" cy="880920"/>
            </a:xfrm>
          </p:grpSpPr>
          <p:sp>
            <p:nvSpPr>
              <p:cNvPr id="1258" name=""/>
              <p:cNvSpPr/>
              <p:nvPr/>
            </p:nvSpPr>
            <p:spPr>
              <a:xfrm>
                <a:off x="6334200" y="4149720"/>
                <a:ext cx="2354040" cy="520560"/>
              </a:xfrm>
              <a:prstGeom prst="rect">
                <a:avLst/>
              </a:prstGeom>
              <a:noFill/>
              <a:ln w="316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cc33"/>
                    </a:solidFill>
                    <a:latin typeface="Arial"/>
                  </a:rPr>
                  <a:t>No Oxidativ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5724360" y="3789360"/>
                <a:ext cx="432000" cy="576360"/>
              </a:xfrm>
              <a:prstGeom prst="line">
                <a:avLst/>
              </a:prstGeom>
              <a:ln w="4428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2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0" name=""/>
          <p:cNvGrpSpPr/>
          <p:nvPr/>
        </p:nvGrpSpPr>
        <p:grpSpPr>
          <a:xfrm>
            <a:off x="611280" y="1833480"/>
            <a:ext cx="8026200" cy="3251160"/>
            <a:chOff x="611280" y="1833480"/>
            <a:chExt cx="8026200" cy="3251160"/>
          </a:xfrm>
        </p:grpSpPr>
        <p:grpSp>
          <p:nvGrpSpPr>
            <p:cNvPr id="1261" name=""/>
            <p:cNvGrpSpPr/>
            <p:nvPr/>
          </p:nvGrpSpPr>
          <p:grpSpPr>
            <a:xfrm>
              <a:off x="611280" y="1833480"/>
              <a:ext cx="8026200" cy="3251160"/>
              <a:chOff x="611280" y="1833480"/>
              <a:chExt cx="8026200" cy="3251160"/>
            </a:xfrm>
          </p:grpSpPr>
          <p:pic>
            <p:nvPicPr>
              <p:cNvPr id="126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11280" y="1833480"/>
                <a:ext cx="8026200" cy="325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3" name=""/>
              <p:cNvSpPr/>
              <p:nvPr/>
            </p:nvSpPr>
            <p:spPr>
              <a:xfrm>
                <a:off x="862200" y="4653000"/>
                <a:ext cx="123372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66ff"/>
                    </a:solidFill>
                    <a:latin typeface="Arial"/>
                  </a:rPr>
                  <a:t>Glutama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6120360" y="4653000"/>
                <a:ext cx="170784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18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α</a:t>
                </a:r>
                <a:r>
                  <a:rPr b="0" lang="en-US" sz="18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-cetoglutara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3093480" y="3789360"/>
                <a:ext cx="312804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33cc33"/>
                    </a:solidFill>
                    <a:latin typeface="Arial"/>
                  </a:rPr>
                  <a:t>Glutamato deshidrogen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6" name=""/>
            <p:cNvSpPr/>
            <p:nvPr/>
          </p:nvSpPr>
          <p:spPr>
            <a:xfrm>
              <a:off x="3813120" y="1844640"/>
              <a:ext cx="1078920" cy="10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3957480" y="2852640"/>
              <a:ext cx="647280" cy="71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3884400" y="3213000"/>
              <a:ext cx="79164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9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270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271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7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76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7" name=""/>
          <p:cNvSpPr/>
          <p:nvPr/>
        </p:nvSpPr>
        <p:spPr>
          <a:xfrm>
            <a:off x="1743120" y="712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1410120" y="677880"/>
            <a:ext cx="664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cc33"/>
                </a:solidFill>
                <a:latin typeface="Arial"/>
              </a:rPr>
              <a:t>Desaminación oxidativa del glutam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7812000" y="3201840"/>
            <a:ext cx="719280" cy="86544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3471840" y="4229280"/>
            <a:ext cx="225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(+) ADP y GDP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(-) ATP y G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"/>
          <p:cNvSpPr/>
          <p:nvPr/>
        </p:nvSpPr>
        <p:spPr>
          <a:xfrm>
            <a:off x="4067280" y="3670200"/>
            <a:ext cx="7920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GD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32840" cy="1141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RANSDESAMINA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900000" y="1844640"/>
            <a:ext cx="27352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TRANSAMINA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4572000" y="1844640"/>
            <a:ext cx="3887640" cy="398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DESAMINACION OXID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324000" y="3068640"/>
            <a:ext cx="1726920" cy="368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minoác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2411280" y="3068640"/>
            <a:ext cx="216072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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etogluta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2556000" y="4348080"/>
            <a:ext cx="1871640" cy="368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Glutam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179280" y="4348080"/>
            <a:ext cx="1800360" cy="368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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etoác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5435640" y="3141720"/>
            <a:ext cx="1440000" cy="368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NADH + H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5435640" y="4132440"/>
            <a:ext cx="936720" cy="368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NAD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1908000" y="3500280"/>
            <a:ext cx="360360" cy="1152720"/>
          </a:xfrm>
          <a:custGeom>
            <a:avLst/>
            <a:gdLst>
              <a:gd name="textAreaLeft" fmla="*/ 48240 w 360360"/>
              <a:gd name="textAreaRight" fmla="*/ 312120 w 360360"/>
              <a:gd name="textAreaTop" fmla="*/ 201600 h 1152720"/>
              <a:gd name="textAreaBottom" fmla="*/ 83592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2268360" y="3500280"/>
            <a:ext cx="287640" cy="1152720"/>
          </a:xfrm>
          <a:custGeom>
            <a:avLst/>
            <a:gdLst>
              <a:gd name="textAreaLeft" fmla="*/ 38520 w 287640"/>
              <a:gd name="textAreaRight" fmla="*/ 249120 w 287640"/>
              <a:gd name="textAreaTop" fmla="*/ 201600 h 1152720"/>
              <a:gd name="textAreaBottom" fmla="*/ 83592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 rot="10447800">
            <a:off x="4501800" y="3067920"/>
            <a:ext cx="501480" cy="1438200"/>
          </a:xfrm>
          <a:custGeom>
            <a:avLst/>
            <a:gdLst>
              <a:gd name="textAreaLeft" fmla="*/ 66960 w 501480"/>
              <a:gd name="textAreaRight" fmla="*/ 434520 w 501480"/>
              <a:gd name="textAreaTop" fmla="*/ 251640 h 1438200"/>
              <a:gd name="textAreaBottom" fmla="*/ 1042920 h 1438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 rot="10800000">
            <a:off x="5003640" y="3068280"/>
            <a:ext cx="432000" cy="1366920"/>
          </a:xfrm>
          <a:custGeom>
            <a:avLst/>
            <a:gdLst>
              <a:gd name="textAreaLeft" fmla="*/ 57600 w 432000"/>
              <a:gd name="textAreaRight" fmla="*/ 374400 w 432000"/>
              <a:gd name="textAreaTop" fmla="*/ 239040 h 1366920"/>
              <a:gd name="textAreaBottom" fmla="*/ 9910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7524720" y="3141720"/>
            <a:ext cx="863640" cy="440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NH</a:t>
            </a:r>
            <a:r>
              <a:rPr b="1" lang="es-ES" sz="20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4</a:t>
            </a:r>
            <a:r>
              <a:rPr b="1" lang="es-ES" sz="20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7020000" y="3213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179280" y="3789360"/>
            <a:ext cx="201636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Transam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5" dur="indefinite" restart="never" nodeType="tmRoot">
          <p:childTnLst>
            <p:seq>
              <p:cTn id="1126" dur="indefinite" nodeType="mainSeq">
                <p:childTnLst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1" dur="8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2" dur="8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8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8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1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4" dur="5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9" dur="20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3" dur="20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7" dur="20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1" dur="20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8000"/>
                            </p:stCondLst>
                            <p:childTnLst>
                              <p:par>
                                <p:cTn id="11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5" dur="20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9" dur="20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4" dur="5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9" dur="10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3" dur="10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7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1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5" dur="5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3500"/>
                            </p:stCondLst>
                            <p:childTnLst>
                              <p:par>
                                <p:cTn id="11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9" dur="5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3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8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299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300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0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05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6" name=""/>
          <p:cNvSpPr/>
          <p:nvPr/>
        </p:nvSpPr>
        <p:spPr>
          <a:xfrm>
            <a:off x="457200" y="692280"/>
            <a:ext cx="822960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cc33"/>
                </a:solidFill>
                <a:latin typeface="Arial"/>
                <a:ea typeface="Times New Roman"/>
              </a:rPr>
              <a:t>Desaminación oxidativa por </a:t>
            </a:r>
            <a:br>
              <a:rPr sz="2800"/>
            </a:br>
            <a:r>
              <a:rPr b="1" i="1" lang="es-ES" sz="2800" spc="-1" strike="noStrike">
                <a:solidFill>
                  <a:srgbClr val="33cc33"/>
                </a:solidFill>
                <a:latin typeface="Arial"/>
                <a:ea typeface="Times New Roman"/>
              </a:rPr>
              <a:t>aminoácido oxidasas</a:t>
            </a:r>
            <a:r>
              <a:rPr b="1" lang="es-ES" sz="2800" spc="-1" strike="noStrike">
                <a:solidFill>
                  <a:srgbClr val="33cc33"/>
                </a:solidFill>
                <a:latin typeface="Arial"/>
                <a:ea typeface="Times New Roman"/>
              </a:rPr>
              <a:t> peroxisomales</a:t>
            </a:r>
            <a:r>
              <a:rPr b="0" lang="es-ES" sz="28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6877080" y="1773360"/>
            <a:ext cx="719280" cy="86508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6877080" y="3500280"/>
            <a:ext cx="719280" cy="86544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9" name=""/>
          <p:cNvGrpSpPr/>
          <p:nvPr/>
        </p:nvGrpSpPr>
        <p:grpSpPr>
          <a:xfrm>
            <a:off x="250920" y="3502080"/>
            <a:ext cx="8748720" cy="1424880"/>
            <a:chOff x="250920" y="3502080"/>
            <a:chExt cx="8748720" cy="1424880"/>
          </a:xfrm>
        </p:grpSpPr>
        <p:sp>
          <p:nvSpPr>
            <p:cNvPr id="1310" name=""/>
            <p:cNvSpPr/>
            <p:nvPr/>
          </p:nvSpPr>
          <p:spPr>
            <a:xfrm>
              <a:off x="250920" y="3789360"/>
              <a:ext cx="367164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D-aminoácido + H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O +  E-FAD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1116000" y="4473720"/>
              <a:ext cx="223200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E-FADH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  +  O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2" name=""/>
            <p:cNvGrpSpPr/>
            <p:nvPr/>
          </p:nvGrpSpPr>
          <p:grpSpPr>
            <a:xfrm>
              <a:off x="3278160" y="3502080"/>
              <a:ext cx="2606760" cy="431640"/>
              <a:chOff x="3278160" y="3502080"/>
              <a:chExt cx="2606760" cy="431640"/>
            </a:xfrm>
          </p:grpSpPr>
          <p:sp>
            <p:nvSpPr>
              <p:cNvPr id="1313" name=""/>
              <p:cNvSpPr/>
              <p:nvPr/>
            </p:nvSpPr>
            <p:spPr>
              <a:xfrm>
                <a:off x="3997440" y="3933720"/>
                <a:ext cx="1079280" cy="0"/>
              </a:xfrm>
              <a:prstGeom prst="line">
                <a:avLst/>
              </a:prstGeom>
              <a:ln w="3168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3278160" y="3502080"/>
                <a:ext cx="2606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ff00"/>
                    </a:solidFill>
                    <a:latin typeface="Arial"/>
                  </a:rPr>
                  <a:t>D-aminoácido oxid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5" name=""/>
            <p:cNvGrpSpPr/>
            <p:nvPr/>
          </p:nvGrpSpPr>
          <p:grpSpPr>
            <a:xfrm>
              <a:off x="3260520" y="4216320"/>
              <a:ext cx="2606760" cy="438120"/>
              <a:chOff x="3260520" y="4216320"/>
              <a:chExt cx="2606760" cy="438120"/>
            </a:xfrm>
          </p:grpSpPr>
          <p:sp>
            <p:nvSpPr>
              <p:cNvPr id="1316" name=""/>
              <p:cNvSpPr/>
              <p:nvPr/>
            </p:nvSpPr>
            <p:spPr>
              <a:xfrm>
                <a:off x="3868560" y="4654440"/>
                <a:ext cx="1447920" cy="0"/>
              </a:xfrm>
              <a:prstGeom prst="line">
                <a:avLst/>
              </a:prstGeom>
              <a:ln w="3168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3260520" y="4216320"/>
                <a:ext cx="2606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ff00"/>
                    </a:solidFill>
                    <a:latin typeface="Arial"/>
                  </a:rPr>
                  <a:t>D-aminoácido oxid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8" name=""/>
            <p:cNvSpPr/>
            <p:nvPr/>
          </p:nvSpPr>
          <p:spPr>
            <a:xfrm>
              <a:off x="5437080" y="4473720"/>
              <a:ext cx="266400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E-FAD  +  </a:t>
              </a:r>
              <a:r>
                <a:rPr b="1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H</a:t>
              </a:r>
              <a:r>
                <a:rPr b="1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r>
                <a:rPr b="1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O</a:t>
              </a:r>
              <a:r>
                <a:rPr b="1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219640" y="3716280"/>
              <a:ext cx="378000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6699"/>
                  </a:solidFill>
                  <a:latin typeface="Symbol"/>
                  <a:ea typeface="Symbol"/>
                </a:rPr>
                <a:t></a:t>
              </a: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-cetoácido + NH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4</a:t>
              </a:r>
              <a:r>
                <a:rPr b="0" lang="es-ES_tradnl" sz="2000" spc="-1" strike="noStrike" baseline="30000">
                  <a:solidFill>
                    <a:srgbClr val="006699"/>
                  </a:solidFill>
                  <a:latin typeface="Arial"/>
                  <a:ea typeface="Times New Roman"/>
                </a:rPr>
                <a:t>+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 </a:t>
              </a: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 + E-FADH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0" name=""/>
          <p:cNvGrpSpPr/>
          <p:nvPr/>
        </p:nvGrpSpPr>
        <p:grpSpPr>
          <a:xfrm>
            <a:off x="250920" y="1844640"/>
            <a:ext cx="8748720" cy="1504080"/>
            <a:chOff x="250920" y="1844640"/>
            <a:chExt cx="8748720" cy="1504080"/>
          </a:xfrm>
        </p:grpSpPr>
        <p:grpSp>
          <p:nvGrpSpPr>
            <p:cNvPr id="1321" name=""/>
            <p:cNvGrpSpPr/>
            <p:nvPr/>
          </p:nvGrpSpPr>
          <p:grpSpPr>
            <a:xfrm>
              <a:off x="3277440" y="1844640"/>
              <a:ext cx="2582640" cy="438120"/>
              <a:chOff x="3277440" y="1844640"/>
              <a:chExt cx="2582640" cy="438120"/>
            </a:xfrm>
          </p:grpSpPr>
          <p:sp>
            <p:nvSpPr>
              <p:cNvPr id="1322" name=""/>
              <p:cNvSpPr/>
              <p:nvPr/>
            </p:nvSpPr>
            <p:spPr>
              <a:xfrm>
                <a:off x="3995640" y="2282760"/>
                <a:ext cx="1008000" cy="0"/>
              </a:xfrm>
              <a:prstGeom prst="line">
                <a:avLst/>
              </a:prstGeom>
              <a:ln w="3168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3277440" y="1844640"/>
                <a:ext cx="2582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ff6600"/>
                    </a:solidFill>
                    <a:latin typeface="Arial"/>
                  </a:rPr>
                  <a:t>L-aminoácido</a:t>
                </a:r>
                <a:r>
                  <a:rPr b="1" i="1" lang="en-US" sz="1800" spc="-1" strike="noStrike">
                    <a:solidFill>
                      <a:srgbClr val="ff7c80"/>
                    </a:solidFill>
                    <a:latin typeface="Arial"/>
                  </a:rPr>
                  <a:t> </a:t>
                </a:r>
                <a:r>
                  <a:rPr b="1" i="1" lang="en-US" sz="1800" spc="-1" strike="noStrike">
                    <a:solidFill>
                      <a:srgbClr val="ff6600"/>
                    </a:solidFill>
                    <a:latin typeface="Arial"/>
                  </a:rPr>
                  <a:t>oxid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4" name=""/>
            <p:cNvGrpSpPr/>
            <p:nvPr/>
          </p:nvGrpSpPr>
          <p:grpSpPr>
            <a:xfrm>
              <a:off x="3212280" y="2673360"/>
              <a:ext cx="2582640" cy="438120"/>
              <a:chOff x="3212280" y="2673360"/>
              <a:chExt cx="2582640" cy="438120"/>
            </a:xfrm>
          </p:grpSpPr>
          <p:sp>
            <p:nvSpPr>
              <p:cNvPr id="1325" name=""/>
              <p:cNvSpPr/>
              <p:nvPr/>
            </p:nvSpPr>
            <p:spPr>
              <a:xfrm>
                <a:off x="3817800" y="3111480"/>
                <a:ext cx="1482840" cy="0"/>
              </a:xfrm>
              <a:prstGeom prst="line">
                <a:avLst/>
              </a:prstGeom>
              <a:ln w="3168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3212280" y="2673360"/>
                <a:ext cx="2582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ff6600"/>
                    </a:solidFill>
                    <a:latin typeface="Arial"/>
                  </a:rPr>
                  <a:t>L-aminoácido oxid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7" name=""/>
            <p:cNvSpPr/>
            <p:nvPr/>
          </p:nvSpPr>
          <p:spPr>
            <a:xfrm>
              <a:off x="1116000" y="2857680"/>
              <a:ext cx="223200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E-FMNH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  +  O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435640" y="2895480"/>
              <a:ext cx="266364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E-FMN  +  </a:t>
              </a:r>
              <a:r>
                <a:rPr b="1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H</a:t>
              </a:r>
              <a:r>
                <a:rPr b="1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r>
                <a:rPr b="1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O</a:t>
              </a:r>
              <a:r>
                <a:rPr b="1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250920" y="2066760"/>
              <a:ext cx="367164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L-aminoácido + H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O +  E-FMN</a:t>
              </a:r>
              <a:r>
                <a:rPr b="0" lang="es-ES_tradnl" sz="20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219640" y="2066760"/>
              <a:ext cx="378000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6699"/>
                  </a:solidFill>
                  <a:latin typeface="Symbol"/>
                  <a:ea typeface="Symbol"/>
                </a:rPr>
                <a:t></a:t>
              </a: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-cetoácido + NH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4</a:t>
              </a:r>
              <a:r>
                <a:rPr b="0" lang="es-ES_tradnl" sz="2000" spc="-1" strike="noStrike" baseline="30000">
                  <a:solidFill>
                    <a:srgbClr val="006699"/>
                  </a:solidFill>
                  <a:latin typeface="Arial"/>
                  <a:ea typeface="Times New Roman"/>
                </a:rPr>
                <a:t>+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 </a:t>
              </a: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 + E-FMNH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1" name=""/>
          <p:cNvGrpSpPr/>
          <p:nvPr/>
        </p:nvGrpSpPr>
        <p:grpSpPr>
          <a:xfrm>
            <a:off x="1835280" y="5084640"/>
            <a:ext cx="5614920" cy="675360"/>
            <a:chOff x="1835280" y="5084640"/>
            <a:chExt cx="5614920" cy="675360"/>
          </a:xfrm>
        </p:grpSpPr>
        <p:sp>
          <p:nvSpPr>
            <p:cNvPr id="1332" name=""/>
            <p:cNvSpPr/>
            <p:nvPr/>
          </p:nvSpPr>
          <p:spPr>
            <a:xfrm>
              <a:off x="1835280" y="5235480"/>
              <a:ext cx="194328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2 H</a:t>
              </a:r>
              <a:r>
                <a:rPr b="1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r>
                <a:rPr b="1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O</a:t>
              </a:r>
              <a:r>
                <a:rPr b="1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507280" y="5306760"/>
              <a:ext cx="194292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2 H</a:t>
              </a:r>
              <a:r>
                <a:rPr b="1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r>
                <a:rPr b="1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O + O</a:t>
              </a:r>
              <a:r>
                <a:rPr b="1" lang="es-ES_tradnl" sz="2000" spc="-1" strike="noStrike" baseline="-25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986280" y="5522760"/>
              <a:ext cx="1447920" cy="0"/>
            </a:xfrm>
            <a:prstGeom prst="line">
              <a:avLst/>
            </a:prstGeom>
            <a:ln w="316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4025880" y="5084640"/>
              <a:ext cx="111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66ff"/>
                  </a:solidFill>
                  <a:latin typeface="Arial"/>
                </a:rPr>
                <a:t>Catal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4" dur="indefinite" restart="never" nodeType="tmRoot">
          <p:childTnLst>
            <p:seq>
              <p:cTn id="1205" dur="indefinite" nodeType="mainSeq">
                <p:childTnLst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5904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Arial"/>
              </a:rPr>
              <a:t>Vías de eliminación del grupo </a:t>
            </a:r>
            <a:r>
              <a:rPr b="1" lang="el-GR" sz="2800" spc="-1" strike="noStrike">
                <a:solidFill>
                  <a:srgbClr val="000099"/>
                </a:solidFill>
                <a:latin typeface="Arial"/>
                <a:ea typeface="Arial"/>
              </a:rPr>
              <a:t>α</a:t>
            </a:r>
            <a:r>
              <a:rPr b="1" lang="es-ES_tradnl" sz="2800" spc="-1" strike="noStrike">
                <a:solidFill>
                  <a:srgbClr val="000099"/>
                </a:solidFill>
                <a:latin typeface="Arial"/>
              </a:rPr>
              <a:t>-am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7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338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339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44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5" name=""/>
          <p:cNvSpPr/>
          <p:nvPr/>
        </p:nvSpPr>
        <p:spPr>
          <a:xfrm>
            <a:off x="330120" y="1908000"/>
            <a:ext cx="574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Reacciones de Transamin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6" name=""/>
          <p:cNvGrpSpPr/>
          <p:nvPr/>
        </p:nvGrpSpPr>
        <p:grpSpPr>
          <a:xfrm>
            <a:off x="330120" y="2901960"/>
            <a:ext cx="8358120" cy="1768320"/>
            <a:chOff x="330120" y="2901960"/>
            <a:chExt cx="8358120" cy="1768320"/>
          </a:xfrm>
        </p:grpSpPr>
        <p:sp>
          <p:nvSpPr>
            <p:cNvPr id="1347" name=""/>
            <p:cNvSpPr/>
            <p:nvPr/>
          </p:nvSpPr>
          <p:spPr>
            <a:xfrm>
              <a:off x="330120" y="3354480"/>
              <a:ext cx="5427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33cc33"/>
                  </a:solidFill>
                  <a:latin typeface="Arial"/>
                </a:rPr>
                <a:t>- </a:t>
              </a:r>
              <a:r>
                <a:rPr b="1" lang="es-ES_tradnl" sz="2800" spc="-1" strike="noStrike">
                  <a:solidFill>
                    <a:srgbClr val="33cc33"/>
                  </a:solidFill>
                  <a:latin typeface="Arial"/>
                </a:rPr>
                <a:t>Reacciones de Desami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8" name=""/>
            <p:cNvGrpSpPr/>
            <p:nvPr/>
          </p:nvGrpSpPr>
          <p:grpSpPr>
            <a:xfrm>
              <a:off x="5724360" y="2901960"/>
              <a:ext cx="2593080" cy="743040"/>
              <a:chOff x="5724360" y="2901960"/>
              <a:chExt cx="2593080" cy="743040"/>
            </a:xfrm>
          </p:grpSpPr>
          <p:sp>
            <p:nvSpPr>
              <p:cNvPr id="1349" name=""/>
              <p:cNvSpPr/>
              <p:nvPr/>
            </p:nvSpPr>
            <p:spPr>
              <a:xfrm>
                <a:off x="6535080" y="2901960"/>
                <a:ext cx="1782360" cy="520560"/>
              </a:xfrm>
              <a:prstGeom prst="rect">
                <a:avLst/>
              </a:prstGeom>
              <a:noFill/>
              <a:ln w="316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cc33"/>
                    </a:solidFill>
                    <a:latin typeface="Arial"/>
                  </a:rPr>
                  <a:t>Oxidativ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 flipV="1">
                <a:off x="5724360" y="3141720"/>
                <a:ext cx="648000" cy="503280"/>
              </a:xfrm>
              <a:prstGeom prst="line">
                <a:avLst/>
              </a:prstGeom>
              <a:ln w="4428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1" name=""/>
            <p:cNvGrpSpPr/>
            <p:nvPr/>
          </p:nvGrpSpPr>
          <p:grpSpPr>
            <a:xfrm>
              <a:off x="5724360" y="3789360"/>
              <a:ext cx="2963880" cy="880920"/>
              <a:chOff x="5724360" y="3789360"/>
              <a:chExt cx="2963880" cy="880920"/>
            </a:xfrm>
          </p:grpSpPr>
          <p:sp>
            <p:nvSpPr>
              <p:cNvPr id="1352" name=""/>
              <p:cNvSpPr/>
              <p:nvPr/>
            </p:nvSpPr>
            <p:spPr>
              <a:xfrm>
                <a:off x="6334200" y="4149720"/>
                <a:ext cx="2354040" cy="520560"/>
              </a:xfrm>
              <a:prstGeom prst="rect">
                <a:avLst/>
              </a:prstGeom>
              <a:noFill/>
              <a:ln w="316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cc33"/>
                    </a:solidFill>
                    <a:latin typeface="Arial"/>
                  </a:rPr>
                  <a:t>No Oxidativ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5724360" y="3789360"/>
                <a:ext cx="432000" cy="576360"/>
              </a:xfrm>
              <a:prstGeom prst="line">
                <a:avLst/>
              </a:prstGeom>
              <a:ln w="4428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4" dur="indefinite" restart="never" nodeType="tmRoot">
          <p:childTnLst>
            <p:seq>
              <p:cTn id="1225" dur="indefinite" nodeType="mainSeq">
                <p:childTnLst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9" dur="5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4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355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356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6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61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2" name=""/>
          <p:cNvSpPr/>
          <p:nvPr/>
        </p:nvSpPr>
        <p:spPr>
          <a:xfrm>
            <a:off x="395280" y="620640"/>
            <a:ext cx="822960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cc33"/>
                </a:solidFill>
                <a:latin typeface="Arial"/>
                <a:ea typeface="Times New Roman"/>
              </a:rPr>
              <a:t>Desaminación no oxidativa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3" name=""/>
          <p:cNvGrpSpPr/>
          <p:nvPr/>
        </p:nvGrpSpPr>
        <p:grpSpPr>
          <a:xfrm>
            <a:off x="1074600" y="1969920"/>
            <a:ext cx="2057400" cy="1965600"/>
            <a:chOff x="1074600" y="1969920"/>
            <a:chExt cx="2057400" cy="1965600"/>
          </a:xfrm>
        </p:grpSpPr>
        <p:graphicFrame>
          <p:nvGraphicFramePr>
            <p:cNvPr id="1364" name=""/>
            <p:cNvGraphicFramePr/>
            <p:nvPr/>
          </p:nvGraphicFramePr>
          <p:xfrm>
            <a:off x="1074600" y="1969920"/>
            <a:ext cx="2057400" cy="1498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36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074600" y="1969920"/>
                      <a:ext cx="2057400" cy="149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66" name=""/>
            <p:cNvSpPr/>
            <p:nvPr/>
          </p:nvSpPr>
          <p:spPr>
            <a:xfrm>
              <a:off x="2013840" y="3536640"/>
              <a:ext cx="95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Seri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7" name=""/>
          <p:cNvGrpSpPr/>
          <p:nvPr/>
        </p:nvGrpSpPr>
        <p:grpSpPr>
          <a:xfrm>
            <a:off x="5437080" y="2043000"/>
            <a:ext cx="2027880" cy="1825560"/>
            <a:chOff x="5437080" y="2043000"/>
            <a:chExt cx="2027880" cy="1825560"/>
          </a:xfrm>
        </p:grpSpPr>
        <p:grpSp>
          <p:nvGrpSpPr>
            <p:cNvPr id="1368" name=""/>
            <p:cNvGrpSpPr/>
            <p:nvPr/>
          </p:nvGrpSpPr>
          <p:grpSpPr>
            <a:xfrm>
              <a:off x="5437080" y="2043000"/>
              <a:ext cx="1095120" cy="1825560"/>
              <a:chOff x="5437080" y="2043000"/>
              <a:chExt cx="1095120" cy="1825560"/>
            </a:xfrm>
          </p:grpSpPr>
          <p:grpSp>
            <p:nvGrpSpPr>
              <p:cNvPr id="1369" name=""/>
              <p:cNvGrpSpPr/>
              <p:nvPr/>
            </p:nvGrpSpPr>
            <p:grpSpPr>
              <a:xfrm>
                <a:off x="5651280" y="2043000"/>
                <a:ext cx="725040" cy="1378800"/>
                <a:chOff x="5651280" y="2043000"/>
                <a:chExt cx="725040" cy="1378800"/>
              </a:xfrm>
            </p:grpSpPr>
            <p:sp>
              <p:nvSpPr>
                <p:cNvPr id="1370" name=""/>
                <p:cNvSpPr/>
                <p:nvPr/>
              </p:nvSpPr>
              <p:spPr>
                <a:xfrm>
                  <a:off x="5651280" y="210024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5854680" y="210024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6072120" y="210024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6289200" y="2043000"/>
                  <a:ext cx="723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000099"/>
                      </a:solidFill>
                      <a:latin typeface="Arial"/>
                    </a:rPr>
                    <a:t>-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>
                  <a:off x="5651280" y="257796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>
                  <a:off x="5651280" y="304308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5854320" y="304308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H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6057360" y="3162240"/>
                  <a:ext cx="1209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000099"/>
                      </a:solidFill>
                      <a:latin typeface="Arial"/>
                    </a:rPr>
                    <a:t>3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5751360" y="2398680"/>
                  <a:ext cx="0" cy="18720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5883120" y="2734920"/>
                  <a:ext cx="212400" cy="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>
                  <a:off x="5751360" y="2865240"/>
                  <a:ext cx="0" cy="18576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5871960" y="2782800"/>
                  <a:ext cx="212400" cy="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>
                  <a:off x="6159240" y="256680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3" name=""/>
              <p:cNvSpPr/>
              <p:nvPr/>
            </p:nvSpPr>
            <p:spPr>
              <a:xfrm>
                <a:off x="5437080" y="3500280"/>
                <a:ext cx="1095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99"/>
                    </a:solidFill>
                    <a:latin typeface="Arial"/>
                  </a:rPr>
                  <a:t>Piruva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4" name=""/>
            <p:cNvSpPr/>
            <p:nvPr/>
          </p:nvSpPr>
          <p:spPr>
            <a:xfrm>
              <a:off x="6526800" y="2527200"/>
              <a:ext cx="938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Arial"/>
                </a:rPr>
                <a:t>+ NH</a:t>
              </a:r>
              <a:r>
                <a:rPr b="0" lang="en-US" sz="2000" spc="-1" strike="noStrike" baseline="-25000">
                  <a:solidFill>
                    <a:srgbClr val="000099"/>
                  </a:solidFill>
                  <a:latin typeface="Arial"/>
                </a:rPr>
                <a:t>4</a:t>
              </a:r>
              <a:r>
                <a:rPr b="0" lang="en-US" sz="2000" spc="-1" strike="noStrike" baseline="30000">
                  <a:solidFill>
                    <a:srgbClr val="000099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5" name=""/>
          <p:cNvGrpSpPr/>
          <p:nvPr/>
        </p:nvGrpSpPr>
        <p:grpSpPr>
          <a:xfrm>
            <a:off x="3203640" y="2066760"/>
            <a:ext cx="2624760" cy="1720800"/>
            <a:chOff x="3203640" y="2066760"/>
            <a:chExt cx="2624760" cy="1720800"/>
          </a:xfrm>
        </p:grpSpPr>
        <p:sp>
          <p:nvSpPr>
            <p:cNvPr id="1386" name=""/>
            <p:cNvSpPr/>
            <p:nvPr/>
          </p:nvSpPr>
          <p:spPr>
            <a:xfrm>
              <a:off x="3348000" y="2781360"/>
              <a:ext cx="20160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068720" y="28526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ff"/>
                  </a:solidFill>
                  <a:latin typeface="Arial"/>
                </a:rPr>
                <a:t>PL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276720" y="2066760"/>
              <a:ext cx="216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8000"/>
                  </a:solidFill>
                  <a:latin typeface="Arial"/>
                </a:rPr>
                <a:t>Serina deshidrat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3203640" y="2781360"/>
              <a:ext cx="863280" cy="100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16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 rot="15012000">
              <a:off x="4776480" y="2684160"/>
              <a:ext cx="863640" cy="1006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560" y="144"/>
                  </a:moveTo>
                  <a:arcTo wR="10800" hR="10800" stAng="-4837176" swAng="48371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560" y="144"/>
                  </a:moveTo>
                  <a:arcTo wR="10800" hR="10800" stAng="-4837176" swAng="4837176"/>
                </a:path>
              </a:pathLst>
            </a:custGeom>
            <a:noFill/>
            <a:ln w="316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3776040" y="3247920"/>
              <a:ext cx="645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H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425480" y="3247920"/>
              <a:ext cx="645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H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3" name=""/>
          <p:cNvSpPr/>
          <p:nvPr/>
        </p:nvSpPr>
        <p:spPr>
          <a:xfrm>
            <a:off x="6732720" y="2205000"/>
            <a:ext cx="720720" cy="10080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4" name=""/>
          <p:cNvGrpSpPr/>
          <p:nvPr/>
        </p:nvGrpSpPr>
        <p:grpSpPr>
          <a:xfrm>
            <a:off x="1082520" y="4076640"/>
            <a:ext cx="1976760" cy="2307240"/>
            <a:chOff x="1082520" y="4076640"/>
            <a:chExt cx="1976760" cy="2307240"/>
          </a:xfrm>
        </p:grpSpPr>
        <p:graphicFrame>
          <p:nvGraphicFramePr>
            <p:cNvPr id="1395" name=""/>
            <p:cNvGraphicFramePr/>
            <p:nvPr/>
          </p:nvGraphicFramePr>
          <p:xfrm>
            <a:off x="1082520" y="4076640"/>
            <a:ext cx="1976760" cy="19400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39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082520" y="4076640"/>
                      <a:ext cx="1976760" cy="194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97" name=""/>
            <p:cNvSpPr/>
            <p:nvPr/>
          </p:nvSpPr>
          <p:spPr>
            <a:xfrm>
              <a:off x="1693080" y="5985000"/>
              <a:ext cx="125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Treoni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8" name=""/>
          <p:cNvGrpSpPr/>
          <p:nvPr/>
        </p:nvGrpSpPr>
        <p:grpSpPr>
          <a:xfrm>
            <a:off x="3130560" y="4365720"/>
            <a:ext cx="2624400" cy="1719720"/>
            <a:chOff x="3130560" y="4365720"/>
            <a:chExt cx="2624400" cy="1719720"/>
          </a:xfrm>
        </p:grpSpPr>
        <p:sp>
          <p:nvSpPr>
            <p:cNvPr id="1399" name=""/>
            <p:cNvSpPr/>
            <p:nvPr/>
          </p:nvSpPr>
          <p:spPr>
            <a:xfrm>
              <a:off x="3274920" y="5079960"/>
              <a:ext cx="20160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995640" y="51512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ff"/>
                  </a:solidFill>
                  <a:latin typeface="Arial"/>
                </a:rPr>
                <a:t>PL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3203640" y="4365720"/>
              <a:ext cx="216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8000"/>
                  </a:solidFill>
                  <a:latin typeface="Arial"/>
                </a:rPr>
                <a:t>Treonina deshidrat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130560" y="5079960"/>
              <a:ext cx="863280" cy="100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16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 rot="15012000">
              <a:off x="4703400" y="4982040"/>
              <a:ext cx="862920" cy="1006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560" y="144"/>
                  </a:moveTo>
                  <a:arcTo wR="10800" hR="10800" stAng="-4837176" swAng="48371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560" y="144"/>
                  </a:moveTo>
                  <a:arcTo wR="10800" hR="10800" stAng="-4837176" swAng="4837176"/>
                </a:path>
              </a:pathLst>
            </a:custGeom>
            <a:noFill/>
            <a:ln w="316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702960" y="5546520"/>
              <a:ext cx="645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H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352400" y="5546520"/>
              <a:ext cx="645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H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6" name=""/>
          <p:cNvGrpSpPr/>
          <p:nvPr/>
        </p:nvGrpSpPr>
        <p:grpSpPr>
          <a:xfrm>
            <a:off x="5132880" y="4044960"/>
            <a:ext cx="2332080" cy="2338560"/>
            <a:chOff x="5132880" y="4044960"/>
            <a:chExt cx="2332080" cy="2338560"/>
          </a:xfrm>
        </p:grpSpPr>
        <p:grpSp>
          <p:nvGrpSpPr>
            <p:cNvPr id="1407" name=""/>
            <p:cNvGrpSpPr/>
            <p:nvPr/>
          </p:nvGrpSpPr>
          <p:grpSpPr>
            <a:xfrm>
              <a:off x="5132880" y="4044960"/>
              <a:ext cx="1718280" cy="2338560"/>
              <a:chOff x="5132880" y="4044960"/>
              <a:chExt cx="1718280" cy="2338560"/>
            </a:xfrm>
          </p:grpSpPr>
          <p:grpSp>
            <p:nvGrpSpPr>
              <p:cNvPr id="1408" name=""/>
              <p:cNvGrpSpPr/>
              <p:nvPr/>
            </p:nvGrpSpPr>
            <p:grpSpPr>
              <a:xfrm>
                <a:off x="5575320" y="4044960"/>
                <a:ext cx="725040" cy="1807200"/>
                <a:chOff x="5575320" y="4044960"/>
                <a:chExt cx="725040" cy="1807200"/>
              </a:xfrm>
            </p:grpSpPr>
            <p:sp>
              <p:nvSpPr>
                <p:cNvPr id="1409" name=""/>
                <p:cNvSpPr/>
                <p:nvPr/>
              </p:nvSpPr>
              <p:spPr>
                <a:xfrm>
                  <a:off x="5575320" y="410220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>
                  <a:off x="5778360" y="410220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5996160" y="410220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>
                  <a:off x="6213240" y="4044960"/>
                  <a:ext cx="723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000099"/>
                      </a:solidFill>
                      <a:latin typeface="Arial"/>
                    </a:rPr>
                    <a:t>-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>
                  <a:off x="5575320" y="457992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>
                  <a:off x="5575320" y="504504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>
                  <a:off x="5778360" y="504504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H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5981760" y="5164200"/>
                  <a:ext cx="1209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000099"/>
                      </a:solidFill>
                      <a:latin typeface="Arial"/>
                    </a:rPr>
                    <a:t>2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7" name=""/>
                <p:cNvSpPr/>
                <p:nvPr/>
              </p:nvSpPr>
              <p:spPr>
                <a:xfrm>
                  <a:off x="5583240" y="5470560"/>
                  <a:ext cx="493200" cy="38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CH</a:t>
                  </a:r>
                  <a:r>
                    <a:rPr b="0" lang="en-US" sz="2200" spc="-1" strike="noStrike" baseline="-25000">
                      <a:solidFill>
                        <a:srgbClr val="000099"/>
                      </a:solidFill>
                      <a:latin typeface="Arial"/>
                    </a:rPr>
                    <a:t>3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8" name=""/>
                <p:cNvSpPr/>
                <p:nvPr/>
              </p:nvSpPr>
              <p:spPr>
                <a:xfrm>
                  <a:off x="5778360" y="5470560"/>
                  <a:ext cx="18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5995800" y="5470560"/>
                  <a:ext cx="18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6213600" y="5413320"/>
                  <a:ext cx="144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>
                  <a:off x="5675400" y="4400640"/>
                  <a:ext cx="0" cy="18720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>
                  <a:off x="5807160" y="4737240"/>
                  <a:ext cx="212760" cy="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5675400" y="4867200"/>
                  <a:ext cx="0" cy="18576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4" name=""/>
                <p:cNvSpPr/>
                <p:nvPr/>
              </p:nvSpPr>
              <p:spPr>
                <a:xfrm>
                  <a:off x="5675400" y="5332320"/>
                  <a:ext cx="0" cy="18756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5" name=""/>
                <p:cNvSpPr/>
                <p:nvPr/>
              </p:nvSpPr>
              <p:spPr>
                <a:xfrm>
                  <a:off x="5796000" y="4784760"/>
                  <a:ext cx="212760" cy="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6" name=""/>
                <p:cNvSpPr/>
                <p:nvPr/>
              </p:nvSpPr>
              <p:spPr>
                <a:xfrm>
                  <a:off x="6083280" y="456876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7" name=""/>
              <p:cNvSpPr/>
              <p:nvPr/>
            </p:nvSpPr>
            <p:spPr>
              <a:xfrm>
                <a:off x="5132880" y="6015240"/>
                <a:ext cx="1718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800" spc="-1" strike="noStrike">
                    <a:solidFill>
                      <a:srgbClr val="000099"/>
                    </a:solidFill>
                    <a:latin typeface="Arial"/>
                    <a:ea typeface="Arial"/>
                  </a:rPr>
                  <a:t>α</a:t>
                </a:r>
                <a:r>
                  <a:rPr b="1" lang="es-ES_tradnl" sz="1800" spc="-1" strike="noStrike">
                    <a:solidFill>
                      <a:srgbClr val="000099"/>
                    </a:solidFill>
                    <a:latin typeface="Arial"/>
                  </a:rPr>
                  <a:t>-cetobutira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8" name=""/>
            <p:cNvSpPr/>
            <p:nvPr/>
          </p:nvSpPr>
          <p:spPr>
            <a:xfrm>
              <a:off x="6526800" y="4832280"/>
              <a:ext cx="938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Arial"/>
                </a:rPr>
                <a:t>+ NH</a:t>
              </a:r>
              <a:r>
                <a:rPr b="0" lang="en-US" sz="2000" spc="-1" strike="noStrike" baseline="-25000">
                  <a:solidFill>
                    <a:srgbClr val="000099"/>
                  </a:solidFill>
                  <a:latin typeface="Arial"/>
                </a:rPr>
                <a:t>4</a:t>
              </a:r>
              <a:r>
                <a:rPr b="0" lang="en-US" sz="2000" spc="-1" strike="noStrike" baseline="30000">
                  <a:solidFill>
                    <a:srgbClr val="000099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9" name=""/>
          <p:cNvSpPr/>
          <p:nvPr/>
        </p:nvSpPr>
        <p:spPr>
          <a:xfrm>
            <a:off x="6732720" y="4581360"/>
            <a:ext cx="720720" cy="1008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2" dur="indefinite" restart="never" nodeType="tmRoot">
          <p:childTnLst>
            <p:seq>
              <p:cTn id="1233" dur="indefinite" nodeType="mainSeq">
                <p:childTnLst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2" dur="10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7" dur="10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6" dur="5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1" dur="5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0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431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432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3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37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8" name=""/>
          <p:cNvSpPr/>
          <p:nvPr/>
        </p:nvSpPr>
        <p:spPr>
          <a:xfrm>
            <a:off x="539640" y="81108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ibli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611280" y="1341360"/>
            <a:ext cx="770400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Arial"/>
              </a:rPr>
              <a:t>1- BLANCO A., “Química Biológica”, Ed. El Ateneo, 8a edic., Bs. As. (2007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Arial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Bibliografía Complemen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Arial"/>
              </a:rPr>
              <a:t>1- CAMPBELL Y FARREL, “Bioquimica”, Thomson Eds., 4ta. Ed., (2005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Arial"/>
              </a:rPr>
              <a:t>2-</a:t>
            </a:r>
            <a:r>
              <a:rPr b="0" lang="es-AR" sz="1600" spc="-1" strike="noStrike">
                <a:solidFill>
                  <a:srgbClr val="0000cc"/>
                </a:solidFill>
                <a:latin typeface="Arial"/>
              </a:rPr>
              <a:t> SALISBURY Y ROSS, “Fisiología vegetal”, Grupo Ed. Iberoamericana, (199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cc"/>
                </a:solidFill>
                <a:latin typeface="Arial"/>
              </a:rPr>
              <a:t>3- HILL, WYSE Y ANDERSON, “Fisiología animal”, Ed. Med. Panamericana,(2006), Madrid, Españ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Arial"/>
              </a:rPr>
              <a:t>4- LIM M.Y., “ Lo esencial en Metabolismo y Nutrición”, Ed. Elsevier, 3ra. ed., Barcelona (201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80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81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6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65840" y="1363680"/>
            <a:ext cx="2161440" cy="2209680"/>
            <a:chOff x="465840" y="1363680"/>
            <a:chExt cx="2161440" cy="2209680"/>
          </a:xfrm>
        </p:grpSpPr>
        <p:pic>
          <p:nvPicPr>
            <p:cNvPr id="88" name="" descr=""/>
            <p:cNvPicPr/>
            <p:nvPr/>
          </p:nvPicPr>
          <p:blipFill>
            <a:blip r:embed="rId2"/>
            <a:stretch/>
          </p:blipFill>
          <p:spPr>
            <a:xfrm>
              <a:off x="466560" y="1363680"/>
              <a:ext cx="216072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465840" y="1363680"/>
              <a:ext cx="175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Quimotripsi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" name="" descr=""/>
          <p:cNvPicPr/>
          <p:nvPr/>
        </p:nvPicPr>
        <p:blipFill>
          <a:blip r:embed="rId3"/>
          <a:srcRect l="0" t="0" r="0" b="8571"/>
          <a:stretch/>
        </p:blipFill>
        <p:spPr>
          <a:xfrm>
            <a:off x="5724360" y="1125360"/>
            <a:ext cx="3024360" cy="21495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rcRect l="0" t="0" r="0" b="6304"/>
          <a:stretch/>
        </p:blipFill>
        <p:spPr>
          <a:xfrm>
            <a:off x="925560" y="4076640"/>
            <a:ext cx="3070080" cy="2006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rcRect l="0" t="0" r="0" b="5298"/>
          <a:stretch/>
        </p:blipFill>
        <p:spPr>
          <a:xfrm>
            <a:off x="4427640" y="3841920"/>
            <a:ext cx="2944800" cy="2466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718000" y="620640"/>
            <a:ext cx="365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Diversidad de Proteí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358440" y="6524640"/>
            <a:ext cx="21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cc"/>
                </a:solidFill>
                <a:latin typeface="Arial"/>
              </a:rPr>
              <a:t>Extraído de Lehninger, 200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2771640" y="1125360"/>
            <a:ext cx="2664000" cy="21304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803680" y="3213000"/>
            <a:ext cx="26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ínas de membr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576840" y="327816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ucifer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77600" y="6040440"/>
            <a:ext cx="152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moglob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51240" y="625644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ra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263240"/>
            <a:ext cx="822960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Arial"/>
              </a:rPr>
              <a:t>AMINOAC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02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03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8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9" name=""/>
          <p:cNvGraphicFramePr/>
          <p:nvPr/>
        </p:nvGraphicFramePr>
        <p:xfrm>
          <a:off x="2743200" y="3062160"/>
          <a:ext cx="3505320" cy="2874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3062160"/>
                    <a:ext cx="3505320" cy="28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1" name=""/>
          <p:cNvGrpSpPr/>
          <p:nvPr/>
        </p:nvGrpSpPr>
        <p:grpSpPr>
          <a:xfrm>
            <a:off x="5911920" y="1569960"/>
            <a:ext cx="2189520" cy="1660680"/>
            <a:chOff x="5911920" y="1569960"/>
            <a:chExt cx="2189520" cy="1660680"/>
          </a:xfrm>
        </p:grpSpPr>
        <p:sp>
          <p:nvSpPr>
            <p:cNvPr id="112" name=""/>
            <p:cNvSpPr/>
            <p:nvPr/>
          </p:nvSpPr>
          <p:spPr>
            <a:xfrm>
              <a:off x="5911920" y="1569960"/>
              <a:ext cx="2189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Times New Roman"/>
                </a:rPr>
                <a:t>Grupo carboxil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Times New Roman"/>
                </a:rPr>
                <a:t>(disociado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6372360" y="2392560"/>
              <a:ext cx="380880" cy="838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2683800" y="5576400"/>
            <a:ext cx="1964520" cy="1024200"/>
            <a:chOff x="2683800" y="5576400"/>
            <a:chExt cx="1964520" cy="1024200"/>
          </a:xfrm>
        </p:grpSpPr>
        <p:sp>
          <p:nvSpPr>
            <p:cNvPr id="115" name=""/>
            <p:cNvSpPr/>
            <p:nvPr/>
          </p:nvSpPr>
          <p:spPr>
            <a:xfrm>
              <a:off x="2683800" y="5775120"/>
              <a:ext cx="109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Times New Roman"/>
                </a:rPr>
                <a:t>Cade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Times New Roman"/>
                </a:rPr>
                <a:t>later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3809880" y="5576400"/>
              <a:ext cx="838440" cy="6094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5181120" y="4738680"/>
            <a:ext cx="2703960" cy="1409040"/>
            <a:chOff x="5181120" y="4738680"/>
            <a:chExt cx="2703960" cy="1409040"/>
          </a:xfrm>
        </p:grpSpPr>
        <p:sp>
          <p:nvSpPr>
            <p:cNvPr id="118" name=""/>
            <p:cNvSpPr/>
            <p:nvPr/>
          </p:nvSpPr>
          <p:spPr>
            <a:xfrm>
              <a:off x="6386400" y="5688000"/>
              <a:ext cx="149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Times New Roman"/>
                </a:rPr>
                <a:t>Carbono </a:t>
              </a:r>
              <a:r>
                <a:rPr b="0" lang="en-US" sz="24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flipV="1">
              <a:off x="5181120" y="4738680"/>
              <a:ext cx="1219320" cy="9907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609840" y="2452680"/>
            <a:ext cx="2071440" cy="1595520"/>
            <a:chOff x="609840" y="2452680"/>
            <a:chExt cx="2071440" cy="1595520"/>
          </a:xfrm>
        </p:grpSpPr>
        <p:sp>
          <p:nvSpPr>
            <p:cNvPr id="121" name=""/>
            <p:cNvSpPr/>
            <p:nvPr/>
          </p:nvSpPr>
          <p:spPr>
            <a:xfrm>
              <a:off x="609840" y="2452680"/>
              <a:ext cx="1799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33cc"/>
                  </a:solidFill>
                  <a:latin typeface="Times New Roman"/>
                </a:rPr>
                <a:t>Grupo amin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33cc"/>
                  </a:solidFill>
                  <a:latin typeface="Times New Roman"/>
                </a:rPr>
                <a:t>(protonado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195640" y="3256200"/>
              <a:ext cx="485640" cy="7920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2411280" y="3975120"/>
            <a:ext cx="2016360" cy="107964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27640" y="2967120"/>
            <a:ext cx="2016000" cy="107928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27640" y="3975120"/>
            <a:ext cx="1081080" cy="93672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140360" y="4911840"/>
            <a:ext cx="1800000" cy="107928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5440" y="69228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imes New Roman"/>
              </a:rPr>
              <a:t>Repasemo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1524960" y="2708280"/>
            <a:ext cx="6000480" cy="1362600"/>
            <a:chOff x="1524960" y="2708280"/>
            <a:chExt cx="6000480" cy="1362600"/>
          </a:xfrm>
        </p:grpSpPr>
        <p:sp>
          <p:nvSpPr>
            <p:cNvPr id="129" name=""/>
            <p:cNvSpPr/>
            <p:nvPr/>
          </p:nvSpPr>
          <p:spPr>
            <a:xfrm>
              <a:off x="1524960" y="3197160"/>
              <a:ext cx="2124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33cc"/>
                  </a:solidFill>
                  <a:latin typeface="Arial"/>
                </a:rPr>
                <a:t>H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739880" y="33210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cc"/>
                  </a:solidFill>
                  <a:latin typeface="Arial"/>
                </a:rPr>
                <a:t>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861560" y="3197160"/>
              <a:ext cx="2124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33cc"/>
                  </a:solidFill>
                  <a:latin typeface="Arial"/>
                </a:rPr>
                <a:t>N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337840" y="3197160"/>
              <a:ext cx="2124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33cc"/>
                  </a:solidFill>
                  <a:latin typeface="Arial"/>
                </a:rPr>
                <a:t>C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345760" y="2708280"/>
              <a:ext cx="2124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33cc"/>
                  </a:solidFill>
                  <a:latin typeface="Arial"/>
                </a:rPr>
                <a:t>H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345760" y="3687480"/>
              <a:ext cx="2124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33cc"/>
                  </a:solidFill>
                  <a:latin typeface="Arial"/>
                </a:rPr>
                <a:t>R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560680" y="381132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cc"/>
                  </a:solidFill>
                  <a:latin typeface="Arial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825280" y="3197160"/>
              <a:ext cx="2124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33cc"/>
                  </a:solidFill>
                  <a:latin typeface="Arial"/>
                </a:rPr>
                <a:t>C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39840" y="3197160"/>
              <a:ext cx="227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33cc"/>
                  </a:solidFill>
                  <a:latin typeface="Arial"/>
                </a:rPr>
                <a:t>O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546000" y="3197160"/>
              <a:ext cx="2124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33cc"/>
                  </a:solidFill>
                  <a:latin typeface="Arial"/>
                </a:rPr>
                <a:t>N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758760" y="3197160"/>
              <a:ext cx="2124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33cc"/>
                  </a:solidFill>
                  <a:latin typeface="Arial"/>
                </a:rPr>
                <a:t>H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47640" y="3197160"/>
              <a:ext cx="2124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33cc"/>
                  </a:solidFill>
                  <a:latin typeface="Arial"/>
                </a:rPr>
                <a:t>C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55560" y="2708280"/>
              <a:ext cx="2124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33cc"/>
                  </a:solidFill>
                  <a:latin typeface="Arial"/>
                </a:rPr>
                <a:t>H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35080" y="3197160"/>
              <a:ext cx="2124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33cc"/>
                  </a:solidFill>
                  <a:latin typeface="Arial"/>
                </a:rPr>
                <a:t>C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949640" y="3197160"/>
              <a:ext cx="227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33cc"/>
                  </a:solidFill>
                  <a:latin typeface="Arial"/>
                </a:rPr>
                <a:t>O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55560" y="3687480"/>
              <a:ext cx="2124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33cc"/>
                  </a:solidFill>
                  <a:latin typeface="Arial"/>
                </a:rPr>
                <a:t>R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470480" y="3811320"/>
              <a:ext cx="31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cc"/>
                  </a:solidFill>
                  <a:latin typeface="Arial"/>
                </a:rPr>
                <a:t>2-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455800" y="3197160"/>
              <a:ext cx="2124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33cc"/>
                  </a:solidFill>
                  <a:latin typeface="Arial"/>
                </a:rPr>
                <a:t>N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668560" y="3197160"/>
              <a:ext cx="2124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33cc"/>
                  </a:solidFill>
                  <a:latin typeface="Arial"/>
                </a:rPr>
                <a:t>H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157440" y="3197160"/>
              <a:ext cx="2124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33cc"/>
                  </a:solidFill>
                  <a:latin typeface="Arial"/>
                </a:rPr>
                <a:t>C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165360" y="2708280"/>
              <a:ext cx="2124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33cc"/>
                  </a:solidFill>
                  <a:latin typeface="Arial"/>
                </a:rPr>
                <a:t>H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165360" y="3687480"/>
              <a:ext cx="2124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33cc"/>
                  </a:solidFill>
                  <a:latin typeface="Arial"/>
                </a:rPr>
                <a:t>R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380280" y="381132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cc"/>
                  </a:solidFill>
                  <a:latin typeface="Arial"/>
                </a:rPr>
                <a:t>3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644880" y="3197160"/>
              <a:ext cx="2124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33cc"/>
                  </a:solidFill>
                  <a:latin typeface="Arial"/>
                </a:rPr>
                <a:t>C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859440" y="3197160"/>
              <a:ext cx="227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33cc"/>
                  </a:solidFill>
                  <a:latin typeface="Arial"/>
                </a:rPr>
                <a:t>O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086240" y="3197160"/>
              <a:ext cx="227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33cc"/>
                  </a:solidFill>
                  <a:latin typeface="Arial"/>
                </a:rPr>
                <a:t>O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313040" y="3197160"/>
              <a:ext cx="2124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33cc"/>
                  </a:solidFill>
                  <a:latin typeface="Arial"/>
                </a:rPr>
                <a:t>H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81160" y="3362040"/>
              <a:ext cx="2239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2443320" y="3009240"/>
              <a:ext cx="0" cy="19548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443320" y="3500280"/>
              <a:ext cx="0" cy="19512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79760" y="3362040"/>
              <a:ext cx="2142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89320" y="3362040"/>
              <a:ext cx="22392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90960" y="3362040"/>
              <a:ext cx="22392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353120" y="3009240"/>
              <a:ext cx="0" cy="19548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89560" y="3362040"/>
              <a:ext cx="2142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353120" y="3500280"/>
              <a:ext cx="0" cy="19512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199120" y="3362040"/>
              <a:ext cx="22392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900760" y="3362040"/>
              <a:ext cx="22392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6262920" y="3009240"/>
              <a:ext cx="0" cy="19548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62920" y="3500280"/>
              <a:ext cx="0" cy="19512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399360" y="3362040"/>
              <a:ext cx="2142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2700360" y="2997360"/>
            <a:ext cx="1432080" cy="790560"/>
          </a:xfrm>
          <a:prstGeom prst="roundRect">
            <a:avLst>
              <a:gd name="adj" fmla="val 0"/>
            </a:avLst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492360" y="2448000"/>
            <a:ext cx="2157480" cy="2063160"/>
            <a:chOff x="3492360" y="2448000"/>
            <a:chExt cx="2157480" cy="2063160"/>
          </a:xfrm>
        </p:grpSpPr>
        <p:sp>
          <p:nvSpPr>
            <p:cNvPr id="172" name=""/>
            <p:cNvSpPr/>
            <p:nvPr/>
          </p:nvSpPr>
          <p:spPr>
            <a:xfrm>
              <a:off x="3492360" y="2448000"/>
              <a:ext cx="142920" cy="1944720"/>
            </a:xfrm>
            <a:custGeom>
              <a:avLst/>
              <a:gdLst>
                <a:gd name="textAreaLeft" fmla="*/ 42120 w 142920"/>
                <a:gd name="textAreaRight" fmla="*/ 143280 w 142920"/>
                <a:gd name="textAreaTop" fmla="*/ 81000 h 1944720"/>
                <a:gd name="textAreaBottom" fmla="*/ 1863720 h 19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5147640" y="2448000"/>
              <a:ext cx="144360" cy="1944720"/>
            </a:xfrm>
            <a:custGeom>
              <a:avLst/>
              <a:gdLst>
                <a:gd name="textAreaLeft" fmla="*/ 42480 w 144360"/>
                <a:gd name="textAreaRight" fmla="*/ 144360 w 144360"/>
                <a:gd name="textAreaTop" fmla="*/ 81000 h 1944720"/>
                <a:gd name="textAreaBottom" fmla="*/ 1863720 h 19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283360" y="405144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4579920" y="2998800"/>
            <a:ext cx="1432080" cy="790560"/>
          </a:xfrm>
          <a:prstGeom prst="roundRect">
            <a:avLst>
              <a:gd name="adj" fmla="val 0"/>
            </a:avLst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2400" y="1243080"/>
            <a:ext cx="18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Repasemo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333440" y="2637000"/>
            <a:ext cx="2199960" cy="2044440"/>
            <a:chOff x="1333440" y="2637000"/>
            <a:chExt cx="2199960" cy="2044440"/>
          </a:xfrm>
        </p:grpSpPr>
        <p:sp>
          <p:nvSpPr>
            <p:cNvPr id="178" name=""/>
            <p:cNvSpPr/>
            <p:nvPr/>
          </p:nvSpPr>
          <p:spPr>
            <a:xfrm>
              <a:off x="1403280" y="2637000"/>
              <a:ext cx="2016360" cy="1512720"/>
            </a:xfrm>
            <a:prstGeom prst="roundRect">
              <a:avLst>
                <a:gd name="adj" fmla="val 0"/>
              </a:avLst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333440" y="4313160"/>
              <a:ext cx="2199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Arial"/>
                </a:rPr>
                <a:t>AA amino term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5364000" y="2637000"/>
            <a:ext cx="2905200" cy="2023920"/>
            <a:chOff x="5364000" y="2637000"/>
            <a:chExt cx="2905200" cy="2023920"/>
          </a:xfrm>
        </p:grpSpPr>
        <p:sp>
          <p:nvSpPr>
            <p:cNvPr id="181" name=""/>
            <p:cNvSpPr/>
            <p:nvPr/>
          </p:nvSpPr>
          <p:spPr>
            <a:xfrm>
              <a:off x="5364000" y="2637000"/>
              <a:ext cx="2232360" cy="1512720"/>
            </a:xfrm>
            <a:prstGeom prst="roundRect">
              <a:avLst>
                <a:gd name="adj" fmla="val 0"/>
              </a:avLst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726160" y="4292640"/>
              <a:ext cx="254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Arial"/>
                </a:rPr>
                <a:t>AA carboxilo term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3207600" y="1720800"/>
            <a:ext cx="2119320" cy="1276560"/>
            <a:chOff x="3207600" y="1720800"/>
            <a:chExt cx="2119320" cy="1276560"/>
          </a:xfrm>
        </p:grpSpPr>
        <p:sp>
          <p:nvSpPr>
            <p:cNvPr id="184" name=""/>
            <p:cNvSpPr/>
            <p:nvPr/>
          </p:nvSpPr>
          <p:spPr>
            <a:xfrm>
              <a:off x="3207600" y="1720800"/>
              <a:ext cx="21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66ff"/>
                  </a:solidFill>
                  <a:latin typeface="Arial"/>
                </a:rPr>
                <a:t>Uniones pept</a:t>
              </a:r>
              <a:r>
                <a:rPr b="0" lang="en-US" sz="1800" spc="-1" strike="noStrike">
                  <a:solidFill>
                    <a:srgbClr val="0066ff"/>
                  </a:solidFill>
                  <a:latin typeface="Arial"/>
                  <a:ea typeface="Arial"/>
                </a:rPr>
                <a:t>í</a:t>
              </a:r>
              <a:r>
                <a:rPr b="0" lang="es-ES_tradnl" sz="1800" spc="-1" strike="noStrike">
                  <a:solidFill>
                    <a:srgbClr val="0066ff"/>
                  </a:solidFill>
                  <a:latin typeface="Arial"/>
                </a:rPr>
                <a:t>d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64000" y="2060640"/>
              <a:ext cx="503280" cy="9367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27640" y="2060640"/>
              <a:ext cx="649080" cy="8636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Arial"/>
              </a:rPr>
              <a:t>AMINOACIDOS</a:t>
            </a:r>
            <a:r>
              <a:rPr b="1" lang="en-US" sz="2800" spc="-1" strike="noStrike" u="sng" baseline="30000">
                <a:solidFill>
                  <a:srgbClr val="0033cc"/>
                </a:solidFill>
                <a:uFillTx/>
                <a:latin typeface="Arial"/>
              </a:rPr>
              <a:t>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487400" y="1125000"/>
            <a:ext cx="45370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minoácidos esenciales en roedores, insectos, peces*, aves* y humanos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250920" y="1052640"/>
            <a:ext cx="403848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minoácidos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no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 esenc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91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92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7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4572000" y="18064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No son sintetizados por el organismo.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Deben ser incorporados con la dieta.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Mantener el crecimiento y el equilibrio nitrogen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910040" y="3141720"/>
            <a:ext cx="37544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Valina</a:t>
            </a: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Fenilalan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Leucina</a:t>
            </a: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Triptof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Isoleucina</a:t>
            </a: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Treon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Lisina</a:t>
            </a: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Histidina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Metionina</a:t>
            </a: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Arginina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3139920"/>
            <a:ext cx="40384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00"/>
                </a:solidFill>
                <a:latin typeface="Arial"/>
              </a:rPr>
              <a:t>Alanina</a:t>
            </a:r>
            <a:r>
              <a:rPr b="1" lang="es-ES_tradnl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9900"/>
                </a:solidFill>
                <a:latin typeface="Arial"/>
              </a:rPr>
              <a:t>Glic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00"/>
                </a:solidFill>
                <a:latin typeface="Arial"/>
              </a:rPr>
              <a:t>Serina</a:t>
            </a:r>
            <a:r>
              <a:rPr b="1" lang="es-ES_tradnl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9900"/>
                </a:solidFill>
                <a:latin typeface="Arial"/>
              </a:rPr>
              <a:t>Tiros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00"/>
                </a:solidFill>
                <a:latin typeface="Arial"/>
              </a:rPr>
              <a:t>Cisteína</a:t>
            </a:r>
            <a:r>
              <a:rPr b="1" lang="es-ES_tradnl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9900"/>
                </a:solidFill>
                <a:latin typeface="Arial"/>
              </a:rPr>
              <a:t>Ac. Aspár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00"/>
                </a:solidFill>
                <a:latin typeface="Arial"/>
              </a:rPr>
              <a:t>Ac. Glutámico  Glutam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00"/>
                </a:solidFill>
                <a:latin typeface="Arial"/>
              </a:rPr>
              <a:t>Asparagina</a:t>
            </a:r>
            <a:r>
              <a:rPr b="1" lang="es-ES_tradnl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9900"/>
                </a:solidFill>
                <a:latin typeface="Arial"/>
              </a:rPr>
              <a:t>    Pro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33080" y="1700280"/>
            <a:ext cx="365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Sintetizados por el organ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5300640"/>
            <a:ext cx="844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# Los 20 AAs pueden ser sintetizados por los veget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* Peces y aves poseen además otros aminoácidos esenci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** En humanos, Histidina es esencial en niños y Arginina es parcialmente esenc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204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205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0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11" name=""/>
          <p:cNvGraphicFramePr/>
          <p:nvPr/>
        </p:nvGraphicFramePr>
        <p:xfrm>
          <a:off x="252360" y="1533600"/>
          <a:ext cx="1676520" cy="1390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2360" y="1533600"/>
                    <a:ext cx="1676520" cy="13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760680" y="2967120"/>
            <a:ext cx="114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99cc"/>
                </a:solidFill>
                <a:latin typeface="Times New Roman"/>
              </a:rPr>
              <a:t>Alan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99cc"/>
                </a:solidFill>
                <a:latin typeface="Times New Roman"/>
              </a:rPr>
              <a:t>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74640" y="762120"/>
            <a:ext cx="804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lgunos aminoácidos que veremos en esta cl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71640" y="2421000"/>
            <a:ext cx="865080" cy="57456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2583000" y="1531800"/>
          <a:ext cx="1622160" cy="1752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1531800"/>
                    <a:ext cx="162216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2943360" y="3327480"/>
            <a:ext cx="136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99cc"/>
                </a:solidFill>
                <a:latin typeface="Times New Roman"/>
              </a:rPr>
              <a:t>Aspart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99cc"/>
                </a:solidFill>
                <a:latin typeface="Times New Roman"/>
              </a:rPr>
              <a:t>A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276720" y="2421000"/>
            <a:ext cx="1008000" cy="93672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4716360" y="1413000"/>
          <a:ext cx="1455840" cy="1965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716360" y="1413000"/>
                    <a:ext cx="1455840" cy="19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5076000" y="3398760"/>
            <a:ext cx="146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99cc"/>
                </a:solidFill>
                <a:latin typeface="Times New Roman"/>
              </a:rPr>
              <a:t>Glutam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99cc"/>
                </a:solidFill>
                <a:latin typeface="Times New Roman"/>
              </a:rPr>
              <a:t>G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364000" y="2205000"/>
            <a:ext cx="863640" cy="129528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6818400" y="1444680"/>
          <a:ext cx="1601640" cy="1913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818400" y="1444680"/>
                    <a:ext cx="1601640" cy="19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/>
          <p:nvPr/>
        </p:nvSpPr>
        <p:spPr>
          <a:xfrm>
            <a:off x="7350840" y="3398760"/>
            <a:ext cx="146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99cc"/>
                </a:solidFill>
                <a:latin typeface="Times New Roman"/>
              </a:rPr>
              <a:t>Glutam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99cc"/>
                </a:solidFill>
                <a:latin typeface="Times New Roman"/>
              </a:rPr>
              <a:t>Gl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380360" y="2205000"/>
            <a:ext cx="1152360" cy="129528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08440" y="4076640"/>
            <a:ext cx="241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AA neutro o alifá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2916360" y="4078440"/>
            <a:ext cx="3600360" cy="1217160"/>
            <a:chOff x="2916360" y="4078440"/>
            <a:chExt cx="3600360" cy="1217160"/>
          </a:xfrm>
        </p:grpSpPr>
        <p:sp>
          <p:nvSpPr>
            <p:cNvPr id="230" name=""/>
            <p:cNvSpPr/>
            <p:nvPr/>
          </p:nvSpPr>
          <p:spPr>
            <a:xfrm>
              <a:off x="3999960" y="4653000"/>
              <a:ext cx="91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33cc"/>
                  </a:solidFill>
                  <a:latin typeface="Arial"/>
                </a:rPr>
                <a:t>AAs á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16200000">
              <a:off x="4537080" y="2457360"/>
              <a:ext cx="358560" cy="3600360"/>
            </a:xfrm>
            <a:custGeom>
              <a:avLst/>
              <a:gdLst>
                <a:gd name="textAreaLeft" fmla="*/ 228960 w 358560"/>
                <a:gd name="textAreaRight" fmla="*/ 358560 w 358560"/>
                <a:gd name="textAreaTop" fmla="*/ 93600 h 3600360"/>
                <a:gd name="textAreaBottom" fmla="*/ 3506760 h 360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7439760" y="429264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AA am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9:11:52Z</dcterms:created>
  <dc:creator>Colossus User</dc:creator>
  <dc:description/>
  <dc:language>en-US</dc:language>
  <cp:lastModifiedBy>Colossus User</cp:lastModifiedBy>
  <dcterms:modified xsi:type="dcterms:W3CDTF">2012-05-28T15:43:54Z</dcterms:modified>
  <cp:revision>116</cp:revision>
  <dc:subject/>
  <dc:title>METABOLISMO DE LIPIDOS</dc:title>
</cp:coreProperties>
</file>